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gif" ContentType="image/gif"/>
  <Override PartName="/ppt/media/image17.png" ContentType="image/png"/>
  <Override PartName="/ppt/media/image32.jpeg" ContentType="image/jpeg"/>
  <Override PartName="/ppt/media/image23.gif" ContentType="image/gif"/>
  <Override PartName="/ppt/media/image16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5.jpeg" ContentType="image/jpeg"/>
  <Override PartName="/ppt/media/image19.jpeg" ContentType="image/jpeg"/>
  <Override PartName="/ppt/media/image11.png" ContentType="image/png"/>
  <Override PartName="/ppt/media/image38.jpeg" ContentType="image/jpeg"/>
  <Override PartName="/ppt/media/image7.jpeg" ContentType="image/jpeg"/>
  <Override PartName="/ppt/media/image34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30.jpeg" ContentType="image/jpeg"/>
  <Override PartName="/ppt/media/image9.gif" ContentType="image/gif"/>
  <Override PartName="/ppt/media/image31.jpeg" ContentType="image/jpeg"/>
  <Override PartName="/ppt/media/image4.jpeg" ContentType="image/jpeg"/>
  <Override PartName="/ppt/media/image33.gif" ContentType="image/gif"/>
  <Override PartName="/ppt/media/image12.png" ContentType="image/png"/>
  <Override PartName="/ppt/media/image25.gif" ContentType="image/gif"/>
  <Override PartName="/ppt/media/image6.jpeg" ContentType="image/jpeg"/>
  <Override PartName="/ppt/media/image5.jpeg" ContentType="image/jpeg"/>
  <Override PartName="/ppt/media/image26.jpeg" ContentType="image/jpeg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27.gif" ContentType="image/gif"/>
  <Override PartName="/ppt/media/image14.jpeg" ContentType="image/jpeg"/>
  <Override PartName="/ppt/media/image2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EDFB-B23C-4A29-8A54-091C639608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1C36-01D8-4CE4-AF8E-1FE6873A851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7640-1A07-40B2-A34E-5CD411897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F275-D356-4408-960B-8FB5B2DC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0284-E603-4D29-A355-A125696E6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B8D9-27C4-42F9-BF10-252AF0D36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1A03-E0D8-4F16-A7EA-0D55D73C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94E3-093D-4A3C-B43D-975738CF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C1FC-1C7F-4503-A957-5CA3BFA0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94C6-A38D-4C1B-B20F-38B5BA972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E29F-3A06-4BA2-B304-DF0576D04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1F2F-9F29-49EA-994E-2FB99DAE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68A8-1885-4A72-9139-9C51A66C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5163-D2DB-4D69-BCFD-566A2D4B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3676-F1F6-4A39-9D9D-A96217735DF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828800" y="1371600"/>
            <a:ext cx="5943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Морское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523880" y="388836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Сложение и вычитание чисел в пределах 20 с переходом через разря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04920" y="231120"/>
            <a:ext cx="8154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99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cc0099"/>
                </a:solidFill>
                <a:latin typeface="Arial"/>
              </a:rPr>
              <a:t>Урок математик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ru-RU" sz="3000" spc="-1" strike="noStrike">
                <a:solidFill>
                  <a:srgbClr val="0033cc"/>
                </a:solidFill>
                <a:latin typeface="Arial"/>
              </a:rPr>
              <a:t>2 клас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914400" y="496116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3600360"/>
                <a:tab algn="l" pos="5915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3600360"/>
                <a:tab algn="l" pos="5915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БОУ ЦО №8 г. Ту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3600360"/>
                <a:tab algn="l" pos="5915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ега Татьяна Александ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WordArt 9"/>
          <p:cNvSpPr txBox="1"/>
          <p:nvPr/>
        </p:nvSpPr>
        <p:spPr>
          <a:xfrm>
            <a:off x="2362320" y="2819520"/>
            <a:ext cx="4724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путешестви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0_467b1_16e6f469_M"/>
          <p:cNvPicPr/>
          <p:nvPr/>
        </p:nvPicPr>
        <p:blipFill>
          <a:blip r:embed="rId1"/>
          <a:stretch/>
        </p:blipFill>
        <p:spPr>
          <a:xfrm>
            <a:off x="3419640" y="1916280"/>
            <a:ext cx="18730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4 -0.3513 C 0.15156 -0.3513 0.27743 -0.19635 0.27743 -0.00532 C 0.27743 0.18524 0.15156 0.34112 -0.00244 0.34112 C -0.1566 0.34112 -0.28178 0.18524 -0.28178 -0.00532 C -0.28178 -0.19635 -0.1566 -0.3513 -0.00244 -0.3513 Z">
                                      <p:cBhvr>
                                        <p:cTn id="123" dur="3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-0.3513 C 0.13819 -0.3513 0.25365 -0.19866 0.25365 -0.01041 C 0.25365 0.17761 0.13819 0.33117 -0.00243 0.33117 C -0.14392 0.33117 -0.25833 0.17761 -0.25833 -0.01041 C -0.25833 -0.19866 -0.14392 -0.3513 -0.00243 -0.3513 Z">
                                      <p:cBhvr>
                                        <p:cTn id="126" dur="5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7" nodeType="afterEffect" fill="hold" presetClass="path" presetID="3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81481E-006 C -0.48524 -0.50856 0.54236 -0.50856 0.04479 -4.81481E-006 C 0.54236 -0.50856 0.54236 0.56875 0.04479 0.04723 C 0.54236 0.56875 -0.48524 0.56875 1.11111E-006 0.04723 C -0.48524 0.56875 -0.48524 -0.50856 1.11111E-006 -4.81481E-006 Z">
                                      <p:cBhvr>
                                        <p:cTn id="138" dur="5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8500"/>
                            </p:stCondLst>
                            <p:childTnLst>
                              <p:par>
                                <p:cTn id="140" nodeType="afterEffect" fill="hold" presetClass="path" presetID="3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07407E-006 C -0.43107 -0.46065 0.48195 -0.46065 0.03993 4.07407E-006 C 0.48195 -0.46065 0.48195 0.51574 0.03993 0.04305 C 0.48195 0.51574 -0.43107 0.51574 -1.66667E-006 0.04305 C -0.43107 0.51574 -0.43107 -0.46065 -1.66667E-006 4.07407E-006 Z">
                                      <p:cBhvr>
                                        <p:cTn id="141" dur="5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0_45baf_6e109bf9_S"/>
          <p:cNvPicPr/>
          <p:nvPr/>
        </p:nvPicPr>
        <p:blipFill>
          <a:blip r:embed="rId1"/>
          <a:stretch/>
        </p:blipFill>
        <p:spPr>
          <a:xfrm>
            <a:off x="7093080" y="4869000"/>
            <a:ext cx="1717560" cy="1574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0_45baf_6e109bf9_S"/>
          <p:cNvPicPr/>
          <p:nvPr/>
        </p:nvPicPr>
        <p:blipFill>
          <a:blip r:embed="rId2"/>
          <a:stretch/>
        </p:blipFill>
        <p:spPr>
          <a:xfrm>
            <a:off x="2050920" y="1125360"/>
            <a:ext cx="54738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55 0.0007 L -0.75556 0.0007 E">
                                      <p:cBhvr>
                                        <p:cTn id="147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5556 0.0007 L -0.76337 -0.68131 E">
                                      <p:cBhvr>
                                        <p:cTn id="150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67068 L -0.77934 -0.67091 E">
                                      <p:cBhvr>
                                        <p:cTn id="153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44958E-006 L 0.00035 -0.67068 E">
                                      <p:cBhvr>
                                        <p:cTn id="156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61702E-006 L -0.01597 -0.70283 E">
                                      <p:cBhvr>
                                        <p:cTn id="159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67068 L -0.77153 -0.68108 E">
                                      <p:cBhvr>
                                        <p:cTn id="162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6337 -0.68132 L -0.76337 0.00046 E">
                                      <p:cBhvr>
                                        <p:cTn id="165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5556 0.00068 L 0.01632 0.00068 E">
                                      <p:cBhvr>
                                        <p:cTn id="168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9500"/>
                            </p:stCondLst>
                            <p:childTnLst>
                              <p:par>
                                <p:cTn id="1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45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07" name="Picture 3" descr="0_45ba8_2f8cfae8_XS"/>
          <p:cNvPicPr/>
          <p:nvPr/>
        </p:nvPicPr>
        <p:blipFill>
          <a:blip r:embed="rId1"/>
          <a:stretch/>
        </p:blipFill>
        <p:spPr>
          <a:xfrm>
            <a:off x="3419640" y="1268280"/>
            <a:ext cx="2089080" cy="3600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0_467af_292cc175_XS"/>
          <p:cNvPicPr/>
          <p:nvPr/>
        </p:nvPicPr>
        <p:blipFill>
          <a:blip r:embed="rId2"/>
          <a:stretch/>
        </p:blipFill>
        <p:spPr>
          <a:xfrm>
            <a:off x="6012000" y="2781360"/>
            <a:ext cx="2952720" cy="1523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0_467af_292cc175_XS"/>
          <p:cNvPicPr/>
          <p:nvPr/>
        </p:nvPicPr>
        <p:blipFill>
          <a:blip r:embed="rId3"/>
          <a:stretch/>
        </p:blipFill>
        <p:spPr>
          <a:xfrm>
            <a:off x="6804000" y="5516640"/>
            <a:ext cx="2089080" cy="1182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0_467af_292cc175_XS"/>
          <p:cNvPicPr/>
          <p:nvPr/>
        </p:nvPicPr>
        <p:blipFill>
          <a:blip r:embed="rId4"/>
          <a:stretch/>
        </p:blipFill>
        <p:spPr>
          <a:xfrm>
            <a:off x="539640" y="5445000"/>
            <a:ext cx="2089440" cy="1182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0_467af_292cc175_XS"/>
          <p:cNvPicPr/>
          <p:nvPr/>
        </p:nvPicPr>
        <p:blipFill>
          <a:blip r:embed="rId5"/>
          <a:stretch/>
        </p:blipFill>
        <p:spPr>
          <a:xfrm>
            <a:off x="6804000" y="5675400"/>
            <a:ext cx="2089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0.18871 C -0.16666 -0.17276 -0.2901 -0.13252 -0.2901 -0.10037 C -0.2901 -0.071 -0.16927 -0.04926 -0.00746 -0.04926 C 0.15365 -0.04926 0.29011 -0.071 0.29011 -0.10037 C 0.29011 -0.13252 0.14862 -0.14061 -0.01284 -0.1191 C -0.17187 -0.09482 -0.2901 -0.05458 -0.2901 -0.02544 C -0.2901 0.00439 -0.16666 0.02868 -0.00746 0.02868 C 0.15365 0.02868 0.29011 0.00439 0.29011 -0.02544 C 0.29011 -0.05458 0.14862 -0.06267 -0.01024 -0.04117 C -0.17187 -0.01966 -0.2901 0.02035 -0.2901 0.05018 C -0.2901 0.08233 -0.16666 0.10638 -0.00538 0.10638 C 0.15365 0.10638 0.29011 0.08233 0.29011 0.05018 C 0.29011 0.02313 0.14862 0.01503 -0.01024 0.03376 C -0.16927 0.05527 -0.2901 0.09806 -0.2901 0.12812 C -0.2901 0.15726 -0.16388 0.18178 -0.00538 0.18178 C 0.15903 0.18178 0.29011 0.15726 0.29011 0.12812 C 0.29011 0.09806 0.15139 0.09043 -0.00746 0.1117 C -0.16666 0.13321 -0.2901 0.17368 -0.2901 0.20305 C -0.2901 0.2352 -0.16388 0.25671 -0.00277 0.25671 C 0.15903 0.25671 0.29011 0.23265 0.29011 0.20305 C 0.29011 0.17368 0.15139 0.16536 -0.00746 0.18686 C -0.16666 0.20814 -0.2901 0.25162 -0.2901 0.27821 C -0.2901 0.30782 -0.1618 0.33164 -0.00277 0.33164 C 0.15903 0.33164 0.29011 0.30782 0.29011 0.27821 C 0.29011 0.25162 0.15365 0.24329 -0.00746 0.26226 C -0.16666 0.28376 -0.2901 0.32655 -0.2901 0.35615 C -0.2901 0.38321 -0.1618 0.40957 -4.44444E-006 0.40957 C 0.16129 0.40957 0.29011 0.38575 0.29011 0.35615 C 0.29011 0.32655 0.15365 0.31869 -0.00538 0.33996 C -0.16388 0.36147 -0.29253 0.40171 -0.2901 0.43178 C -0.28802 0.46092 -0.1618 0.48265 -4.44444E-006 0.48265 C 0.16129 0.48265 0.29011 0.45814 0.29011 0.42877 C 0.29011 0.40171 0.15903 0.39385 -4.44444E-006 0.4179 E">
                                      <p:cBhvr>
                                        <p:cTn id="205" dur="5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7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" dur="5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1" nodeType="after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13785 -0.02706 L -0.64965 -0.02706 E">
                                      <p:cBhvr>
                                        <p:cTn id="222" dur="5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1000"/>
                            </p:stCondLst>
                            <p:childTnLst>
                              <p:par>
                                <p:cTn id="224" nodeType="afterEffect" fill="hold" presetClass="exit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5" dur="1155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1155" fill="hold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27" dur="1845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28" dur="1845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29" dur="1155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30" dur="1845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31" dur="1155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4000"/>
                            </p:stCondLst>
                            <p:childTnLst>
                              <p:par>
                                <p:cTn id="2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0"/>
                            </p:stCondLst>
                            <p:childTnLst>
                              <p:par>
                                <p:cTn id="241" nodeType="after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13785 -0.02706 L -0.64965 -0.02706 E">
                                      <p:cBhvr>
                                        <p:cTn id="242" dur="5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0"/>
                            </p:stCondLst>
                            <p:childTnLst>
                              <p:par>
                                <p:cTn id="244" nodeType="afterEffect" fill="hold" presetClass="exit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5" dur="1155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1155" fill="hold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47" dur="1845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48" dur="1845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49" dur="1155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50" dur="1845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51" dur="1155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3000"/>
                            </p:stCondLst>
                            <p:childTnLst>
                              <p:par>
                                <p:cTn id="254" nodeType="after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8000"/>
                            </p:stCondLst>
                            <p:childTnLst>
                              <p:par>
                                <p:cTn id="2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9000"/>
                            </p:stCondLst>
                            <p:childTnLst>
                              <p:par>
                                <p:cTn id="266" nodeType="after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13785 -0.02706 L -0.64965 -0.02706 E">
                                      <p:cBhvr>
                                        <p:cTn id="267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4000"/>
                            </p:stCondLst>
                            <p:childTnLst>
                              <p:par>
                                <p:cTn id="269" nodeType="after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7000"/>
                            </p:stCondLst>
                            <p:childTnLst>
                              <p:par>
                                <p:cTn id="2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8000"/>
                            </p:stCondLst>
                            <p:childTnLst>
                              <p:par>
                                <p:cTn id="281" nodeType="after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13785 -0.02706 L -0.64965 -0.02706 E">
                                      <p:cBhvr>
                                        <p:cTn id="282" dur="5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63000"/>
                            </p:stCondLst>
                            <p:childTnLst>
                              <p:par>
                                <p:cTn id="284" nodeType="afterEffect" fill="hold" presetClass="exit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5" dur="1155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6" dur="1155" fill="hold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87" dur="1845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88" dur="1845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89" dur="1155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90" dur="1845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91" dur="1155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6000"/>
                            </p:stCondLst>
                            <p:childTnLst>
                              <p:par>
                                <p:cTn id="294" nodeType="after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038480" y="457200"/>
            <a:ext cx="46483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1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1a1a"/>
                </a:solidFill>
                <a:latin typeface="Arial"/>
              </a:rPr>
              <a:t>Корабли сопровожда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1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1a1a"/>
                </a:solidFill>
                <a:latin typeface="Arial"/>
              </a:rPr>
              <a:t>Над водой мелькают спин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1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1a1a"/>
                </a:solidFill>
                <a:latin typeface="Arial"/>
              </a:rPr>
              <a:t>Это в путь их провожаю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1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1a1a"/>
                </a:solidFill>
                <a:latin typeface="Arial"/>
              </a:rPr>
              <a:t>Добрые друзья -</a:t>
            </a:r>
            <a:br>
              <a:rPr sz="2800"/>
            </a:br>
            <a:r>
              <a:rPr b="1" lang="ru-RU" sz="2800" spc="-1" strike="noStrike">
                <a:solidFill>
                  <a:srgbClr val="ff1a1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" descr="C:\Documents and Settings\Admin\Рабочий стол\Море\дельфині.jpg"/>
          <p:cNvPicPr/>
          <p:nvPr/>
        </p:nvPicPr>
        <p:blipFill>
          <a:blip r:embed="rId1"/>
          <a:stretch/>
        </p:blipFill>
        <p:spPr>
          <a:xfrm>
            <a:off x="304920" y="304920"/>
            <a:ext cx="3429000" cy="2495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Documents and Settings\Admin\Рабочий стол\Море\Дельфині.gif"/>
          <p:cNvPicPr/>
          <p:nvPr/>
        </p:nvPicPr>
        <p:blipFill>
          <a:blip r:embed="rId2"/>
          <a:stretch/>
        </p:blipFill>
        <p:spPr>
          <a:xfrm>
            <a:off x="304920" y="2819520"/>
            <a:ext cx="3504960" cy="3809880"/>
          </a:xfrm>
          <a:prstGeom prst="rect">
            <a:avLst/>
          </a:prstGeom>
          <a:ln w="0">
            <a:noFill/>
          </a:ln>
        </p:spPr>
      </p:pic>
      <p:sp>
        <p:nvSpPr>
          <p:cNvPr id="116" name="WordArt 7"/>
          <p:cNvSpPr txBox="1"/>
          <p:nvPr/>
        </p:nvSpPr>
        <p:spPr>
          <a:xfrm>
            <a:off x="4114800" y="4419720"/>
            <a:ext cx="4648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03812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uk-UA" sz="2800" spc="-1" strike="noStrike">
                <a:solidFill>
                  <a:srgbClr val="c00000"/>
                </a:solidFill>
                <a:latin typeface="Arial"/>
              </a:rPr>
              <a:t>Это самые умные морские животные. Они очень дружелюбные, игривые и смышленые. Дельфины выступают в морских цирках, а в специальных лабораториях ученые пытаются общаться с ни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2" descr="C:\Documents and Settings\Admin\Рабочий стол\Море\delfin2.gif"/>
          <p:cNvPicPr/>
          <p:nvPr/>
        </p:nvPicPr>
        <p:blipFill>
          <a:blip r:embed="rId1"/>
          <a:stretch/>
        </p:blipFill>
        <p:spPr>
          <a:xfrm>
            <a:off x="457200" y="1676520"/>
            <a:ext cx="3809880" cy="48006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6"/>
          <p:cNvSpPr txBox="1"/>
          <p:nvPr/>
        </p:nvSpPr>
        <p:spPr>
          <a:xfrm>
            <a:off x="2514600" y="533520"/>
            <a:ext cx="6248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Дельфин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21" name="Содержимое 4" descr="http://imagenesfotos.com/wp-content/2010/12/nemo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2600"/>
                </a:solidFill>
                <a:latin typeface="Arial"/>
              </a:rPr>
              <a:t>Акулу не зря называют грозой морей. Зубы у акул в 6 рядов и острые, как пила! </a:t>
            </a:r>
            <a:r>
              <a:rPr b="1" i="1" lang="ru-RU" sz="2800" spc="-1" strike="noStrike">
                <a:solidFill>
                  <a:srgbClr val="992600"/>
                </a:solidFill>
                <a:latin typeface="Arial"/>
              </a:rPr>
              <a:t>Удивительно, но эти рыбы всю свою жизнь находятся в движении, даже на минутку не могут остановиться, чтобы отдохнуть, ведь только двигаясь, акула может дышать.</a:t>
            </a:r>
            <a:r>
              <a:rPr b="1" i="1" lang="uk-UA" sz="2800" spc="-1" strike="noStrike">
                <a:solidFill>
                  <a:srgbClr val="992600"/>
                </a:solidFill>
                <a:latin typeface="Arial"/>
              </a:rPr>
              <a:t>Очень опасны белая, голубая, тигровая акулы, акула-молот. Самая большая из акул – китовая, длина которой 20 м, человека не трогает, так как самая вкусн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2600"/>
                </a:solidFill>
                <a:latin typeface="Arial"/>
              </a:rPr>
              <a:t>для неё еда– маленькие рачк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2600"/>
                </a:solidFill>
                <a:latin typeface="Arial"/>
              </a:rPr>
              <a:t>молюски, которые живут 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2600"/>
                </a:solidFill>
                <a:latin typeface="Arial"/>
              </a:rPr>
              <a:t>морской вод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WordArt 4"/>
          <p:cNvSpPr txBox="1"/>
          <p:nvPr/>
        </p:nvSpPr>
        <p:spPr>
          <a:xfrm>
            <a:off x="1828800" y="380880"/>
            <a:ext cx="5105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АКУЛ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25" name="Picture 5" descr="страх"/>
          <p:cNvPicPr/>
          <p:nvPr/>
        </p:nvPicPr>
        <p:blipFill>
          <a:blip r:embed="rId1"/>
          <a:stretch/>
        </p:blipFill>
        <p:spPr>
          <a:xfrm>
            <a:off x="6477120" y="4952880"/>
            <a:ext cx="2361960" cy="1575000"/>
          </a:xfrm>
          <a:prstGeom prst="rect">
            <a:avLst/>
          </a:prstGeom>
          <a:ln w="7632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3160"/>
                            </p:stCondLst>
                            <p:childTnLst>
                              <p:par>
                                <p:cTn id="3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420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80"/>
                            </p:stCondLst>
                            <p:childTnLst>
                              <p:par>
                                <p:cTn id="3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00"/>
                </a:solidFill>
                <a:latin typeface="Arial"/>
              </a:rPr>
              <a:t>                         </a:t>
            </a:r>
            <a:r>
              <a:rPr b="1" lang="uk-UA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990000"/>
                </a:solidFill>
                <a:latin typeface="Arial"/>
              </a:rPr>
              <a:t>Провер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00"/>
                </a:solidFill>
                <a:latin typeface="Arial"/>
              </a:rPr>
              <a:t>І вариа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00"/>
                </a:solidFill>
                <a:latin typeface="Arial"/>
              </a:rPr>
              <a:t>12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00"/>
                </a:solidFill>
                <a:latin typeface="Arial"/>
              </a:rPr>
              <a:t>ІІ вариа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380880" y="457200"/>
            <a:ext cx="7963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Самостоятельная работ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29" name="Picture 7" descr="Рібка с акулой"/>
          <p:cNvPicPr/>
          <p:nvPr/>
        </p:nvPicPr>
        <p:blipFill>
          <a:blip r:embed="rId1"/>
          <a:stretch/>
        </p:blipFill>
        <p:spPr>
          <a:xfrm>
            <a:off x="3733920" y="1828800"/>
            <a:ext cx="3695760" cy="35845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130" name="Picture 8" descr="Акула"/>
          <p:cNvPicPr/>
          <p:nvPr/>
        </p:nvPicPr>
        <p:blipFill>
          <a:blip r:embed="rId2"/>
          <a:stretch/>
        </p:blipFill>
        <p:spPr>
          <a:xfrm>
            <a:off x="5181480" y="3124080"/>
            <a:ext cx="3733920" cy="35355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542 -0.07245 L 0.14791 0.19421 E">
                                      <p:cBhvr>
                                        <p:cTn id="354" dur="5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791 0.19421 L -0.10209 0.19421 E">
                                      <p:cBhvr>
                                        <p:cTn id="357" dur="3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8000"/>
                            </p:stCondLst>
                            <p:childTnLst>
                              <p:par>
                                <p:cTn id="359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208 0.19421 C -0.10208 0.24097 -0.0724 0.27685 -0.03611 0.27685 C 0.00139 0.27685 0.03125 0.24097 0.03125 0.19421 C 0.03125 0.14745 0.06094 0.11157 0.09844 0.11157 C 0.13472 0.11157 0.16458 0.14745 0.16458 0.19421 E">
                                      <p:cBhvr>
                                        <p:cTn id="360" dur="3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0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Documents and Settings\Admin\Рабочий стол\Море\cherepaha_1.gif"/>
          <p:cNvPicPr/>
          <p:nvPr/>
        </p:nvPicPr>
        <p:blipFill>
          <a:blip r:embed="rId1"/>
          <a:stretch/>
        </p:blipFill>
        <p:spPr>
          <a:xfrm>
            <a:off x="6172200" y="4633920"/>
            <a:ext cx="2743200" cy="2224080"/>
          </a:xfrm>
          <a:prstGeom prst="rect">
            <a:avLst/>
          </a:prstGeom>
          <a:ln w="0">
            <a:noFill/>
          </a:ln>
        </p:spPr>
      </p:pic>
      <p:sp>
        <p:nvSpPr>
          <p:cNvPr id="132" name="WordArt 5"/>
          <p:cNvSpPr txBox="1"/>
          <p:nvPr/>
        </p:nvSpPr>
        <p:spPr>
          <a:xfrm>
            <a:off x="6400800" y="3124080"/>
            <a:ext cx="164772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3 + 4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WordArt 6"/>
          <p:cNvSpPr txBox="1"/>
          <p:nvPr/>
        </p:nvSpPr>
        <p:spPr>
          <a:xfrm>
            <a:off x="6934320" y="137160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2 + 9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34" name="WordArt 7"/>
          <p:cNvSpPr txBox="1"/>
          <p:nvPr/>
        </p:nvSpPr>
        <p:spPr>
          <a:xfrm>
            <a:off x="4419720" y="762120"/>
            <a:ext cx="1981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1 + 9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WordArt 8"/>
          <p:cNvSpPr txBox="1"/>
          <p:nvPr/>
        </p:nvSpPr>
        <p:spPr>
          <a:xfrm>
            <a:off x="3809880" y="5029200"/>
            <a:ext cx="1600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14 + 6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36" name="WordArt 9"/>
          <p:cNvSpPr txBox="1"/>
          <p:nvPr/>
        </p:nvSpPr>
        <p:spPr>
          <a:xfrm>
            <a:off x="685800" y="3505320"/>
            <a:ext cx="1676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8 + 8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WordArt 10"/>
          <p:cNvSpPr txBox="1"/>
          <p:nvPr/>
        </p:nvSpPr>
        <p:spPr>
          <a:xfrm>
            <a:off x="3581280" y="3352680"/>
            <a:ext cx="1285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6 + 6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</p:txBody>
      </p:sp>
      <p:pic>
        <p:nvPicPr>
          <p:cNvPr id="138" name="Picture 11" descr="Домик"/>
          <p:cNvPicPr/>
          <p:nvPr/>
        </p:nvPicPr>
        <p:blipFill>
          <a:blip r:embed="rId2"/>
          <a:stretch/>
        </p:blipFill>
        <p:spPr>
          <a:xfrm>
            <a:off x="228600" y="228600"/>
            <a:ext cx="2819520" cy="2286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Рібка клоун 2"/>
          <p:cNvPicPr/>
          <p:nvPr/>
        </p:nvPicPr>
        <p:blipFill>
          <a:blip r:embed="rId3"/>
          <a:stretch/>
        </p:blipFill>
        <p:spPr>
          <a:xfrm>
            <a:off x="152280" y="5105520"/>
            <a:ext cx="1600200" cy="15811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09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 -1.48148E-006 L -0.05833 -0.31551 E">
                                      <p:cBhvr>
                                        <p:cTn id="417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833 -0.31551 L 0 -0.57106 E">
                                      <p:cBhvr>
                                        <p:cTn id="425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57106 L -0.23333 -0.67106 E">
                                      <p:cBhvr>
                                        <p:cTn id="4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333 -0.67106 L -0.35 -0.31551 E">
                                      <p:cBhvr>
                                        <p:cTn id="441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 -0.31551 L -0.66667 -0.28217 E">
                                      <p:cBhvr>
                                        <p:cTn id="449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500"/>
                            </p:stCondLst>
                            <p:childTnLst>
                              <p:par>
                                <p:cTn id="45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6666 -0.28217 L -0.66666 -0.61551 E">
                                      <p:cBhvr>
                                        <p:cTn id="452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4500"/>
                            </p:stCondLst>
                            <p:childTnLst>
                              <p:par>
                                <p:cTn id="454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iВсе рібки"/>
          <p:cNvPicPr/>
          <p:nvPr/>
        </p:nvPicPr>
        <p:blipFill>
          <a:blip r:embed="rId1"/>
          <a:stretch/>
        </p:blipFill>
        <p:spPr>
          <a:xfrm>
            <a:off x="533520" y="1600200"/>
            <a:ext cx="7848360" cy="5029200"/>
          </a:xfrm>
          <a:prstGeom prst="rect">
            <a:avLst/>
          </a:prstGeom>
          <a:ln w="76320">
            <a:solidFill>
              <a:srgbClr val="0033cc"/>
            </a:solidFill>
            <a:miter/>
          </a:ln>
        </p:spPr>
      </p:pic>
      <p:pic>
        <p:nvPicPr>
          <p:cNvPr id="141" name="Picture 7" descr="iРібка с папой"/>
          <p:cNvPicPr/>
          <p:nvPr/>
        </p:nvPicPr>
        <p:blipFill>
          <a:blip r:embed="rId2"/>
          <a:stretch/>
        </p:blipFill>
        <p:spPr>
          <a:xfrm>
            <a:off x="3809880" y="3200400"/>
            <a:ext cx="4267440" cy="28954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142" name="WordArt 8"/>
          <p:cNvSpPr txBox="1"/>
          <p:nvPr/>
        </p:nvSpPr>
        <p:spPr>
          <a:xfrm>
            <a:off x="304920" y="228600"/>
            <a:ext cx="830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entury Gothic"/>
              </a:rPr>
              <a:t>Необходимо  быть  очень внимательными  в людных местах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entury Gothic"/>
              </a:rPr>
              <a:t>и не терять из вида своих родных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4" descr="Подводній мир7"/>
          <p:cNvPicPr/>
          <p:nvPr/>
        </p:nvPicPr>
        <p:blipFill>
          <a:blip r:embed="rId1"/>
          <a:stretch/>
        </p:blipFill>
        <p:spPr>
          <a:xfrm>
            <a:off x="457200" y="457200"/>
            <a:ext cx="8170920" cy="6172200"/>
          </a:xfrm>
          <a:prstGeom prst="rect">
            <a:avLst/>
          </a:prstGeom>
          <a:ln w="7632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С. 50 № 1 (п, ф), с. 51 №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" descr="C:\Documents and Settings\Admin\Рабочий стол\Море\Ріба.jpg"/>
          <p:cNvPicPr/>
          <p:nvPr/>
        </p:nvPicPr>
        <p:blipFill>
          <a:blip r:embed="rId1"/>
          <a:srcRect l="-1714" t="0" r="0" b="9093"/>
          <a:stretch/>
        </p:blipFill>
        <p:spPr>
          <a:xfrm>
            <a:off x="2514600" y="0"/>
            <a:ext cx="436248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C:\Documents and Settings\Admin\Рабочий стол\Море\Море 1.jpg"/>
          <p:cNvPicPr/>
          <p:nvPr/>
        </p:nvPicPr>
        <p:blipFill>
          <a:blip r:embed="rId1"/>
          <a:stretch/>
        </p:blipFill>
        <p:spPr>
          <a:xfrm>
            <a:off x="4114800" y="297180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C:\Documents and Settings\Admin\Рабочий стол\Море\Рібки 2.PNG"/>
          <p:cNvPicPr/>
          <p:nvPr/>
        </p:nvPicPr>
        <p:blipFill>
          <a:blip r:embed="rId2"/>
          <a:stretch/>
        </p:blipFill>
        <p:spPr>
          <a:xfrm>
            <a:off x="304920" y="457200"/>
            <a:ext cx="4064040" cy="6095880"/>
          </a:xfrm>
          <a:prstGeom prst="rect">
            <a:avLst/>
          </a:prstGeom>
          <a:ln w="0">
            <a:noFill/>
          </a:ln>
        </p:spPr>
      </p:pic>
      <p:sp>
        <p:nvSpPr>
          <p:cNvPr id="60" name="WordArt 5"/>
          <p:cNvSpPr txBox="1"/>
          <p:nvPr/>
        </p:nvSpPr>
        <p:spPr>
          <a:xfrm>
            <a:off x="4648320" y="762120"/>
            <a:ext cx="42670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Грустная рыбка Немо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просит помощи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C:\Documents and Settings\Admin\Рабочий стол\Море\Моржи.jpg"/>
          <p:cNvPicPr/>
          <p:nvPr/>
        </p:nvPicPr>
        <p:blipFill>
          <a:blip r:embed="rId1"/>
          <a:stretch/>
        </p:blipFill>
        <p:spPr>
          <a:xfrm>
            <a:off x="533520" y="4038480"/>
            <a:ext cx="3066840" cy="2190960"/>
          </a:xfrm>
          <a:prstGeom prst="rect">
            <a:avLst/>
          </a:prstGeom>
          <a:ln w="76320">
            <a:solidFill>
              <a:srgbClr val="0033cc"/>
            </a:solidFill>
            <a:miter/>
          </a:ln>
        </p:spPr>
      </p:pic>
      <p:pic>
        <p:nvPicPr>
          <p:cNvPr id="62" name="Picture 6" descr="C:\Documents and Settings\Admin\Рабочий стол\Море\Моржик.jpg"/>
          <p:cNvPicPr/>
          <p:nvPr/>
        </p:nvPicPr>
        <p:blipFill>
          <a:blip r:embed="rId2"/>
          <a:stretch/>
        </p:blipFill>
        <p:spPr>
          <a:xfrm>
            <a:off x="5638680" y="304920"/>
            <a:ext cx="2971800" cy="2228760"/>
          </a:xfrm>
          <a:prstGeom prst="rect">
            <a:avLst/>
          </a:prstGeom>
          <a:ln w="76320">
            <a:solidFill>
              <a:srgbClr val="0033cc"/>
            </a:solidFill>
            <a:miter/>
          </a:ln>
        </p:spPr>
      </p:pic>
      <p:sp>
        <p:nvSpPr>
          <p:cNvPr id="63" name="Rectangle 11"/>
          <p:cNvSpPr/>
          <p:nvPr/>
        </p:nvSpPr>
        <p:spPr>
          <a:xfrm>
            <a:off x="457200" y="259092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omic Sans MS"/>
              </a:rPr>
              <a:t>Морж – крупное животное, похож на большого тюленя. Длина моржа около 3 метров, у него длинные бивни и у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7" descr="C:\Documents and Settings\Admin\Рабочий стол\Море\Ное 2.jpg"/>
          <p:cNvPicPr/>
          <p:nvPr/>
        </p:nvPicPr>
        <p:blipFill>
          <a:blip r:embed="rId3"/>
          <a:stretch/>
        </p:blipFill>
        <p:spPr>
          <a:xfrm>
            <a:off x="5486400" y="4495680"/>
            <a:ext cx="3429000" cy="211464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65" name="WordArt 8"/>
          <p:cNvSpPr txBox="1"/>
          <p:nvPr/>
        </p:nvSpPr>
        <p:spPr>
          <a:xfrm>
            <a:off x="228600" y="762120"/>
            <a:ext cx="4952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Морж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560"/>
                            </p:stCondLst>
                            <p:childTnLst>
                              <p:par>
                                <p:cTn id="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9" descr="http://heliograph.ru/images/895185_osminog-risunok.jpg"/>
          <p:cNvPicPr/>
          <p:nvPr/>
        </p:nvPicPr>
        <p:blipFill>
          <a:blip r:embed="rId1"/>
          <a:stretch/>
        </p:blipFill>
        <p:spPr>
          <a:xfrm>
            <a:off x="990720" y="4753080"/>
            <a:ext cx="2797200" cy="21049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04960" y="2666520"/>
            <a:ext cx="152388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uk-UA" sz="2800" spc="-1" strike="noStrike">
                <a:solidFill>
                  <a:srgbClr val="600000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600000"/>
                </a:solidFill>
                <a:latin typeface="Arial"/>
              </a:rPr>
              <a:t>18 - 7 </a:t>
            </a:r>
            <a:br>
              <a:rPr sz="2800"/>
            </a:b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8" name="Picture 3" descr="C:\Documents and Settings\Admin\Рабочий стол\Природознавство\0_45baf_6e109bf9_S.gif"/>
          <p:cNvPicPr/>
          <p:nvPr/>
        </p:nvPicPr>
        <p:blipFill>
          <a:blip r:embed="rId2"/>
          <a:stretch/>
        </p:blipFill>
        <p:spPr>
          <a:xfrm>
            <a:off x="228600" y="380880"/>
            <a:ext cx="2743200" cy="2819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Documents and Settings\Admin\Рабочий стол\Природознавство\0_45baf_6e109bf9_S.gif"/>
          <p:cNvPicPr/>
          <p:nvPr/>
        </p:nvPicPr>
        <p:blipFill>
          <a:blip r:embed="rId3"/>
          <a:stretch/>
        </p:blipFill>
        <p:spPr>
          <a:xfrm>
            <a:off x="6095880" y="304920"/>
            <a:ext cx="2743200" cy="281916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8" descr=""/>
          <p:cNvPicPr/>
          <p:nvPr/>
        </p:nvPicPr>
        <p:blipFill>
          <a:blip r:embed="rId4"/>
          <a:stretch/>
        </p:blipFill>
        <p:spPr>
          <a:xfrm>
            <a:off x="853920" y="774720"/>
            <a:ext cx="1657440" cy="114624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9" descr=""/>
          <p:cNvPicPr/>
          <p:nvPr/>
        </p:nvPicPr>
        <p:blipFill>
          <a:blip r:embed="rId5"/>
          <a:stretch/>
        </p:blipFill>
        <p:spPr>
          <a:xfrm>
            <a:off x="7120080" y="622440"/>
            <a:ext cx="1695240" cy="1145880"/>
          </a:xfrm>
          <a:prstGeom prst="rect">
            <a:avLst/>
          </a:prstGeom>
          <a:ln w="0">
            <a:noFill/>
          </a:ln>
        </p:spPr>
      </p:pic>
      <p:pic>
        <p:nvPicPr>
          <p:cNvPr id="72" name="WordArt 9" descr=""/>
          <p:cNvPicPr/>
          <p:nvPr/>
        </p:nvPicPr>
        <p:blipFill>
          <a:blip r:embed="rId6"/>
          <a:stretch/>
        </p:blipFill>
        <p:spPr>
          <a:xfrm>
            <a:off x="2852640" y="347760"/>
            <a:ext cx="3402000" cy="1566720"/>
          </a:xfrm>
          <a:prstGeom prst="rect">
            <a:avLst/>
          </a:prstGeom>
          <a:ln w="0">
            <a:noFill/>
          </a:ln>
        </p:spPr>
      </p:pic>
      <p:sp>
        <p:nvSpPr>
          <p:cNvPr id="73" name="Заголовок 1"/>
          <p:cNvSpPr/>
          <p:nvPr/>
        </p:nvSpPr>
        <p:spPr>
          <a:xfrm>
            <a:off x="3124080" y="42670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uk-UA" sz="2800" spc="-1" strike="noStrike">
                <a:solidFill>
                  <a:srgbClr val="600000"/>
                </a:solidFill>
                <a:latin typeface="Arial"/>
              </a:rPr>
              <a:t>        </a:t>
            </a:r>
            <a:r>
              <a:rPr b="1" lang="uk-UA" sz="2800" spc="-1" strike="noStrike">
                <a:solidFill>
                  <a:srgbClr val="600000"/>
                </a:solidFill>
                <a:latin typeface="Arial"/>
              </a:rPr>
              <a:t>14 - 3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Заголовок 1"/>
          <p:cNvSpPr/>
          <p:nvPr/>
        </p:nvSpPr>
        <p:spPr>
          <a:xfrm>
            <a:off x="3657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uk-UA" sz="2400" spc="-1" strike="noStrike">
                <a:solidFill>
                  <a:srgbClr val="600000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600000"/>
                </a:solidFill>
                <a:latin typeface="Arial"/>
              </a:rPr>
              <a:t>6 + 5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3733920" y="6172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600000"/>
                </a:solidFill>
                <a:latin typeface="Arial"/>
              </a:rPr>
              <a:t>20 -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3581280" y="32004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uk-UA" sz="2800" spc="-1" strike="noStrike">
                <a:solidFill>
                  <a:srgbClr val="600000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600000"/>
                </a:solidFill>
                <a:latin typeface="Arial"/>
              </a:rPr>
              <a:t>8 + 5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Заголовок 1"/>
          <p:cNvSpPr/>
          <p:nvPr/>
        </p:nvSpPr>
        <p:spPr>
          <a:xfrm>
            <a:off x="3581280" y="472428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00000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600000"/>
                </a:solidFill>
                <a:latin typeface="Arial"/>
              </a:rPr>
              <a:t>12 + 1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3886200" y="5334120"/>
            <a:ext cx="1295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uk-UA" sz="2400" spc="-1" strike="noStrike">
                <a:solidFill>
                  <a:srgbClr val="6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600000"/>
                </a:solidFill>
                <a:latin typeface="Arial"/>
              </a:rPr>
              <a:t>7 + 4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Заголовок 1"/>
          <p:cNvSpPr/>
          <p:nvPr/>
        </p:nvSpPr>
        <p:spPr>
          <a:xfrm>
            <a:off x="3733920" y="5791320"/>
            <a:ext cx="1295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uk-UA" sz="2400" spc="-1" strike="noStrike">
                <a:solidFill>
                  <a:srgbClr val="6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600000"/>
                </a:solidFill>
                <a:latin typeface="Arial"/>
              </a:rPr>
              <a:t>10 + 3</a:t>
            </a:r>
            <a:br>
              <a:rPr sz="2800"/>
            </a:br>
            <a:r>
              <a:rPr b="1" lang="uk-UA" sz="2800" spc="-1" strike="noStrike">
                <a:solidFill>
                  <a:srgbClr val="6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15" descr="C:\Documents and Settings\Admin\Рабочий стол\Море\клоун.jpg"/>
          <p:cNvPicPr/>
          <p:nvPr/>
        </p:nvPicPr>
        <p:blipFill>
          <a:blip r:embed="rId7"/>
          <a:stretch/>
        </p:blipFill>
        <p:spPr>
          <a:xfrm>
            <a:off x="6858000" y="5429160"/>
            <a:ext cx="2286000" cy="14288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-0.34167 0.08889 E">
                                      <p:cBhvr>
                                        <p:cTn id="29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5 0 L 0.3125 0 E">
                                      <p:cBhvr>
                                        <p:cTn id="33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-0.35417 0.02778 E">
                                      <p:cBhvr>
                                        <p:cTn id="37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022E-016 L -0.34167 0.03889 E">
                                      <p:cBhvr>
                                        <p:cTn id="41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0.31667 -0.13333 E">
                                      <p:cBhvr>
                                        <p:cTn id="45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34583 -0.02778 E">
                                      <p:cBhvr>
                                        <p:cTn id="49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0.32917 -0.19444 E">
                                      <p:cBhvr>
                                        <p:cTn id="53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32084 -0.17777 E">
                                      <p:cBhvr>
                                        <p:cTn id="57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Documents and Settings\Admin\Рабочий стол\Море\Чудо юдо.jpg"/>
          <p:cNvPicPr/>
          <p:nvPr/>
        </p:nvPicPr>
        <p:blipFill>
          <a:blip r:embed="rId1"/>
          <a:stretch/>
        </p:blipFill>
        <p:spPr>
          <a:xfrm>
            <a:off x="1600200" y="228600"/>
            <a:ext cx="5533920" cy="409572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5181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00000"/>
                </a:solidFill>
                <a:latin typeface="Arial"/>
              </a:rPr>
              <a:t>Кит- самое большое животное в мире. В сказках говорят: ”Чудо- юдо  рыба- кит”. Но кит  - это не рыба. Он дышит воздухом, а своих малышей, он, как и люди, выкармливает молоком. Любимая еда китов – мелкие антарктические рачки. Синий кит –</a:t>
            </a:r>
            <a:r>
              <a:rPr b="1" lang="ru-RU" sz="2000" spc="-1" strike="noStrike">
                <a:solidFill>
                  <a:srgbClr val="600000"/>
                </a:solidFill>
                <a:latin typeface="Arial"/>
              </a:rPr>
              <a:t>крупнейшее из всех животных, когда-либо обитавших на Земле. Его длина достигает 33 метров, а масса</a:t>
            </a:r>
            <a:r>
              <a:rPr b="0" lang="ru-RU" sz="2000" spc="-1" strike="noStrike">
                <a:solidFill>
                  <a:srgbClr val="dfd293"/>
                </a:solidFill>
                <a:latin typeface="Arial"/>
              </a:rPr>
              <a:t> </a:t>
            </a:r>
            <a:r>
              <a:rPr b="1" lang="uk-UA" sz="2000" spc="-1" strike="noStrike">
                <a:solidFill>
                  <a:srgbClr val="600000"/>
                </a:solidFill>
                <a:latin typeface="Arial"/>
              </a:rPr>
              <a:t>– 150 тон.</a:t>
            </a:r>
            <a:endParaRPr b="0" lang="en-US" sz="2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3" name="WordArt 6"/>
          <p:cNvSpPr txBox="1"/>
          <p:nvPr/>
        </p:nvSpPr>
        <p:spPr>
          <a:xfrm>
            <a:off x="838080" y="3962520"/>
            <a:ext cx="7772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Чудо-юдо рыба кит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Documents and Settings\Admin\Рабочий стол\Море\кит.jpg"/>
          <p:cNvPicPr/>
          <p:nvPr/>
        </p:nvPicPr>
        <p:blipFill>
          <a:blip r:embed="rId1"/>
          <a:stretch/>
        </p:blipFill>
        <p:spPr>
          <a:xfrm>
            <a:off x="228600" y="304920"/>
            <a:ext cx="3330720" cy="26254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86" name="Содержимое 6" descr=""/>
          <p:cNvPicPr/>
          <p:nvPr/>
        </p:nvPicPr>
        <p:blipFill>
          <a:blip r:embed="rId2"/>
          <a:stretch/>
        </p:blipFill>
        <p:spPr>
          <a:xfrm>
            <a:off x="500040" y="3108240"/>
            <a:ext cx="8283600" cy="3554640"/>
          </a:xfrm>
          <a:prstGeom prst="rect">
            <a:avLst/>
          </a:prstGeom>
          <a:ln w="0">
            <a:noFill/>
          </a:ln>
        </p:spPr>
      </p:pic>
      <p:pic>
        <p:nvPicPr>
          <p:cNvPr id="87" name="Схема 7" descr=""/>
          <p:cNvPicPr/>
          <p:nvPr/>
        </p:nvPicPr>
        <p:blipFill>
          <a:blip r:embed="rId3"/>
          <a:stretch/>
        </p:blipFill>
        <p:spPr>
          <a:xfrm>
            <a:off x="530280" y="6089760"/>
            <a:ext cx="85680" cy="774720"/>
          </a:xfrm>
          <a:prstGeom prst="rect">
            <a:avLst/>
          </a:prstGeom>
          <a:ln w="0">
            <a:noFill/>
          </a:ln>
        </p:spPr>
      </p:pic>
      <p:sp>
        <p:nvSpPr>
          <p:cNvPr id="88" name="WordArt 8"/>
          <p:cNvSpPr txBox="1"/>
          <p:nvPr/>
        </p:nvSpPr>
        <p:spPr>
          <a:xfrm>
            <a:off x="3809880" y="685800"/>
            <a:ext cx="5029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Математичний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диктант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00"/>
                </a:solidFill>
                <a:latin typeface="Arial"/>
              </a:rPr>
              <a:t>Если  эта рыба заметит хищника, она разгоняется, выпрыгивает из воды, расправляет в воздухе плавники- крылья и летит  над волнами достаточно далек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990000"/>
                </a:solidFill>
                <a:latin typeface="Arial"/>
              </a:rPr>
              <a:t>от 100 до 400 метр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1" name="WordArt 9"/>
          <p:cNvSpPr txBox="1"/>
          <p:nvPr/>
        </p:nvSpPr>
        <p:spPr>
          <a:xfrm>
            <a:off x="2514600" y="533520"/>
            <a:ext cx="6248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Летучая рыбк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2" name="Рисунок 22" descr="http://potehecias.com/wp-content/uploads/2011/10/Fish_06.jpg"/>
          <p:cNvPicPr/>
          <p:nvPr/>
        </p:nvPicPr>
        <p:blipFill>
          <a:blip r:embed="rId1"/>
          <a:stretch/>
        </p:blipFill>
        <p:spPr>
          <a:xfrm>
            <a:off x="5334120" y="1523880"/>
            <a:ext cx="3402000" cy="3581640"/>
          </a:xfrm>
          <a:prstGeom prst="rect">
            <a:avLst/>
          </a:prstGeom>
          <a:ln w="76320">
            <a:solidFill>
              <a:srgbClr val="0033cc"/>
            </a:solidFill>
            <a:miter/>
          </a:ln>
        </p:spPr>
      </p:pic>
      <p:pic>
        <p:nvPicPr>
          <p:cNvPr id="93" name="Picture 11" descr="iРібка с кемто"/>
          <p:cNvPicPr/>
          <p:nvPr/>
        </p:nvPicPr>
        <p:blipFill>
          <a:blip r:embed="rId2"/>
          <a:stretch/>
        </p:blipFill>
        <p:spPr>
          <a:xfrm>
            <a:off x="5334120" y="5181480"/>
            <a:ext cx="3429000" cy="1428840"/>
          </a:xfrm>
          <a:prstGeom prst="rect">
            <a:avLst/>
          </a:prstGeom>
          <a:ln w="7632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8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WordArt 3"/>
          <p:cNvSpPr txBox="1"/>
          <p:nvPr/>
        </p:nvSpPr>
        <p:spPr>
          <a:xfrm>
            <a:off x="468360" y="260280"/>
            <a:ext cx="8207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рское путешествие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484360" y="1125360"/>
            <a:ext cx="54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Georgia"/>
              </a:rPr>
              <a:t>Зрительная гимнаст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5" descr="0_463b0_341077dd_L"/>
          <p:cNvPicPr/>
          <p:nvPr/>
        </p:nvPicPr>
        <p:blipFill>
          <a:blip r:embed="rId3"/>
          <a:stretch/>
        </p:blipFill>
        <p:spPr>
          <a:xfrm>
            <a:off x="324000" y="2349360"/>
            <a:ext cx="8424720" cy="1584360"/>
          </a:xfrm>
          <a:prstGeom prst="rect">
            <a:avLst/>
          </a:prstGeom>
          <a:ln w="0">
            <a:noFill/>
          </a:ln>
        </p:spPr>
      </p:pic>
      <p:pic>
        <p:nvPicPr>
          <p:cNvPr id="98" name="Nasha+pesenka+-+A+ryby+v+more+plavayut+vot+tak.mp3" descr=""/>
          <p:cNvPicPr/>
          <p:nvPr/>
        </p:nvPicPr>
        <p:blipFill>
          <a:blip r:embed="rId4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04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13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1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17-11-01T14:52:25Z</dcterms:modified>
  <cp:revision>1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