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FA1-641D-4096-A949-44216516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F658-21E4-4450-9BBE-F7D99CE2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CC4-E947-49BE-AF0A-AD462240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4B9-86D2-47D3-90CE-B39C6ACC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C57-FF58-4AFF-901B-15DC8389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3CD1-0354-40EB-9F3B-1956CDD2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BB2-5A15-479A-8771-5D8E2279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B97C-499A-4CEB-A5A5-6F45414A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BC3-BBEA-432E-BAC6-2C514360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D36-EB32-4E76-8389-ABEB7343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829F-DFE8-4BFB-8CF8-EC03AA32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65B4-F56A-4F80-B904-28456ED3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FE48-614A-485D-A342-648EE2EA0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8436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Музыкально-игровая деятельность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к средство развития музыкальности детей дошкольного возраста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узыкальный руководи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БДОУ детского сада №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. Ярцева Смоленской обла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йман Е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ность понятия «игра» в психолого-педагогической на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Музыкальная игра». Виды музыкальных игр, их характе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и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зыкально-дидактические игры. Виды музыкально-дидактических игр, их характерис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ебования к содержанию музыкально-дидактических иг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квейн к термину «иг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щность понятия «иг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сихолого-педагогической на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а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инстинктивно-биологическая по своей природ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, которая в своей символической форм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жает врожденные влеч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енка, котор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вают освоение окружающего мира 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ческих отнош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К.Гросс, Ф.Кейр, Ф.Шиллер, Г.Спенсер, С.Л.Рубенштейн, Д.Б.Элькон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а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деятельность, сопровождаемая функциональны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овольствием и ради него совершае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К.Бюлл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а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…скорее наслаждение, связанное со свободным о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ей потребности проявлением избыт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зненных с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Ф.Шилл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узыкальная игра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это наиболее активная творческа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ятельность, направленная на выраже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моционального содержания музыки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уществляемая в разных движе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Н.А.Ветлуг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ды музыкальных и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0" y="3715920"/>
            <a:ext cx="2160720" cy="1584360"/>
          </a:xfrm>
          <a:prstGeom prst="wedgeRectCallout">
            <a:avLst>
              <a:gd name="adj1" fmla="val -56907"/>
              <a:gd name="adj2" fmla="val 73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860640"/>
            <a:ext cx="20160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ободная иг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имитационно-образная, подражательна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2555640" y="3715920"/>
            <a:ext cx="2160360" cy="1584360"/>
          </a:xfrm>
          <a:prstGeom prst="wedgeRectCallout">
            <a:avLst>
              <a:gd name="adj1" fmla="val 21342"/>
              <a:gd name="adj2" fmla="val 75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3789360"/>
            <a:ext cx="201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вижная иг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спортивные, игра со словом, без слов, с правилами, нар.игры и т.д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3715920"/>
            <a:ext cx="2160720" cy="1584360"/>
          </a:xfrm>
          <a:prstGeom prst="wedgeRectCallout">
            <a:avLst>
              <a:gd name="adj1" fmla="val 24208"/>
              <a:gd name="adj2" fmla="val 73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32360" y="3789360"/>
            <a:ext cx="201600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ы-драмма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сюжетно-ролевые игры, игры-импровизации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0800000">
            <a:off x="7164000" y="3715920"/>
            <a:ext cx="1979640" cy="1584360"/>
          </a:xfrm>
          <a:prstGeom prst="wedgeRectCallout">
            <a:avLst>
              <a:gd name="adj1" fmla="val 57134"/>
              <a:gd name="adj2" fmla="val 745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8000" y="3789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идактические иг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ункции музыкальных и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моциоген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зменчивость эмоционального состояния в процесс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ческ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гра, процесс предсказуемости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енсатур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озможность получить то, чего ребенку не достает в реаль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муникатив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бщение с коллекти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ореализ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оверка самореализации, возможность проявить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окультур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оциоконтролирующие проце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репевтическ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ррекция нравственных кач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лаксацион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осстанавливающая)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ятие психического и физического напр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6979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зыкально-дидактическая игра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дна из форм обучающего воздействия взрослого на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Е.С.Рапацевич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узыкально-дидактически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2852640"/>
            <a:ext cx="3459240" cy="2664000"/>
          </a:xfrm>
          <a:custGeom>
            <a:avLst/>
            <a:gdLst>
              <a:gd name="textAreaLeft" fmla="*/ 865800 w 3459240"/>
              <a:gd name="textAreaRight" fmla="*/ 2593440 w 3459240"/>
              <a:gd name="textAreaTop" fmla="*/ 666720 h 2664000"/>
              <a:gd name="textAreaBottom" fmla="*/ 1997280 h 2664000"/>
            </a:gdLst>
            <a:ahLst/>
            <a:rect l="textAreaLeft" t="textAreaTop" r="textAreaRight" b="textAreaBottom"/>
            <a:pathLst>
              <a:path w="21600" h="21600">
                <a:moveTo>
                  <a:pt x="5406" y="5406"/>
                </a:moveTo>
                <a:lnTo>
                  <a:pt x="9400" y="5406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6"/>
                </a:lnTo>
                <a:lnTo>
                  <a:pt x="16194" y="5406"/>
                </a:lnTo>
                <a:lnTo>
                  <a:pt x="16194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194" y="12200"/>
                </a:lnTo>
                <a:lnTo>
                  <a:pt x="16194" y="16194"/>
                </a:lnTo>
                <a:lnTo>
                  <a:pt x="12200" y="16194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194"/>
                </a:lnTo>
                <a:lnTo>
                  <a:pt x="5406" y="16194"/>
                </a:lnTo>
                <a:lnTo>
                  <a:pt x="5406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6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364500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узыкально-дидактические иг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3640" y="1844640"/>
            <a:ext cx="2663640" cy="100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2060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УЧАЮЩ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27640" y="3645000"/>
            <a:ext cx="2521080" cy="100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3640" y="5516640"/>
            <a:ext cx="2663640" cy="100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3645000"/>
            <a:ext cx="2592360" cy="100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3860640"/>
            <a:ext cx="24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ВИВАЮЩ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32000" y="57340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ИАГНОСТИРУЮЩ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386064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РРЕКЦИО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ебования к содержанию музыкально-дидактических иг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26920" y="1341360"/>
          <a:ext cx="7452000" cy="4937040"/>
        </p:xfrm>
        <a:graphic>
          <a:graphicData uri="http://schemas.openxmlformats.org/drawingml/2006/table">
            <a:tbl>
              <a:tblPr/>
              <a:tblGrid>
                <a:gridCol w="3726000"/>
                <a:gridCol w="3726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полаг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сферы деятельности, инициативность взрослого, результа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туп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оответствие возрастным особенностям, учитывать интерес детей к содержанию иг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циональность в использова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можность играть как одному ребенку так и коллектив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тетика содераж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яркость и красочность игрового материа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ГРА –ЭТО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268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2 прилагательных … 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акая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191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интересная, увлекатель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2637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3 глагола … 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учатся что делать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33577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общаться, меняться, развивать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41497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5 существительных … 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472428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взаимодействие, развитие, мышление, фантазия, рад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1T08:10:36Z</dcterms:created>
  <dc:creator>Alex</dc:creator>
  <dc:description/>
  <dc:language>en-US</dc:language>
  <cp:lastModifiedBy>Alex</cp:lastModifiedBy>
  <dcterms:modified xsi:type="dcterms:W3CDTF">2018-08-21T11:54:32Z</dcterms:modified>
  <cp:revision>28</cp:revision>
  <dc:subject/>
  <dc:title>«Музыкально-игровая деятельность,  как средство развития музыкальности детей дошкольного возраста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