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1961-A352-4E3E-A24A-BA3CC988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797E-7276-4360-B61B-2851AF14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6796-F74A-4618-85BE-A7297A266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DAD7-BC4F-4C92-B125-F52FA572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0D6A-FB24-4ACE-970E-334711A7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58B7-D959-4A38-99C2-5E16F53B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2F33-4B17-4A16-AB6A-F19C80DD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7C13-5CDE-4B78-874C-43FB8D19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8ABB-F6D2-4866-B141-1DCC9112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8313-10A6-45C4-9A2C-1799416F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F954-FF35-4A1B-BF00-39B66A67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AC99-3303-45DA-99CE-72E3C259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7CFC-F636-4C44-903C-6FE6EFD54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84368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Музыкально-игровая деятельность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к средство развития музыкальности детей дошкольного возраста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узыкальный руководи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БДОУ детского сада №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. Ярцева Смоленской обла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йман Е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ДЕРЖ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щность понятия «игра» в психолого-педагогической нау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Музыкальная игра». Виды музыкальных игр, их характери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и иг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узыкально-дидактические игры. Виды музыкально-дидактических игр, их характерист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ебования к содержанию музыкально-дидактических иг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нквейн к термину «иг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ущность понятия «иг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психолого-педагогической на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гра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инстинктивно-биологическая по своей природ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ятельность, которая в своей символической форм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ражает врожденные влече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бенка, которы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спечивают освоение окружающего мира 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ловеческих отнош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К.Гросс, Ф.Кейр, Ф.Шиллер, Г.Спенсер, С.Л.Рубенштейн, Д.Б.Элькони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гра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деятельность, сопровождаемая функциональны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довольствием и ради него совершае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К.Бюлл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гра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…скорее наслаждение, связанное со свободным о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шней потребности проявлением избытк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зненных си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Ф.Шилл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узыкальная игра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это наиболее активная творческа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ятельность, направленная на выражени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моционального содержания музыки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существляемая в разных движен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Н.А.Ветлуги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иды музыкальных иг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0800000">
            <a:off x="0" y="3715920"/>
            <a:ext cx="2160720" cy="1584360"/>
          </a:xfrm>
          <a:prstGeom prst="wedgeRectCallout">
            <a:avLst>
              <a:gd name="adj1" fmla="val -56907"/>
              <a:gd name="adj2" fmla="val 73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860640"/>
            <a:ext cx="201600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вободная иг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имитационно-образная, подражательная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2555640" y="3715920"/>
            <a:ext cx="2160360" cy="1584360"/>
          </a:xfrm>
          <a:prstGeom prst="wedgeRectCallout">
            <a:avLst>
              <a:gd name="adj1" fmla="val 21342"/>
              <a:gd name="adj2" fmla="val 756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56000" y="3789360"/>
            <a:ext cx="201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вижная иг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спортивные, игра со словом, без слов, с правилами, нар.игры и т.д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3715920"/>
            <a:ext cx="2160720" cy="1584360"/>
          </a:xfrm>
          <a:prstGeom prst="wedgeRectCallout">
            <a:avLst>
              <a:gd name="adj1" fmla="val 24208"/>
              <a:gd name="adj2" fmla="val 73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32360" y="3789360"/>
            <a:ext cx="201600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гры-драммат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(сюжетно-ролевые игры, игры-импровизации и т.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0800000">
            <a:off x="7164000" y="3715920"/>
            <a:ext cx="1979640" cy="1584360"/>
          </a:xfrm>
          <a:prstGeom prst="wedgeRectCallout">
            <a:avLst>
              <a:gd name="adj1" fmla="val 57134"/>
              <a:gd name="adj2" fmla="val 745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28000" y="3789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идактические иг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964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ункции музыкальных иг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моциогенн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изменчивость эмоционального состояния в процессе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агностическ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игра, процесс предсказуемости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пенсатурн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озможность получить то, чего ребенку не достает в реаль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муникативн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общение с коллекти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мореализа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роверка самореализации, возможность проявить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окультурн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оциоконтролирующие процес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репевтическ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оррекция нравственных кач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лаксационн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осстанавливающая)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ятие психического и физического напря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69796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узыкально-дидактическая игра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дна из форм обучающего воздействия взрослого на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Е.С.Рапацевич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узыкально-дидактические иг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2852640"/>
            <a:ext cx="3459240" cy="2664000"/>
          </a:xfrm>
          <a:custGeom>
            <a:avLst/>
            <a:gdLst>
              <a:gd name="textAreaLeft" fmla="*/ 865800 w 3459240"/>
              <a:gd name="textAreaRight" fmla="*/ 2593440 w 3459240"/>
              <a:gd name="textAreaTop" fmla="*/ 666720 h 2664000"/>
              <a:gd name="textAreaBottom" fmla="*/ 1997280 h 2664000"/>
            </a:gdLst>
            <a:ahLst/>
            <a:rect l="textAreaLeft" t="textAreaTop" r="textAreaRight" b="textAreaBottom"/>
            <a:pathLst>
              <a:path w="21600" h="21600">
                <a:moveTo>
                  <a:pt x="5406" y="5406"/>
                </a:moveTo>
                <a:lnTo>
                  <a:pt x="9400" y="5406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6"/>
                </a:lnTo>
                <a:lnTo>
                  <a:pt x="16194" y="5406"/>
                </a:lnTo>
                <a:lnTo>
                  <a:pt x="16194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194" y="12200"/>
                </a:lnTo>
                <a:lnTo>
                  <a:pt x="16194" y="16194"/>
                </a:lnTo>
                <a:lnTo>
                  <a:pt x="12200" y="16194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194"/>
                </a:lnTo>
                <a:lnTo>
                  <a:pt x="5406" y="16194"/>
                </a:lnTo>
                <a:lnTo>
                  <a:pt x="5406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6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3645000"/>
            <a:ext cx="230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узыкально-дидактические иг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3640" y="1844640"/>
            <a:ext cx="2663640" cy="1008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19640" y="2060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УЧАЮЩ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27640" y="3645000"/>
            <a:ext cx="2521080" cy="1008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3640" y="5516640"/>
            <a:ext cx="2663640" cy="1008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3645000"/>
            <a:ext cx="2592360" cy="1008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3860640"/>
            <a:ext cx="24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ВИВАЮЩ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32000" y="57340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ИАГНОСТИРУЮЩ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386064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РРЕКЦИО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ебования к содержанию музыкально-дидактических иг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826920" y="1341360"/>
          <a:ext cx="7452000" cy="4937040"/>
        </p:xfrm>
        <a:graphic>
          <a:graphicData uri="http://schemas.openxmlformats.org/drawingml/2006/table">
            <a:tbl>
              <a:tblPr/>
              <a:tblGrid>
                <a:gridCol w="3726000"/>
                <a:gridCol w="37260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еполаг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сферы деятельности, инициативность взрослого, результа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ступ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оответствие возрастным особенностям, учитывать интерес детей к содержанию игр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циональность в использован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можность играть как одному ребенку так и коллектив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стетика содераж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яркость и красочность игрового материал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ГРА –ЭТО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268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2 прилагательных … …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какая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19162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интересная, увлекательн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2637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3 глагола … …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учатся что делать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335772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общаться, меняться, развивать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4149720"/>
            <a:ext cx="77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5 существительных … …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472428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взаимодействие, развитие, мышление, фантазия, рад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1T08:10:36Z</dcterms:created>
  <dc:creator>Alex</dc:creator>
  <dc:description/>
  <dc:language>en-US</dc:language>
  <cp:lastModifiedBy>Alex</cp:lastModifiedBy>
  <dcterms:modified xsi:type="dcterms:W3CDTF">2018-08-21T11:54:32Z</dcterms:modified>
  <cp:revision>28</cp:revision>
  <dc:subject/>
  <dc:title>«Музыкально-игровая деятельность,  как средство развития музыкальности детей дошкольного возраста»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