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DB41-4954-47FD-ACCA-0D9C06D0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C41-9E1F-4B71-B64A-53C5B213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D77-EA43-44FE-B12E-7334A081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C72B-E60E-4AF7-A10B-FEAE7636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1173-9130-4DA0-86E4-45DFD09F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25CB-4E38-47A2-8997-9BC8EF30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2E27-34DC-437E-BFB2-13C7773E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183-E559-45FB-9DB1-0E9D1DE2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62F-13D6-455E-93AC-DC1EA397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7779-1FCC-4D6C-AF6D-A775AA01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9C2C-1A65-4F49-A4CA-4FB37DA3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F092-8A41-4C42-A7DD-BE591458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8672-4400-401A-968C-5823214DE1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хнология «Обучающие тесты»: погружение в текст и контекст</a:t>
            </a: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WordArt 6"/>
          <p:cNvSpPr txBox="1"/>
          <p:nvPr/>
        </p:nvSpPr>
        <p:spPr>
          <a:xfrm>
            <a:off x="539640" y="692280"/>
            <a:ext cx="8137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611280" y="836640"/>
            <a:ext cx="7777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т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люстрации художников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рассказу «Хамелеон» . Объясните, какие эпизоды рассказа проиллюстрировали художники? Какой смысл произведения А.П.Чехова выражают иллюстрации? Напишите отзыв об иллюстрациях худож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Дудин А. Очумелов и Елдыр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Черноглазов В. Хамеле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Игнатьев Ю. Хамеле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cham6.jpg"/>
          <p:cNvPicPr/>
          <p:nvPr/>
        </p:nvPicPr>
        <p:blipFill>
          <a:blip r:embed="rId2"/>
          <a:stretch/>
        </p:blipFill>
        <p:spPr>
          <a:xfrm>
            <a:off x="4535640" y="1268280"/>
            <a:ext cx="4608360" cy="558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Рисунок 8" descr="cham7.jpg"/>
          <p:cNvPicPr/>
          <p:nvPr/>
        </p:nvPicPr>
        <p:blipFill>
          <a:blip r:embed="rId3"/>
          <a:stretch/>
        </p:blipFill>
        <p:spPr>
          <a:xfrm>
            <a:off x="179280" y="1268280"/>
            <a:ext cx="4392720" cy="558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WordArt 8"/>
          <p:cNvSpPr txBox="1"/>
          <p:nvPr/>
        </p:nvSpPr>
        <p:spPr>
          <a:xfrm>
            <a:off x="755640" y="333360"/>
            <a:ext cx="77533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стная работа  по иллюстрациям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imgB"/>
          <p:cNvPicPr/>
          <p:nvPr/>
        </p:nvPicPr>
        <p:blipFill>
          <a:blip r:embed="rId2"/>
          <a:stretch/>
        </p:blipFill>
        <p:spPr>
          <a:xfrm>
            <a:off x="1835280" y="0"/>
            <a:ext cx="604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395280" y="297720"/>
            <a:ext cx="8353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читайте фрагмент статьи «Хамелеон – многоцветная рептилия» из Энциклопедии животного мира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новите связь поведения героя рассказа и реакции рептилии на изменения окружающей сред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ъясните смысл заглавия рассказа. Запишите свое рассуж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амелеоны — это рептилии длиной от трех до восьмидесяти сантиметров, обитающие в Африке, тропической Азии и Юго-Западной Европе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итаются они преимущественно насекомыми, но более крупные виды охотятся на других ящериц, небольших млекопитающих и даже п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личительная черта хамелеона — его способность менять цвет кожи, помогающая ему маскироваться и защищать территорию. Хамелеоны пугают друг друга, меняя цвета, раздувая туловища и открывая рты, чтобы создать цветовой контра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пкий язык хамелеона способен «выстреливать» на расстояние до 20 санти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лаза хамелеона могут вращаться независимо друг от друга, позволяя ему смотреть назад и вверх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826920" y="333360"/>
            <a:ext cx="76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95280" y="135504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тик В.Г Белинский , размышляя о сути сатиры и юмора, писал: « Ничего нет в мире страшнее смешного: смешное и –казнь уродливых нелепостей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каких «уродливых нелепостях» побуждает размышлять рассказ А.П. Чехова «Хамелеон»? Посвятите этому размышлению сочинение - миниатю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а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обучающий тест- это не контрольно-проверочный, а направляющий деятельность учащегося для креативного погружения в тек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Задания как на сам текст, так и на контекст («опорные» тексты): научные, учебные, справочно-энциклопедические, а также произведения других видов искусства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 целью обретения нового зна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мение и мастерство учителя как раз и заключается в том, чтобы интересно  подобрать эти опорные тексты, вызвать эмоции и мотивацию для последующих действий у уче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5280" y="24523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684360" y="1123920"/>
            <a:ext cx="7991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 «Обучающие тесты» в образовании до настоящего времени еще не обрела должного научно-методического обоснования и не имеет широкого практического применения. Использование тестовых заданий обычно связывается с диагностикой качества образования на рубежных этапах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ычные тесты и тестирование является средством контроля, но не формирования метапредметных видов деятельности и предметных умений (видов учебной деятельност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учающие тесты даются не  в конце изученного материала, а в ходе анализа те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акой метод называется «методом медленного чтения». Это многократное перечитывание текста, поскольку все задания выполняются в работе с текстом, а не в  «удалении» от него, как на этапе контроля. Ученик сначала читает весь текст, а затем, последовательно выполняя задания и обдумывая вопросы, перечитывает эпиз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684360" y="1123920"/>
            <a:ext cx="799128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я тестового характера позволяют формировать одно из важнейших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тапредметных умений: выявление главной информации в тек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я обучающие тесты, мы направляем внимание учащихся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ающие тесты позволяют так организовать анализ текста, когд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татель- школьник сам, читая и перечитывая, ищет и находит в тексте главную информацию, соответствующую информационному запросу, выраженному в тестовом зад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971640" y="58680"/>
            <a:ext cx="7777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ждое тестовое задание содержит инструкцию, направляющую действия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 Что нужно сдел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рочитать эпизод художественного текста или фрагмент статьи энциклопедии, статью толкового словаря; рассмотреть иллюстрации художников и сопоставить с эпизодами текста; озаглавить иллюстрации своими заголовками или подобрать цитаты. Работа с разными источниками информации формирует метапредметные умения (анализ, оценка и сопоставление информации) и предметные (выявление приемов создания художественного образа средствами словесного искусства и художественной графики). Изучение наблюдений и выводов ученых, сопоставление суждений содействует развитию «критического мышления» подростков, побуждают выразить свое мнение, обосновать свою читательскую интерпрет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684360" y="476280"/>
            <a:ext cx="7920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отметить еще два аспекта применения технологии «Обучающие тесты» в процессе изучения определенной темы. Во-первых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нение других «опорных» (информационных) текстов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ая погруженность в текст, поиск информации, ее анализ и истолкование, выражение смысла в собственном высказывании, в микротексте. Это «цепочка» видов речемыслительной деятельности: чтение, анализ, осмысление, мысленное формулирование суждения (тезиса), письмо. Во-вторых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бота с текстом и «опорными» текстами создает ситуацию успешной учебной деятельности, когда ученик знает, что ответ будет найден в текст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пасение допустить ошибку, а уверенность достойно выполнить задание, самостоятельно добиться высокого результата и осуществить самоконтр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1692360" y="333360"/>
            <a:ext cx="6983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чающие тестовые 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Картинка 32 из 77"/>
          <p:cNvPicPr/>
          <p:nvPr/>
        </p:nvPicPr>
        <p:blipFill>
          <a:blip r:embed="rId2"/>
          <a:stretch/>
        </p:blipFill>
        <p:spPr>
          <a:xfrm>
            <a:off x="2556000" y="1197000"/>
            <a:ext cx="4752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back_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67115795_tonnel.gif"/>
          <p:cNvPicPr/>
          <p:nvPr/>
        </p:nvPicPr>
        <p:blipFill>
          <a:blip r:embed="rId2"/>
          <a:stretch/>
        </p:blipFill>
        <p:spPr>
          <a:xfrm>
            <a:off x="539640" y="404640"/>
            <a:ext cx="1584360" cy="2111400"/>
          </a:xfrm>
          <a:prstGeom prst="rect">
            <a:avLst/>
          </a:prstGeom>
          <a:ln w="38160">
            <a:solidFill>
              <a:srgbClr val="161645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1" name="Прямоугольник 4"/>
          <p:cNvSpPr/>
          <p:nvPr/>
        </p:nvSpPr>
        <p:spPr>
          <a:xfrm>
            <a:off x="2195640" y="1028880"/>
            <a:ext cx="676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йте рассказ «Хамелеон». Определите свое читательское впечатление. Запишите свое суждение или дополните предложенные вариа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Мне неприятны герои рассказа, так как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. Ситуация рассказа и его герои вызывают смех, потому что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Мне жаль беззащитного щенка, ведь его судьба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Рассказ производит гнетущее впечатление. Герои рассказа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Какие детали (подробности) описания базарной площади создают комический эффект? Запишите свое суж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79280" y="115920"/>
            <a:ext cx="8713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ите, с какой целью в экспозиции рассказа автор указывает на «новую шинель» и «узелок в руке» полицейского надзирателя, на «решето, доверху наполненное конфискованным крыжовником», который несет «рыжий городов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. В одной литературоведческой работе, посвященной рассказу «Хамелеон», сделано такое наблюдение: крыжовник созревает в июле, в самое жаркое время год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чем Очумелову необходима «новая шинель» в июльскую жару? Какое объяснение вы считаете вер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озможно, Очумелов болен, у него озноб, поэтому он выполняет служебные обязанности в «новой шинел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чумелов стремится показать свой достаток. «Новая шинель»- символ его успешности. Презирая летнюю жару, он с гордостью демонстрирует шинель окружающ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«Новая шинель»- символ власти, которую Очумелов признает высшим из достоинств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свое суж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2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ьте, что вы являетесь режиссером экранизации рассказа «Хамелеон». Составьте чертеж мизансцены «Хрюкин, щенок, толп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зансцена- это расположение актеров на съемочной площадке или на сцене теа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чертеже или рисунке мизансцены укажите действующих лиц, расположите их в соответствии с авторским опис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09:28:36Z</dcterms:created>
  <dc:creator>xxx</dc:creator>
  <dc:description/>
  <dc:language>en-US</dc:language>
  <cp:lastModifiedBy>03</cp:lastModifiedBy>
  <dcterms:modified xsi:type="dcterms:W3CDTF">2018-12-11T11:01:53Z</dcterms:modified>
  <cp:revision>19</cp:revision>
  <dc:subject/>
  <dc:title>Слайд 1</dc:title>
</cp:coreProperties>
</file>