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119646-9DE9-4F36-92E7-B0BE808F2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EED182-E379-41D7-83D1-3909D58156A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621C-144E-4BFC-9242-5B6A1118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DDA3-01FE-4EBA-A540-C82E36FC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8673-9121-4420-A871-469B4708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03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31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7516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03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31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0672-3503-43D9-B358-0A5EA85A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8588-4D6A-457E-8939-D82A52E4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2B96-09F7-4EEA-9B80-779BE19E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15F0-1988-4E04-AC47-F34E887A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9D58-D94E-4764-8AF5-4C9382ED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8ACB-02C7-498A-8799-0948810E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3007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2524-BABC-4A95-B3D1-3C43FAF9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2A50-30D4-443E-B36B-FA763068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F15C-4843-4390-A132-5190FA17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79C1-349C-4A97-BDDC-7DB5340A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F6AD-FF65-4C0D-903E-8B12B608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F71C-CF06-4C54-AB6B-53AD24FE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C6AE-5F4A-4601-8066-EAB4C180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03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31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7516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303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31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6496-756E-4416-A7A9-4EDB1EB4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A7E8F-CF58-4A6C-B23F-F5C808C8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77D9E-02EE-4A9B-8DD4-D714C26B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BB97B-C344-4D77-9D90-C7D32169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98039-FDCA-42C1-8A05-1D8A6FE0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EFBF1-2EA6-4EEB-BDBB-932697A6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39DB-12E8-4D5D-82C4-7EB26643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3007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7D069-E074-4A67-A921-25F46283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4D817-E7C1-4AD6-A767-7588C99C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EADCE-30FD-49D4-8099-9F55E34B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92748-F0EF-44C2-9AEF-61ADF48D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66B94-F705-4D19-969D-EF1A1A5B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1F4E2-6A45-4FBB-BE2A-DD50AF69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303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031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57516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5303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031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FC0CE-F4F6-4762-9F44-189E8107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AF9E5-524F-431F-BA41-60D4FF95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33111-0F0B-48FA-B51A-1E6001FC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8FA6D-1709-407E-998A-BC622D99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5CA5-FB2F-4AFD-8490-7BAB2EAA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136C5-B55E-4066-A496-E8A4E380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2B21E-7F11-4D99-A567-FA83F073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3007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B40C2-66CF-4893-A441-1281452C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30DDD-27D4-470B-A339-9951B067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1D2BC-4E33-457C-A1AE-73662907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5A938-4584-4D0B-BB7C-505C9D43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A26FC-9094-45FC-ACD7-7CCA1691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45E5B-E682-4EFE-B913-4D94DB76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303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031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57516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5303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031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63A62-6D59-4023-A773-AD49C51A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0C11C-33D0-4748-A884-B34E346F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BDDE-2FFF-443A-83AE-39F304A6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1CB1D-5617-4A98-B164-3B5457CC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A8B5F-1722-437A-B530-6B4FFC79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E37E6-1934-456A-B2BC-1511C43F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43A96-6FA0-4014-9AEB-886C3F67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3007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F35FF-B83F-4710-B860-89116A56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C9D70-185B-468D-A7BA-A351356E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B97F8-F82B-402E-A105-BE8E193C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E54DC-DD83-4DED-B7C9-FB35BB52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00CC7-5B29-4F64-8337-6EA927AB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9233C-E734-43D5-95E3-331A1123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3007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BB76-FF4D-4FAA-902B-2581B22F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303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031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57516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303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7031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21BA9-6966-4A5A-808C-F05E1978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7CA9-3080-449D-9F46-3F749C3A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2741-4BB7-458E-A8B5-1FFA316B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DC04-9164-4DE6-AB65-D3700EB4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FAA718-5521-4A46-984E-8B6214323C67}" type="slidenum"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2EDAD9-A592-4B1F-9967-0ACE538EEBF3}" type="slidenum"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3E7C34-19F0-4128-9545-480F9188D67F}" type="slidenum"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0673FD-C011-41BB-8D81-A8404B1C5DEA}" type="slidenum"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CC1F07-BBD5-425D-8370-752ABD13B25B}" type="slidenum"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Заголовок 1"/>
          <p:cNvSpPr/>
          <p:nvPr/>
        </p:nvSpPr>
        <p:spPr>
          <a:xfrm>
            <a:off x="971640" y="620640"/>
            <a:ext cx="771732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ff9855"/>
                </a:solidFill>
                <a:latin typeface="Times New Roman"/>
              </a:rPr>
              <a:t>Формирование экологической  культуры дошкольника через интеграцию образовательных областей  в рамках ФГО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3708000" y="4509000"/>
            <a:ext cx="5059440" cy="1943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8b8b8b"/>
                </a:solidFill>
                <a:latin typeface="Times New Roman"/>
              </a:rPr>
              <a:t>Педагогический совет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8b8b8b"/>
                </a:solidFill>
                <a:latin typeface="Times New Roman"/>
              </a:rPr>
              <a:t>28.02.2017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240" cy="578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держание должно отличаться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аучностью. Несмотря на возраст, дети должны получать в доступной форме научные представления об окружающем мире, в частности, о природе. Формирование научного мировоззрения особенно важно в наше время, когда в обществе широко распространено мифологизированное сознание, не научный подход к объяснению природных явлений;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лжно способствовать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формированию у детей целостного восприятия окружающего мира, с одной стороны, и взаимосвязей частей этого целого - с другой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3640" y="332640"/>
            <a:ext cx="8496720" cy="626436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76320">
            <a:solidFill>
              <a:srgbClr val="00b050"/>
            </a:solidFill>
            <a:miter/>
          </a:ln>
        </p:spPr>
        <p:txBody>
          <a:bodyPr numCol="1" spcCol="0" anchor="t">
            <a:noAutofit/>
          </a:bodyPr>
          <a:p>
            <a:pPr marL="2728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Принципы отбора содержания экологического образования дошкольников</a:t>
            </a:r>
            <a:endParaRPr b="0" lang="ru-RU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57120" y="214200"/>
            <a:ext cx="7786440" cy="6259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7-конечная звезда 3"/>
          <p:cNvSpPr/>
          <p:nvPr/>
        </p:nvSpPr>
        <p:spPr>
          <a:xfrm>
            <a:off x="857160" y="0"/>
            <a:ext cx="7786440" cy="6428880"/>
          </a:xfrm>
          <a:prstGeom prst="star7">
            <a:avLst>
              <a:gd name="adj" fmla="val 34601"/>
              <a:gd name="hf" fmla="val 102572"/>
              <a:gd name="vf" fmla="val 105210"/>
            </a:avLst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f2e2b"/>
                </a:solidFill>
                <a:latin typeface="Times New Roman"/>
              </a:rPr>
              <a:t>Научн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f2e2b"/>
                </a:solidFill>
                <a:latin typeface="Times New Roman"/>
              </a:rPr>
              <a:t>формирование мотивации действий ребенка, развития познавательного интереса, формирование основ его мировозз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Солнце 3"/>
          <p:cNvSpPr/>
          <p:nvPr/>
        </p:nvSpPr>
        <p:spPr>
          <a:xfrm>
            <a:off x="500040" y="285840"/>
            <a:ext cx="8286480" cy="6357600"/>
          </a:xfrm>
          <a:prstGeom prst="sun">
            <a:avLst>
              <a:gd name="adj" fmla="val 25000"/>
            </a:avLst>
          </a:prstGeom>
          <a:solidFill>
            <a:schemeClr val="accent3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 extrusionH="57150">
              <a:bevelT prst="cross" w="69850" h="38100"/>
            </a:sp3d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7030a0"/>
                </a:solidFill>
                <a:latin typeface="Comic Sans MS"/>
              </a:rPr>
              <a:t>Доступ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lt1"/>
                </a:solidFill>
                <a:latin typeface="Times New Roman"/>
              </a:rPr>
              <a:t>Крайне важным является принцип доступности материала для ребенка определенного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714240"/>
            <a:ext cx="7972200" cy="5758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Облако 3"/>
          <p:cNvSpPr/>
          <p:nvPr/>
        </p:nvSpPr>
        <p:spPr>
          <a:xfrm>
            <a:off x="785880" y="1000080"/>
            <a:ext cx="7286400" cy="4571640"/>
          </a:xfrm>
          <a:prstGeom prst="cloud">
            <a:avLst/>
          </a:prstGeom>
          <a:solidFill>
            <a:srgbClr val="00b0f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chemeClr val="accent3"/>
                </a:solidFill>
                <a:latin typeface="Times New Roman"/>
              </a:rPr>
              <a:t>Гуманистич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3"/>
                </a:solidFill>
                <a:latin typeface="Times New Roman"/>
              </a:rPr>
              <a:t>Экологическое воспитание тесно связано  с развитием эмоций ребенка, умения сочувствовать, удивляться, сопереживать, заботиться о живых организмах, воспринимать их как братьев по природе, уметь видеть красоту окружающего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Блок-схема: перфолента 4"/>
          <p:cNvSpPr/>
          <p:nvPr/>
        </p:nvSpPr>
        <p:spPr>
          <a:xfrm>
            <a:off x="285840" y="571680"/>
            <a:ext cx="8143560" cy="5571720"/>
          </a:xfrm>
          <a:prstGeom prst="flowChartPunchedTape">
            <a:avLst/>
          </a:prstGeom>
          <a:solidFill>
            <a:srgbClr val="7030a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Times New Roman"/>
              </a:rPr>
              <a:t>Прогности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chemeClr val="lt1"/>
                </a:solidFill>
                <a:latin typeface="Times New Roman"/>
              </a:rPr>
              <a:t>формирование элементарных представлений о существующих в природе взаимосвязях и на основе этих представлений — умение прогнозировать свои действия по отношению к окружающей среде во время отдыха, труда в природе и бытовых услов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Табличка 5"/>
          <p:cNvSpPr/>
          <p:nvPr/>
        </p:nvSpPr>
        <p:spPr>
          <a:xfrm>
            <a:off x="500040" y="357120"/>
            <a:ext cx="7429320" cy="5857560"/>
          </a:xfrm>
          <a:prstGeom prst="plaque">
            <a:avLst>
              <a:gd name="adj" fmla="val 16667"/>
            </a:avLst>
          </a:prstGeom>
          <a:solidFill>
            <a:schemeClr val="accent2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 cap="all">
                <a:solidFill>
                  <a:schemeClr val="accent4"/>
                </a:solidFill>
                <a:latin typeface="Times New Roman"/>
              </a:rPr>
              <a:t>Деятельност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 cap="all">
                <a:solidFill>
                  <a:schemeClr val="accent4"/>
                </a:solidFill>
                <a:latin typeface="Times New Roman"/>
              </a:rPr>
              <a:t>Экологические знания должны помочь понять ребенку, что нужно сделать для того, чтобы сохранить окружающую его самого и его близких сре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16-конечная звезда 3"/>
          <p:cNvSpPr/>
          <p:nvPr/>
        </p:nvSpPr>
        <p:spPr>
          <a:xfrm>
            <a:off x="899640" y="764640"/>
            <a:ext cx="7857720" cy="5776200"/>
          </a:xfrm>
          <a:prstGeom prst="star16">
            <a:avLst>
              <a:gd name="adj" fmla="val 37500"/>
            </a:avLst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 cap="all">
                <a:solidFill>
                  <a:srgbClr val="4d78bb"/>
                </a:solidFill>
                <a:latin typeface="Times New Roman"/>
              </a:rPr>
              <a:t>Целост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 cap="all">
                <a:solidFill>
                  <a:srgbClr val="4d78bb"/>
                </a:solidFill>
                <a:latin typeface="Times New Roman"/>
              </a:rPr>
              <a:t>Этот принцип отражает прежде всего целостное восприятие ребенком окружающего мира и его единство с миром прир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15120" cy="4873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авильный пятиугольник 5"/>
          <p:cNvSpPr/>
          <p:nvPr/>
        </p:nvSpPr>
        <p:spPr>
          <a:xfrm>
            <a:off x="785880" y="0"/>
            <a:ext cx="7500600" cy="6286320"/>
          </a:xfrm>
          <a:prstGeom prst="pentagon">
            <a:avLst>
              <a:gd name="hf" fmla="val 105146"/>
              <a:gd name="vf" fmla="val 110557"/>
            </a:avLst>
          </a:prstGeom>
          <a:blipFill rotWithShape="0">
            <a:blip r:embed="rId1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75000"/>
                  </a:schemeClr>
                </a:solidFill>
                <a:latin typeface="Times New Roman"/>
              </a:rPr>
              <a:t>Конструктив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accent5">
                    <a:lumMod val="75000"/>
                  </a:schemeClr>
                </a:solidFill>
                <a:latin typeface="Times New Roman"/>
              </a:rPr>
              <a:t>  </a:t>
            </a:r>
            <a:r>
              <a:rPr b="0" lang="ru-RU" sz="2800" spc="-1" strike="noStrike">
                <a:solidFill>
                  <a:schemeClr val="accent5">
                    <a:lumMod val="75000"/>
                  </a:schemeClr>
                </a:solidFill>
                <a:latin typeface="Times New Roman"/>
              </a:rPr>
              <a:t>педагог обязан показать ребенку положительный пример или вероятный выход из обсуждаемой ситуации. Важно привести примеры успешно решенных экологических проблем, желательно на примерах ближайшего окру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Овальная выноска 3"/>
          <p:cNvSpPr/>
          <p:nvPr/>
        </p:nvSpPr>
        <p:spPr>
          <a:xfrm>
            <a:off x="642960" y="785880"/>
            <a:ext cx="8000640" cy="50004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chemeClr val="accent2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75000"/>
                  </a:schemeClr>
                </a:solidFill>
                <a:latin typeface="Times New Roman"/>
              </a:rPr>
              <a:t>Регионализм</a:t>
            </a:r>
            <a:r>
              <a:rPr b="0" lang="ru-RU" sz="2800" spc="-1" strike="noStrike">
                <a:solidFill>
                  <a:schemeClr val="accent5">
                    <a:lumMod val="75000"/>
                  </a:schemeClr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accent5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chemeClr val="accent5">
                    <a:lumMod val="75000"/>
                  </a:schemeClr>
                </a:solidFill>
                <a:latin typeface="Times New Roman"/>
              </a:rPr>
              <a:t>Формирование экологических представлений  ребенка происходит на основе его знакомства с помещением дошкольного учреждения и его территорией, собственной квартирой, дачей, ближайшим парком, сквером, лесом, оз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225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«</a:t>
            </a: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Человек стал человеком, когда услышал шепот листьев и песню кузнечика, журчание весеннего ручья и звон серебряных колокольчиков в бездонном летнем небе, шорох снежинок и завывание вьюги за окном, ласковый плеск волны и торжественную тишину ночи, – услышал, и, затаив дыхание, слушает сотни и тысячи лет чудесную</a:t>
            </a:r>
            <a:br>
              <a:rPr sz="3100"/>
            </a:b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музыку жизни».</a:t>
            </a: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В. А. Сухомлинский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Капля 5"/>
          <p:cNvSpPr/>
          <p:nvPr/>
        </p:nvSpPr>
        <p:spPr>
          <a:xfrm>
            <a:off x="642960" y="785880"/>
            <a:ext cx="7143480" cy="5571720"/>
          </a:xfrm>
          <a:prstGeom prst="teardrop">
            <a:avLst>
              <a:gd name="adj" fmla="val 118527"/>
            </a:avLst>
          </a:prstGeom>
          <a:blipFill rotWithShape="0">
            <a:blip r:embed="rId1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40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Систем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формирование у ребенка системы знаний и организация системы различных видов детской деятельности. «каждое последующее формирующееся представление или понятие вытекает из предыдущег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Блок-схема: решение 4"/>
          <p:cNvSpPr/>
          <p:nvPr/>
        </p:nvSpPr>
        <p:spPr>
          <a:xfrm>
            <a:off x="428760" y="428760"/>
            <a:ext cx="7857720" cy="5714640"/>
          </a:xfrm>
          <a:prstGeom prst="flowChartDecision">
            <a:avLst/>
          </a:prstGeom>
          <a:solidFill>
            <a:srgbClr val="7030a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chemeClr val="lt1"/>
                </a:solidFill>
                <a:latin typeface="Times New Roman"/>
              </a:rPr>
              <a:t>Преемств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Times New Roman"/>
              </a:rPr>
              <a:t>Упорядоченность, реализация принципа системности, отработка системы усложнения знаний по нарастающей в зависимости от возраста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500040"/>
            <a:ext cx="7467120" cy="5973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Улыбающееся лицо 3"/>
          <p:cNvSpPr/>
          <p:nvPr/>
        </p:nvSpPr>
        <p:spPr>
          <a:xfrm>
            <a:off x="857160" y="642960"/>
            <a:ext cx="6286320" cy="5500440"/>
          </a:xfrm>
          <a:prstGeom prst="smileyFace">
            <a:avLst>
              <a:gd name="adj" fmla="val 4653"/>
            </a:avLst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4400" spc="-1" strike="noStrike">
                <a:solidFill>
                  <a:schemeClr val="accent2"/>
                </a:solidFill>
                <a:latin typeface="Times New Roman"/>
              </a:rPr>
              <a:t>Интегр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cc00ff"/>
                </a:solidFill>
                <a:latin typeface="Times New Roman"/>
              </a:rPr>
              <a:t>необходимость экологизации всей деятельности педагогического коллектива и экологизации различных видов деятельности ребе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2"/>
          <p:cNvSpPr/>
          <p:nvPr/>
        </p:nvSpPr>
        <p:spPr>
          <a:xfrm>
            <a:off x="500040" y="336600"/>
            <a:ext cx="8214840" cy="447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спитатель детского сада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— главная, фигура педагогического процесса, в том числе и экологического воспитания. Являясь носителем экологической культуры, владея методикой экологического воспитания, он организует деятельность детей так, чтобы она была содержательной, эмоционально насыщенной, способствовала формированию практических навыков и необходимых представлений о природе и постепенно «переходила» в самостоятельное поведение детей. Ведущей в этом процессе должна стать совместная деятельность взрослого и реб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357120" y="357120"/>
            <a:ext cx="1999800" cy="1056960"/>
          </a:xfrm>
          <a:prstGeom prst="rect">
            <a:avLst/>
          </a:prstGeom>
          <a:solidFill>
            <a:srgbClr val="92d05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южетно ролевые  и д/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2"/>
          <p:cNvSpPr/>
          <p:nvPr/>
        </p:nvSpPr>
        <p:spPr>
          <a:xfrm>
            <a:off x="2714760" y="357120"/>
            <a:ext cx="1785600" cy="1056960"/>
          </a:xfrm>
          <a:prstGeom prst="rect">
            <a:avLst/>
          </a:prstGeom>
          <a:solidFill>
            <a:srgbClr val="92d05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смотр  фильмов  о 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4786200" y="357120"/>
            <a:ext cx="1714320" cy="1056960"/>
          </a:xfrm>
          <a:prstGeom prst="rect">
            <a:avLst/>
          </a:prstGeom>
          <a:solidFill>
            <a:srgbClr val="92d05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евые прогулки в прир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4"/>
          <p:cNvSpPr/>
          <p:nvPr/>
        </p:nvSpPr>
        <p:spPr>
          <a:xfrm>
            <a:off x="6786720" y="357120"/>
            <a:ext cx="1999800" cy="985320"/>
          </a:xfrm>
          <a:prstGeom prst="rect">
            <a:avLst/>
          </a:prstGeom>
          <a:solidFill>
            <a:srgbClr val="92d05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блюдение в 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5"/>
          <p:cNvSpPr/>
          <p:nvPr/>
        </p:nvSpPr>
        <p:spPr>
          <a:xfrm>
            <a:off x="357120" y="4071960"/>
            <a:ext cx="2071440" cy="1071360"/>
          </a:xfrm>
          <a:prstGeom prst="rect">
            <a:avLst/>
          </a:prstGeom>
          <a:solidFill>
            <a:srgbClr val="92d05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книг – самодел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6"/>
          <p:cNvSpPr/>
          <p:nvPr/>
        </p:nvSpPr>
        <p:spPr>
          <a:xfrm>
            <a:off x="7000920" y="2786040"/>
            <a:ext cx="1785600" cy="1071360"/>
          </a:xfrm>
          <a:prstGeom prst="rect">
            <a:avLst/>
          </a:prstGeom>
          <a:solidFill>
            <a:srgbClr val="92d05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ение детской художественной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7"/>
          <p:cNvSpPr/>
          <p:nvPr/>
        </p:nvSpPr>
        <p:spPr>
          <a:xfrm>
            <a:off x="6786720" y="4000680"/>
            <a:ext cx="1999800" cy="1056960"/>
          </a:xfrm>
          <a:prstGeom prst="rect">
            <a:avLst/>
          </a:prstGeom>
          <a:solidFill>
            <a:srgbClr val="92d05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уд 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не – центре  при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8"/>
          <p:cNvSpPr/>
          <p:nvPr/>
        </p:nvSpPr>
        <p:spPr>
          <a:xfrm>
            <a:off x="6643800" y="1500120"/>
            <a:ext cx="2142720" cy="1213920"/>
          </a:xfrm>
          <a:prstGeom prst="rect">
            <a:avLst/>
          </a:prstGeom>
          <a:solidFill>
            <a:srgbClr val="92d05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ытная, экспериментальная, поисков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357120" y="5214960"/>
            <a:ext cx="1999800" cy="1285560"/>
          </a:xfrm>
          <a:prstGeom prst="rect">
            <a:avLst/>
          </a:prstGeom>
          <a:solidFill>
            <a:srgbClr val="92d05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седы  с  детьми  на экологические  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0"/>
          <p:cNvSpPr/>
          <p:nvPr/>
        </p:nvSpPr>
        <p:spPr>
          <a:xfrm>
            <a:off x="4643280" y="5357880"/>
            <a:ext cx="1928520" cy="1142640"/>
          </a:xfrm>
          <a:prstGeom prst="rect">
            <a:avLst/>
          </a:prstGeom>
          <a:solidFill>
            <a:srgbClr val="92d05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бор коллекций семян, камней, оформление герба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1"/>
          <p:cNvSpPr/>
          <p:nvPr/>
        </p:nvSpPr>
        <p:spPr>
          <a:xfrm>
            <a:off x="6715080" y="5143680"/>
            <a:ext cx="2071440" cy="1356840"/>
          </a:xfrm>
          <a:prstGeom prst="rect">
            <a:avLst/>
          </a:prstGeom>
          <a:solidFill>
            <a:srgbClr val="92d05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а с календарями природы, дневниками наблю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12"/>
          <p:cNvSpPr/>
          <p:nvPr/>
        </p:nvSpPr>
        <p:spPr>
          <a:xfrm>
            <a:off x="2500200" y="5357880"/>
            <a:ext cx="1928520" cy="1142640"/>
          </a:xfrm>
          <a:prstGeom prst="rect">
            <a:avLst/>
          </a:prstGeom>
          <a:solidFill>
            <a:srgbClr val="92d05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образительная  деятельность  по экологической  тема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3"/>
          <p:cNvSpPr/>
          <p:nvPr/>
        </p:nvSpPr>
        <p:spPr>
          <a:xfrm>
            <a:off x="357120" y="1500120"/>
            <a:ext cx="2142720" cy="1356840"/>
          </a:xfrm>
          <a:prstGeom prst="rect">
            <a:avLst/>
          </a:prstGeom>
          <a:solidFill>
            <a:srgbClr val="92d05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матривание  дидактических картинок, иллюстраций  о природе</a:t>
            </a:r>
            <a:r>
              <a:rPr b="0" lang="ru-RU" sz="1800" spc="-1" strike="noStrike">
                <a:solidFill>
                  <a:schemeClr val="lt1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4"/>
          <p:cNvSpPr/>
          <p:nvPr/>
        </p:nvSpPr>
        <p:spPr>
          <a:xfrm>
            <a:off x="357120" y="2928960"/>
            <a:ext cx="1928520" cy="999720"/>
          </a:xfrm>
          <a:prstGeom prst="rect">
            <a:avLst/>
          </a:prstGeom>
          <a:solidFill>
            <a:srgbClr val="92d05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ологические  досуги, празд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Выноска с четырьмя стрелками 17"/>
          <p:cNvSpPr/>
          <p:nvPr/>
        </p:nvSpPr>
        <p:spPr>
          <a:xfrm>
            <a:off x="2428920" y="1928880"/>
            <a:ext cx="4428720" cy="2428560"/>
          </a:xfrm>
          <a:prstGeom prst="quadArrowCallout">
            <a:avLst>
              <a:gd name="adj1" fmla="val 18515"/>
              <a:gd name="adj2" fmla="val 18515"/>
              <a:gd name="adj3" fmla="val 18515"/>
              <a:gd name="adj4" fmla="val 48123"/>
            </a:avLst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0243e"/>
                </a:solidFill>
                <a:latin typeface="Times New Roman"/>
              </a:rPr>
              <a:t>Макет совместная деятельность  воспитателя  и воспитан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Нетрадиционные виды совместной деятельности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240" cy="5144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p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и 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ы; 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ypo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ки мышл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ния;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э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кружки; 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. эк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гически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 конкурсы; 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э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ги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ауцкионы, викторины, марафоны; 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. эк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гич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ски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  сказки; 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к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  исс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й  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ы; 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. лаб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pa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т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p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ия  юн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 эк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;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экологических карт; 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. эк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гич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ски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 выст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вки и эксп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зииии;   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э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ие 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;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. дни эк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гич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ск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   творчества; 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э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ческие 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ники и 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Скругленный прямоугольник 1"/>
          <p:cNvSpPr/>
          <p:nvPr/>
        </p:nvSpPr>
        <p:spPr>
          <a:xfrm>
            <a:off x="395280" y="1268280"/>
            <a:ext cx="4000320" cy="2214360"/>
          </a:xfrm>
          <a:prstGeom prst="roundRect">
            <a:avLst>
              <a:gd name="adj" fmla="val 16667"/>
            </a:avLst>
          </a:prstGeom>
          <a:solidFill>
            <a:srgbClr val="339933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10243e"/>
                </a:solidFill>
                <a:latin typeface="Times New Roman"/>
              </a:rPr>
              <a:t>Познавательный</a:t>
            </a: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•</a:t>
            </a: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Окружающая среда и здоровье ребен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•</a:t>
            </a: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Состояние окружающей среды в собственном микрорайоне, город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•</a:t>
            </a: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Пути решения этих пробл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 •</a:t>
            </a: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Развитие ребенка через знакомство с окружающим мир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•</a:t>
            </a: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Методики ознакомления ребенка с окружающим ми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2"/>
          <p:cNvSpPr/>
          <p:nvPr/>
        </p:nvSpPr>
        <p:spPr>
          <a:xfrm>
            <a:off x="4714920" y="1285920"/>
            <a:ext cx="4000320" cy="2142720"/>
          </a:xfrm>
          <a:prstGeom prst="roundRect">
            <a:avLst>
              <a:gd name="adj" fmla="val 16667"/>
            </a:avLst>
          </a:prstGeom>
          <a:solidFill>
            <a:srgbClr val="339933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0243e"/>
                </a:solidFill>
                <a:latin typeface="Times New Roman"/>
              </a:rPr>
              <a:t>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10243e"/>
                </a:solidFill>
                <a:latin typeface="Times New Roman"/>
              </a:rPr>
              <a:t>Участие в природоохранных акциях совместно с детьми •Участие в экологических праздниках, экскурсиях, походах •Выращивание раст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10243e"/>
                </a:solidFill>
                <a:latin typeface="Times New Roman"/>
              </a:rPr>
              <a:t> •</a:t>
            </a:r>
            <a:r>
              <a:rPr b="0" lang="ru-RU" sz="1800" spc="-1" strike="noStrike">
                <a:solidFill>
                  <a:srgbClr val="10243e"/>
                </a:solidFill>
                <a:latin typeface="Times New Roman"/>
              </a:rPr>
              <a:t>Чтение совместно с детьм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3"/>
          <p:cNvSpPr/>
          <p:nvPr/>
        </p:nvSpPr>
        <p:spPr>
          <a:xfrm>
            <a:off x="428760" y="3571920"/>
            <a:ext cx="4000320" cy="2928600"/>
          </a:xfrm>
          <a:prstGeom prst="roundRect">
            <a:avLst>
              <a:gd name="adj" fmla="val 16667"/>
            </a:avLst>
          </a:prstGeom>
          <a:solidFill>
            <a:srgbClr val="339933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0243e"/>
                </a:solidFill>
                <a:latin typeface="Times New Roman"/>
              </a:rPr>
              <a:t>Цен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10243e"/>
                </a:solidFill>
                <a:latin typeface="Times New Roman"/>
              </a:rPr>
              <a:t> •</a:t>
            </a:r>
            <a:r>
              <a:rPr b="0" lang="ru-RU" sz="1800" spc="-1" strike="noStrike">
                <a:solidFill>
                  <a:srgbClr val="10243e"/>
                </a:solidFill>
                <a:latin typeface="Times New Roman"/>
              </a:rPr>
              <a:t>Природа как универсальная ценность для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10243e"/>
                </a:solidFill>
                <a:latin typeface="Times New Roman"/>
              </a:rPr>
              <a:t> •</a:t>
            </a:r>
            <a:r>
              <a:rPr b="0" lang="ru-RU" sz="1800" spc="-1" strike="noStrike">
                <a:solidFill>
                  <a:srgbClr val="10243e"/>
                </a:solidFill>
                <a:latin typeface="Times New Roman"/>
              </a:rPr>
              <a:t>Значение природы в жизни челов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10243e"/>
                </a:solidFill>
                <a:latin typeface="Times New Roman"/>
              </a:rPr>
              <a:t>•</a:t>
            </a:r>
            <a:r>
              <a:rPr b="0" lang="ru-RU" sz="1800" spc="-1" strike="noStrike">
                <a:solidFill>
                  <a:srgbClr val="10243e"/>
                </a:solidFill>
                <a:latin typeface="Times New Roman"/>
              </a:rPr>
              <a:t>Здоровье ребенка и природа •Человек – часть природы •Формирование разумных потреб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4"/>
          <p:cNvSpPr/>
          <p:nvPr/>
        </p:nvSpPr>
        <p:spPr>
          <a:xfrm>
            <a:off x="4643280" y="3571920"/>
            <a:ext cx="4071600" cy="2999880"/>
          </a:xfrm>
          <a:prstGeom prst="roundRect">
            <a:avLst>
              <a:gd name="adj" fmla="val 16667"/>
            </a:avLst>
          </a:prstGeom>
          <a:solidFill>
            <a:srgbClr val="339933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10243e"/>
                </a:solidFill>
                <a:latin typeface="Times New Roman"/>
              </a:rPr>
              <a:t>Норматив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0243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•</a:t>
            </a: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Знание правил поведения вовремя отдыха на при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•</a:t>
            </a: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Выбор экологически безопасных участков для прогулок с деть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•</a:t>
            </a: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Экологическая безопасность жилища, экологически чистая продук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•</a:t>
            </a: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Знание психологических особенностей  ребенка, соответствующих его возрасту, потребностей, в том числе в общении с природ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5"/>
          <p:cNvSpPr/>
          <p:nvPr/>
        </p:nvSpPr>
        <p:spPr>
          <a:xfrm>
            <a:off x="928800" y="428760"/>
            <a:ext cx="7143480" cy="78552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10243e"/>
                </a:solidFill>
                <a:latin typeface="Times New Roman"/>
              </a:rPr>
              <a:t>Мод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10243e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10243e"/>
                </a:solidFill>
                <a:latin typeface="Times New Roman"/>
              </a:rPr>
              <a:t>«Экологическое просвещение родител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 rot="20986200">
            <a:off x="553680" y="2294640"/>
            <a:ext cx="8229240" cy="381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4">
                    <a:lumMod val="75000"/>
                  </a:schemeClr>
                </a:solidFill>
                <a:latin typeface="Times New Roman"/>
              </a:rPr>
              <a:t>«Экологическое лукошко»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4">
                    <a:lumMod val="75000"/>
                  </a:schemeClr>
                </a:solidFill>
                <a:latin typeface="Times New Roman"/>
              </a:rPr>
              <a:t>деловая игра для педагогов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3060000" y="3717000"/>
            <a:ext cx="3096720" cy="25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 rot="20933400">
            <a:off x="541440" y="2304360"/>
            <a:ext cx="6706800" cy="3812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1f497d"/>
                </a:solidFill>
                <a:latin typeface="Times New Roman"/>
              </a:rPr>
              <a:t>      </a:t>
            </a:r>
            <a:r>
              <a:rPr b="1" i="1" lang="ru-RU" sz="4400" spc="-1" strike="noStrike">
                <a:solidFill>
                  <a:schemeClr val="accent4">
                    <a:lumMod val="75000"/>
                  </a:schemeClr>
                </a:solidFill>
                <a:latin typeface="Times New Roman"/>
              </a:rPr>
              <a:t>« Из опыта  работы»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3204000" y="2853000"/>
            <a:ext cx="4619160" cy="2889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1"/>
          <p:cNvSpPr/>
          <p:nvPr/>
        </p:nvSpPr>
        <p:spPr>
          <a:xfrm>
            <a:off x="428760" y="336600"/>
            <a:ext cx="8357760" cy="5394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ые ориенти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ОЛОГИЧЕСКОГО ОБРАЗ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дагог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ветственно подходят к организации природной среды в группах, внедряют в практику новые технологии, знают методику экологического воспитания, ведут экспериментальную работу с детьми, разрабатывают интегрированные занятия, занимаются экологическим просвещением роди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школьни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дуются встрече с природой •по собственной инициативе наблюдают за живыми объектами •видят разнообразие природного мира •признают ценность жизни •имеют представления о правилах поведения в природе •сформировано начало экологической куль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дите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ствуют в совместных акциях и приобщении детей к миру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8360" y="274680"/>
            <a:ext cx="298080" cy="84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755640" y="548640"/>
            <a:ext cx="7488360" cy="46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Цель педагогического совет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 для  формирования целостной  системы  экологического  воспитания  дошкольников  через реализацию  принципа интеграции  образовательных областей в различ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дачи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атизировать  работу в детском саду по формированию у дошкольников основ экологической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вершенствовать педагогическое мастерство педагогов, установить взаимодействие специалистов и педагогов ДОУ по данной темати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одействовать сотрудничеству детей и взрослых в благоустройстве и озеленении территории ДО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357120"/>
            <a:ext cx="4834440" cy="614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</a:rPr>
              <a:t>Всё хорошее в детях из детства! Как истоки добра пробудить? Прикоснуться к природе всем сердцем: 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</a:rPr>
              <a:t>Удивиться, узнать, полюбить!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1f497d"/>
                </a:solidFill>
                <a:latin typeface="Times New Roman"/>
              </a:rPr>
              <a:t>Мы хотим, чтоб земля расцветала. 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</a:rPr>
              <a:t>Росли как цветы, малыши 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</a:rPr>
              <a:t>Чтоб для них экология стала 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</a:rPr>
              <a:t>Не наукой, а частью души!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5508000" y="1989000"/>
            <a:ext cx="2601720" cy="3084120"/>
          </a:xfrm>
          <a:prstGeom prst="rect">
            <a:avLst/>
          </a:prstGeom>
          <a:ln w="9525">
            <a:noFill/>
          </a:ln>
        </p:spPr>
      </p:pic>
    </p:spTree>
  </p:cSld>
  <p:transition>
    <p:comb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210800" cy="116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ение педагогического совета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884360" y="272880"/>
            <a:ext cx="802080" cy="56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1434960"/>
            <a:ext cx="7858800" cy="4690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Прямоугольник 4"/>
          <p:cNvSpPr/>
          <p:nvPr/>
        </p:nvSpPr>
        <p:spPr>
          <a:xfrm>
            <a:off x="683640" y="1720800"/>
            <a:ext cx="698436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Для систематизации   работы по формированию у дошкольников основ экологической культуры  разработать рабочую программу по экологическому воспитанию в каждой возрастной  группе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роки- до 25 мая 2017г;   ответственный- воспитатели груп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Провести  открытое мероприятие , посвященное всемирному, Дню Леса, (21 марта ) Дню Земли (21 апре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16.03- 20.04 17г сроки-  - ответственный-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Разработать и оформить совместно  с родителями и детьми  экологический паспорт  участков гру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роки- до 25 мая 2017г;   ответственный- воспитатели групп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вестка педагогического совета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700640"/>
            <a:ext cx="8229240" cy="5157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рода и ребенок . Воспитание  экологической  культуры  дошкольника в рамках ФГОС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ст. воспитатель Ананина О.А.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из  образовательной деятельности  по экологии в ДОУ. 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ст. воспитатель Ананина О.А.);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ловая игра «Экологическое лукошко»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муз. руководитель Кирпиченко Е.А.);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зентации «Из опыта работы»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воспитатели групп);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шение  педагогического совета.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571680" y="500040"/>
            <a:ext cx="8000640" cy="478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.А.Сухомлинский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считал природу главным источником всестороннего развити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.Д.Ушинский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называл природу великой воспитательницей: «Побудить в детях живое чувство природы – значит возбудить одно из самых благодетельных, воспитывающих душу влияний»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Михаил Пришвин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сказал: “Все прекрасное на Земле – от Солнца, и все хорошее от человека”. “Рыбе – вода, птице – воздух, зверю – лес, степь, горы. А человеку нужна Родина. Охранять природу – значит охранять Родину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642960" y="500040"/>
            <a:ext cx="7857720" cy="496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•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Цель экологическ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-  на сегодняшний день очень важно формирование человека нового типа с новым экологическим мышлением, способного осознавать последствия своих действий по отношению к окружающей среде и умеющего жить в относительной гармонии с прир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357120" y="571680"/>
            <a:ext cx="8286480" cy="58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чи экологического воспитания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StarSymbol"/>
              <a:buAutoNum type="arabicPeriod"/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Развитие у воспитанников представлений и  элементарных понятий о взаимосвязях и  взаимоотношениях человека и приро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StarSymbol"/>
              <a:buAutoNum type="arabicPeriod"/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Формирование эмоционально – ценностного отношения к  приро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StarSymbol"/>
              <a:buAutoNum type="arabicPeriod"/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Осознание своего собственного «Я» как части приро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StarSymbol"/>
              <a:buAutoNum type="arabicPeriod"/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Обобщение опыта практической деятельности по отражению полученных знаний и впечатлений от взаимодействия с природой, окружающим ми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Экологическое образование дошкольников в рамках ФГОС.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92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ание   эф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тивной  системы  экологического образования   в  детском саду, основанной  на интегрированном подходе.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ализация э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ния    через разные виды деятельности  ребенка: 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-экспериментирование;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-наблюдение;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-труд;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-игру;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-музыкальную;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изобразительную;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-физическую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3"/>
          <p:cNvSpPr/>
          <p:nvPr/>
        </p:nvSpPr>
        <p:spPr>
          <a:xfrm>
            <a:off x="428760" y="285840"/>
            <a:ext cx="8214840" cy="5938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н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- не самоцель, они лишь помогают сформировать у детей определенное отношение к природе, экологически грамотное и безопасное поведение, активную жизненную позицию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детей дошкольного возраста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очень развит познавательный интерес, в частности к природе. Именно в этом возрасте они воспринимают мир в целом, что способствует формированию экологического мировоззрения. Очень важно поддерживать этот познавательный интер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Тема Office">
  <a:themeElements>
    <a:clrScheme name="Другая 13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d26900"/>
      </a:hlink>
      <a:folHlink>
        <a:srgbClr val="fbd5b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Другая 13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d26900"/>
      </a:hlink>
      <a:folHlink>
        <a:srgbClr val="fbd5b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Другая 13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d26900"/>
      </a:hlink>
      <a:folHlink>
        <a:srgbClr val="fbd5b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Другая 13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d26900"/>
      </a:hlink>
      <a:folHlink>
        <a:srgbClr val="fbd5b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ма Office">
  <a:themeElements>
    <a:clrScheme name="Другая 13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d26900"/>
      </a:hlink>
      <a:folHlink>
        <a:srgbClr val="fbd5b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d26900"/>
      </a:hlink>
      <a:folHlink>
        <a:srgbClr val="fbd5b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9</TotalTime>
  <Application>LibreOffice/7.4.7.2$Linux_X86_64 LibreOffice_project/40$Build-2</Application>
  <AppVersion>15.0000</AppVersion>
  <Words>1484</Words>
  <Paragraphs>160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3T08:38:35Z</dcterms:created>
  <dc:creator>Елена</dc:creator>
  <dc:description/>
  <dc:language>en-US</dc:language>
  <cp:lastModifiedBy>www.PHILka.RU</cp:lastModifiedBy>
  <dcterms:modified xsi:type="dcterms:W3CDTF">2017-03-16T06:15:56Z</dcterms:modified>
  <cp:revision>9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31</vt:r8>
  </property>
</Properties>
</file>