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8E8316-2ED9-4720-8C0F-06F908763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295A4E-E383-4E32-804E-0B5F47B599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861-5489-4C06-B31A-3AB90474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0DD-CFA4-4AC8-A2B5-455B536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8D6-E3B6-4A1C-B9DA-5A6AE4A8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B9D-89D9-4601-BB21-90A30E89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27CD-1C23-477B-A39D-004E0DCF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D13A-1FE0-408E-A23C-FC565E03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2D11-5A96-42BC-A4FF-242D7CA1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8DCC-9A30-4CB2-88E1-B4A08BD4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A8C8-4A8F-450D-A11C-038C098D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19DE-18FE-4CAC-8C84-EE7C3FE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5CD9-C7F6-46F2-BF59-6526054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D80-9729-466C-B96E-488FE18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1FA1-ED38-4E97-A4F6-316C7E63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270C-8E99-405D-9F45-3059CFF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4BE4-C092-4DA3-AE2B-5BB48CDF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D22D-2DF8-42DA-B9D8-61635BDB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0C93-15F9-436D-8DC4-02A17396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DB6A-219C-416A-9AF2-0F6183ED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9192-54AF-45A3-BD08-3D105557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B62B-E7D0-46E2-A304-36E8A24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2DBA-60CF-4AB6-B4A0-D9FB068F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5A4E-5F13-4948-B954-A5519ECA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AB9-E13D-4C0B-9528-09DECE9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322B-27AE-4B59-9786-EAA6970A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0829-CED4-4E1C-BAA3-652DA33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E74D-DDE5-451E-B1CC-715671E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4197-C7D2-4155-80E3-67B284B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2751-F935-4153-995F-58D35C6A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C0D8-C983-43C5-9AB1-909E9F88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1097-A392-4786-8465-C85F0898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2077-3151-465B-8106-94A199A8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D5AE-F7C7-4E87-9045-33DB53FE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0C05-0167-49B6-A282-4A25377B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A28-0E67-4C36-89A3-6F4FFC82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56D1-53DE-4C49-AAE1-3A3C2C06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82B7-9640-4706-8127-2B7CC93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1F459-125C-41FD-923C-9DFD06A5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C91D-6945-46CF-A597-543085FA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31D3-EBD6-4586-91D4-C27975B2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F11C-3E65-4C5A-BA12-02103A8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D04D4-B913-482B-8111-A42D65E2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53BB-6961-4233-B04F-D359FBF7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33D1-0C68-48C7-9CB6-55748C27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1CA5-6BBF-4EF2-A813-5DD0DD70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03C-6459-4D2A-8D9E-74CDE0E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B8C2-117D-4665-BBD6-468F3E0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8230C-560F-482C-938B-BC7C6D83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941D9-AE9F-4F3E-A0B2-DB15AA5D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94E0-F594-406B-8702-01AF50B9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9C5EB-815B-48CB-8AE2-D2EEFC0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719B-2C20-4354-B4AD-D3A705E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55CC-E88F-4E63-92B4-D42F3EB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43B93-2C19-44C9-8B34-1208C86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D4D7-49F8-47F8-AFFF-362A3918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C92F-309F-4B7D-A1D6-7204E848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7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6EC-AC8A-4C4B-8801-A7AB905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303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031520" y="27288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57516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303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031520" y="3330360"/>
            <a:ext cx="164556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24B4-A2D8-4898-BFB0-0C68ADC2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33B-D6CD-48E8-B959-E8B90E8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94160" y="333036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0A2-EF05-4BBF-B3E4-8B5AF14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7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94160" y="272880"/>
            <a:ext cx="24940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75160" y="3330360"/>
            <a:ext cx="5111280" cy="27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C38-9F23-44F9-8CD7-BF7A0D0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03252-3468-4D70-AC59-2B320C60C467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D3E42D-FE82-4997-80F2-3BC66F59A3E0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1A6AB9-4EEB-4B13-B755-C7E690219F67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1C6B49-3421-4E01-8901-15AE6CD14645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25448D-0059-4252-83CC-CEF28DA56323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1"/>
          <p:cNvSpPr/>
          <p:nvPr/>
        </p:nvSpPr>
        <p:spPr>
          <a:xfrm>
            <a:off x="971640" y="620640"/>
            <a:ext cx="77173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9855"/>
                </a:solidFill>
                <a:latin typeface="Times New Roman"/>
              </a:rPr>
              <a:t>Формирование экологической  культуры дошкольника через интеграцию образовательных областей  в рамках ФГ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708000" y="4509000"/>
            <a:ext cx="5059440" cy="19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8b8b8b"/>
                </a:solidFill>
                <a:latin typeface="Times New Roman"/>
              </a:rPr>
              <a:t>Педагогический совет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b8b8b"/>
                </a:solidFill>
                <a:latin typeface="Times New Roman"/>
              </a:rPr>
              <a:t>28.02.20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578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должно отличаться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учностью. Несмотря на возраст, дети должны получать в доступной форме научные представления об окружающем мире, в частности, о природе. Формирование научного мировоззрения особенно важно в наше время, когда в обществе широко распространено мифологизированное сознание, не научный подход к объяснению природных явлений;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пособствовать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ормированию у детей целостного восприятия окружающего мира, с одной стороны, и взаимосвязей частей этого целого - с друго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332640"/>
            <a:ext cx="8496720" cy="62643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76320">
            <a:solidFill>
              <a:srgbClr val="00b050"/>
            </a:solidFill>
            <a:miter/>
          </a:ln>
        </p:spPr>
        <p:txBody>
          <a:bodyPr numCol="1" spcCol="0" anchor="t">
            <a:noAutofit/>
          </a:bodyPr>
          <a:p>
            <a:pPr marL="2728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ринципы отбора содержания экологического образования дошкольников</a:t>
            </a:r>
            <a:endParaRPr b="0" lang="ru-RU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7120" y="214200"/>
            <a:ext cx="7786440" cy="625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7-конечная звезда 3"/>
          <p:cNvSpPr/>
          <p:nvPr/>
        </p:nvSpPr>
        <p:spPr>
          <a:xfrm>
            <a:off x="857160" y="0"/>
            <a:ext cx="7786440" cy="642888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f2e2b"/>
                </a:solidFill>
                <a:latin typeface="Times New Roman"/>
              </a:rPr>
              <a:t>Науч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f2e2b"/>
                </a:solidFill>
                <a:latin typeface="Times New Roman"/>
              </a:rPr>
              <a:t>формирование мотивации действий ребенка, развития познавательного интереса, формирование основ его мировоз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Солнце 3"/>
          <p:cNvSpPr/>
          <p:nvPr/>
        </p:nvSpPr>
        <p:spPr>
          <a:xfrm>
            <a:off x="500040" y="285840"/>
            <a:ext cx="8286480" cy="6357600"/>
          </a:xfrm>
          <a:prstGeom prst="sun">
            <a:avLst>
              <a:gd name="adj" fmla="val 25000"/>
            </a:avLst>
          </a:prstGeom>
          <a:solidFill>
            <a:schemeClr val="accent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Доступ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Times New Roman"/>
              </a:rPr>
              <a:t>Крайне важным является принцип доступности материала для ребенка определен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7972200" cy="5758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Облако 3"/>
          <p:cNvSpPr/>
          <p:nvPr/>
        </p:nvSpPr>
        <p:spPr>
          <a:xfrm>
            <a:off x="785880" y="1000080"/>
            <a:ext cx="7286400" cy="4571640"/>
          </a:xfrm>
          <a:prstGeom prst="cloud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3"/>
                </a:solidFill>
                <a:latin typeface="Times New Roman"/>
              </a:rPr>
              <a:t>Гуманист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/>
                </a:solidFill>
                <a:latin typeface="Times New Roman"/>
              </a:rPr>
              <a:t>Экологическое воспитание тесно связано  с развитием эмоций ребенка, умения сочувствовать, удивляться, сопереживать, заботиться о живых организмах, воспринимать их как братьев по природе, уметь видеть красоту окружающего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Блок-схема: перфолента 4"/>
          <p:cNvSpPr/>
          <p:nvPr/>
        </p:nvSpPr>
        <p:spPr>
          <a:xfrm>
            <a:off x="285840" y="571680"/>
            <a:ext cx="8143560" cy="5571720"/>
          </a:xfrm>
          <a:prstGeom prst="flowChartPunchedTape">
            <a:avLst/>
          </a:prstGeom>
          <a:solidFill>
            <a:srgbClr val="7030a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Times New Roman"/>
              </a:rPr>
              <a:t>Прогност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lt1"/>
                </a:solidFill>
                <a:latin typeface="Times New Roman"/>
              </a:rPr>
              <a:t>формирование элементарных представлений о существующих в природе взаимосвязях и на основе этих представлений — умение прогнозировать свои действия по отношению к окружающей среде во время отдыха, труда в природе и бытовых услов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Табличка 5"/>
          <p:cNvSpPr/>
          <p:nvPr/>
        </p:nvSpPr>
        <p:spPr>
          <a:xfrm>
            <a:off x="500040" y="357120"/>
            <a:ext cx="7429320" cy="5857560"/>
          </a:xfrm>
          <a:prstGeom prst="plaque">
            <a:avLst>
              <a:gd name="adj" fmla="val 16667"/>
            </a:avLst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chemeClr val="accent4"/>
                </a:solidFill>
                <a:latin typeface="Times New Roman"/>
              </a:rPr>
              <a:t>Деятельност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 cap="all">
                <a:solidFill>
                  <a:schemeClr val="accent4"/>
                </a:solidFill>
                <a:latin typeface="Times New Roman"/>
              </a:rPr>
              <a:t>Экологические знания должны помочь понять ребенку, что нужно сделать для того, чтобы сохранить окружающую его самого и его близких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16-конечная звезда 3"/>
          <p:cNvSpPr/>
          <p:nvPr/>
        </p:nvSpPr>
        <p:spPr>
          <a:xfrm>
            <a:off x="899640" y="764640"/>
            <a:ext cx="7857720" cy="5776200"/>
          </a:xfrm>
          <a:prstGeom prst="star16">
            <a:avLst>
              <a:gd name="adj" fmla="val 375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4d78bb"/>
                </a:solidFill>
                <a:latin typeface="Times New Roman"/>
              </a:rPr>
              <a:t>Целос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 cap="all">
                <a:solidFill>
                  <a:srgbClr val="4d78bb"/>
                </a:solidFill>
                <a:latin typeface="Times New Roman"/>
              </a:rPr>
              <a:t>Этот принцип отражает прежде всего целостное восприятие ребенком окружающего мира и его единство с миром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15120" cy="4873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авильный пятиугольник 5"/>
          <p:cNvSpPr/>
          <p:nvPr/>
        </p:nvSpPr>
        <p:spPr>
          <a:xfrm>
            <a:off x="785880" y="0"/>
            <a:ext cx="7500600" cy="6286320"/>
          </a:xfrm>
          <a:prstGeom prst="pentagon">
            <a:avLst>
              <a:gd name="hf" fmla="val 105146"/>
              <a:gd name="vf" fmla="val 11055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Конструктив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педагог обязан показать ребенку положительный пример или вероятный выход из обсуждаемой ситуации. Важно привести примеры успешно решенных экологических проблем, желательно на примерах ближайше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Овальная выноска 3"/>
          <p:cNvSpPr/>
          <p:nvPr/>
        </p:nvSpPr>
        <p:spPr>
          <a:xfrm>
            <a:off x="642960" y="785880"/>
            <a:ext cx="8000640" cy="5000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Регионализм</a:t>
            </a: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accent5">
                    <a:lumMod val="75000"/>
                  </a:schemeClr>
                </a:solidFill>
                <a:latin typeface="Times New Roman"/>
              </a:rPr>
              <a:t>Формирование экологических представлений  ребенка происходит на основе его знакомства с помещением дошкольного учреждения и его территорией, собственной квартирой, дачей, ближайшим парком, сквером, лесом, оз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25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Человек стал человеком, когда услышал шепот листьев и песню кузнечика, журчание весеннего ручья и звон серебряных колокольчиков в бездонном летнем небе, шорох снежинок и завывание вьюги за окном, ласковый плеск волны и торжественную тишину ночи, – услышал, и, затаив дыхание, слушает сотни и тысячи лет чудесную</a:t>
            </a:r>
            <a:br>
              <a:rPr sz="3100"/>
            </a:b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музыку жизни».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. А. Сухомлинский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Капля 5"/>
          <p:cNvSpPr/>
          <p:nvPr/>
        </p:nvSpPr>
        <p:spPr>
          <a:xfrm>
            <a:off x="642960" y="785880"/>
            <a:ext cx="7143480" cy="5571720"/>
          </a:xfrm>
          <a:prstGeom prst="teardrop">
            <a:avLst>
              <a:gd name="adj" fmla="val 11852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Систем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формирование у ребенка системы знаний и организация системы различных видов детской деятельности. «каждое последующее формирующееся представление или понятие вытекает из предыдуще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Блок-схема: решение 4"/>
          <p:cNvSpPr/>
          <p:nvPr/>
        </p:nvSpPr>
        <p:spPr>
          <a:xfrm>
            <a:off x="428760" y="428760"/>
            <a:ext cx="7857720" cy="5714640"/>
          </a:xfrm>
          <a:prstGeom prst="flowChartDecision">
            <a:avLst/>
          </a:prstGeom>
          <a:solidFill>
            <a:srgbClr val="7030a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lt1"/>
                </a:solidFill>
                <a:latin typeface="Times New Roman"/>
              </a:rPr>
              <a:t>Преем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Times New Roman"/>
              </a:rPr>
              <a:t>Упорядоченность, реализация принципа системности, отработка системы усложнения знаний по нарастающей в зависимости от возраста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7467120" cy="5973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Улыбающееся лицо 3"/>
          <p:cNvSpPr/>
          <p:nvPr/>
        </p:nvSpPr>
        <p:spPr>
          <a:xfrm>
            <a:off x="857160" y="642960"/>
            <a:ext cx="6286320" cy="55004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chemeClr val="accent2"/>
                </a:solidFill>
                <a:latin typeface="Times New Roman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необходимость экологизации всей деятельности педагогического коллектива и экологизации различных видов деятельности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2"/>
          <p:cNvSpPr/>
          <p:nvPr/>
        </p:nvSpPr>
        <p:spPr>
          <a:xfrm>
            <a:off x="500040" y="336600"/>
            <a:ext cx="821484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 детского сада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— главная, фигура педагогического процесса, в том числе и экологического воспитания. Являясь носителем экологической культуры, владея методикой экологического воспитания, он организует деятельность детей так, чтобы она была содержательной, эмоционально насыщенной, способствовала формированию практических навыков и необходимых представлений о природе и постепенно «переходила» в самостоятельное поведение детей. Ведущей в этом процессе должна стать совместная деятельность взрослого и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357120" y="357120"/>
            <a:ext cx="199980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южетно ролевые  и д/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2714760" y="357120"/>
            <a:ext cx="178560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 фильмов  о 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4786200" y="357120"/>
            <a:ext cx="171432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гулки в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6786720" y="357120"/>
            <a:ext cx="1999800" cy="98532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людение в 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357120" y="4071960"/>
            <a:ext cx="2071440" cy="10713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книг – самоде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6"/>
          <p:cNvSpPr/>
          <p:nvPr/>
        </p:nvSpPr>
        <p:spPr>
          <a:xfrm>
            <a:off x="7000920" y="2786040"/>
            <a:ext cx="1785600" cy="10713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ение детской художественной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6786720" y="4000680"/>
            <a:ext cx="1999800" cy="10569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 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е – центре 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8"/>
          <p:cNvSpPr/>
          <p:nvPr/>
        </p:nvSpPr>
        <p:spPr>
          <a:xfrm>
            <a:off x="6643800" y="1500120"/>
            <a:ext cx="2142720" cy="121392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ная, экспериментальная, поиск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357120" y="5214960"/>
            <a:ext cx="1999800" cy="128556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седы  с  детьми  на экологические 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0"/>
          <p:cNvSpPr/>
          <p:nvPr/>
        </p:nvSpPr>
        <p:spPr>
          <a:xfrm>
            <a:off x="4643280" y="5357880"/>
            <a:ext cx="1928520" cy="11426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ор коллекций семян, камней, оформление герб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1"/>
          <p:cNvSpPr/>
          <p:nvPr/>
        </p:nvSpPr>
        <p:spPr>
          <a:xfrm>
            <a:off x="6715080" y="5143680"/>
            <a:ext cx="2071440" cy="13568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с календарями природы, дневниками наблю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2"/>
          <p:cNvSpPr/>
          <p:nvPr/>
        </p:nvSpPr>
        <p:spPr>
          <a:xfrm>
            <a:off x="2500200" y="5357880"/>
            <a:ext cx="1928520" cy="11426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зительная  деятельность  по экологической 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3"/>
          <p:cNvSpPr/>
          <p:nvPr/>
        </p:nvSpPr>
        <p:spPr>
          <a:xfrm>
            <a:off x="357120" y="1500120"/>
            <a:ext cx="2142720" cy="135684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атривание  дидактических картинок, иллюстраций  о природе</a:t>
            </a:r>
            <a:r>
              <a:rPr b="0" lang="ru-RU" sz="1800" spc="-1" strike="noStrike">
                <a:solidFill>
                  <a:schemeClr val="lt1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4"/>
          <p:cNvSpPr/>
          <p:nvPr/>
        </p:nvSpPr>
        <p:spPr>
          <a:xfrm>
            <a:off x="357120" y="2928960"/>
            <a:ext cx="1928520" cy="999720"/>
          </a:xfrm>
          <a:prstGeom prst="rect">
            <a:avLst/>
          </a:prstGeom>
          <a:solidFill>
            <a:srgbClr val="92d05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ческие  досуги, праз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Выноска с четырьмя стрелками 17"/>
          <p:cNvSpPr/>
          <p:nvPr/>
        </p:nvSpPr>
        <p:spPr>
          <a:xfrm>
            <a:off x="2428920" y="1928880"/>
            <a:ext cx="4428720" cy="2428560"/>
          </a:xfrm>
          <a:prstGeom prst="quadArrowCallout">
            <a:avLst>
              <a:gd name="adj1" fmla="val 18515"/>
              <a:gd name="adj2" fmla="val 18515"/>
              <a:gd name="adj3" fmla="val 18515"/>
              <a:gd name="adj4" fmla="val 48123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Макет совместная деятельность  воспитателя  и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Нетрадиционные виды совместной деятельност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240" cy="514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p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 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yp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ки мыш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ния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кружки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ески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конкурс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ауцкионы, викторины, марафон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 сказки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к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  исс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  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лаб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pa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p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я  юн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экологических карт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ки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выст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вки и эксп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зииии;  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ие 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. дни э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к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  творчества;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еские 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ники и 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Скругленный прямоугольник 1"/>
          <p:cNvSpPr/>
          <p:nvPr/>
        </p:nvSpPr>
        <p:spPr>
          <a:xfrm>
            <a:off x="395280" y="1268280"/>
            <a:ext cx="4000320" cy="221436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0243e"/>
                </a:solidFill>
                <a:latin typeface="Times New Roman"/>
              </a:rPr>
              <a:t>Познавательный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Окружающая среда и здоровье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Состояние окружающей среды в собственном микрорайоне,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Пути решения этих проб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Развитие ребенка через знакомство с окружающим ми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Методики ознакомления ребенка с окружающим ми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2"/>
          <p:cNvSpPr/>
          <p:nvPr/>
        </p:nvSpPr>
        <p:spPr>
          <a:xfrm>
            <a:off x="4714920" y="1285920"/>
            <a:ext cx="4000320" cy="214272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0243e"/>
                </a:solidFill>
                <a:latin typeface="Times New Roman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Участие в природоохранных акциях совместно с детьми •Участие в экологических праздниках, экскурсиях, походах •Выращива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Чтение совместно с детьм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3"/>
          <p:cNvSpPr/>
          <p:nvPr/>
        </p:nvSpPr>
        <p:spPr>
          <a:xfrm>
            <a:off x="428760" y="3571920"/>
            <a:ext cx="4000320" cy="292860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0243e"/>
                </a:solidFill>
                <a:latin typeface="Times New Roman"/>
              </a:rPr>
              <a:t>Цен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Природа как универсальная ценность для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 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Значение природы в жизни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800" spc="-1" strike="noStrike">
                <a:solidFill>
                  <a:srgbClr val="10243e"/>
                </a:solidFill>
                <a:latin typeface="Times New Roman"/>
              </a:rPr>
              <a:t>Здоровье ребенка и природа •Человек – часть природы •Формирование разумных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4"/>
          <p:cNvSpPr/>
          <p:nvPr/>
        </p:nvSpPr>
        <p:spPr>
          <a:xfrm>
            <a:off x="4643280" y="3571920"/>
            <a:ext cx="4071600" cy="299988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0243e"/>
                </a:solidFill>
                <a:latin typeface="Times New Roman"/>
              </a:rPr>
              <a:t>Норм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Знание правил поведения вовремя отдыха на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Выбор экологически безопасных участков для прогулок с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Экологическая безопасность жилища, экологически чистая продук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•</a:t>
            </a:r>
            <a:r>
              <a:rPr b="0" lang="ru-RU" sz="1600" spc="-1" strike="noStrike">
                <a:solidFill>
                  <a:srgbClr val="10243e"/>
                </a:solidFill>
                <a:latin typeface="Times New Roman"/>
              </a:rPr>
              <a:t>Знание психологических особенностей  ребенка, соответствующих его возрасту, потребностей, в том числе в общении с прир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928800" y="428760"/>
            <a:ext cx="7143480" cy="78552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10243e"/>
                </a:solidFill>
                <a:latin typeface="Times New Roman"/>
              </a:rPr>
              <a:t>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10243e"/>
                </a:solidFill>
                <a:latin typeface="Times New Roman"/>
              </a:rPr>
              <a:t>«Экологическое просвещение родител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 rot="20986200">
            <a:off x="553680" y="2294640"/>
            <a:ext cx="8229240" cy="381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«Экологическое лукошко»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деловая игра для педагогов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3060000" y="3717000"/>
            <a:ext cx="3096720" cy="25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 rot="20933400">
            <a:off x="541440" y="2304360"/>
            <a:ext cx="6706800" cy="381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1" i="1" lang="ru-RU" sz="44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« Из опыта  работы»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204000" y="2853000"/>
            <a:ext cx="4619160" cy="288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428760" y="336600"/>
            <a:ext cx="8357760" cy="539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ые ориент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о подходят к организации природной среды в группах, внедряют в практику новые технологии, знают методику экологического воспитания, ведут экспериментальную работу с детьми, разрабатывают интегрированные занятия, занимаются экологическим просвещением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дуются встрече с природой •по собственной инициативе наблюдают за живыми объектами •видят разнообразие природного мира •признают ценность жизни •имеют представления о правилах поведения в природе •сформировано начало экологической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т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вуют в совместных акциях и приобщении детей к миру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8360" y="274680"/>
            <a:ext cx="298080" cy="84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755640" y="548640"/>
            <a:ext cx="748836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 педагогического совет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 для  формирования целостной  системы  экологического  воспитания  дошкольников  через реализацию  принципа интеграции  образовательных областей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и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атизировать  работу в детском саду по формированию у дошкольников основ эколог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ершенствовать педагогическое мастерство педагогов, установить взаимодействие специалистов и педагогов ДОУ по данной темат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одействовать сотрудничеству детей и взрослых в благоустройстве и озеленении территории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483444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Всё хорошее в детях из детства! Как истоки добра пробудить? Прикоснуться к природе всем сердцем: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Удивиться, узнать, полюбить!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Мы хотим, чтоб земля расцветала.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Росли как цветы, малыши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Чтоб для них экология стала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Times New Roman"/>
              </a:rPr>
              <a:t>Не наукой, а частью души!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5508000" y="1989000"/>
            <a:ext cx="2601720" cy="3084120"/>
          </a:xfrm>
          <a:prstGeom prst="rect">
            <a:avLst/>
          </a:prstGeom>
          <a:ln w="9525">
            <a:noFill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210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педагогического совета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884360" y="272880"/>
            <a:ext cx="802080" cy="56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7858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83640" y="1720800"/>
            <a:ext cx="69843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систематизации   работы по формированию у дошкольников основ экологической культуры  разработать рабочую программу по экологическому воспитанию в каждой возрастной  групп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роки- до 25 мая 2017г;   ответственный- воспитатели гру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вести  открытое мероприятие , посвященное всемирному, Дню Леса, (21 марта ) Дню Земли (21 апр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6.03- 20.04 17г сроки-  - ответственный-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работать и оформить совместно  с родителями и детьми  экологический паспорт  участков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роки- до 25 мая 2017г;   ответственный- воспитатели групп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вестка педагогического совет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700640"/>
            <a:ext cx="8229240" cy="5157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рода и ребенок . Воспитание  экологической  культуры  дошкольника в рамках ФГОС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т. воспитатель Ананина О.А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 образовательной деятельности  по экологии в ДОУ. 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т. воспитатель Ананина О.А.)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овая игра «Экологическое лукошко»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муз. руководитель Кирпиченко Е.А.)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и «Из опыта работы»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воспитатели групп);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  педагогического совета.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571680" y="500040"/>
            <a:ext cx="8000640" cy="478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.А.Сухомлинский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читал природу главным источником всесторонне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.Д.Ушинский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азывал природу великой воспитательницей: «Побудить в детях живое чувство природы – значит возбудить одно из самых благодетельных, воспитывающих душу влияний»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ихаил Пришвин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казал: “Все прекрасное на Земле – от Солнца, и все хорошее от человека”. “Рыбе – вода, птице – воздух, зверю – лес, степь, горы. А человеку нужна Родина. Охранять природу – значит охранять Родин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642960" y="500040"/>
            <a:ext cx="7857720" cy="496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Цель экологическ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-  на сегодняшний день очень важно формирование человека нового типа с новым экологическим мышлением, способного осознавать последствия своих действий по отношению к окружающей среде и умеющего жить в относительной гармонии с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57120" y="571680"/>
            <a:ext cx="8286480" cy="58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экологического воспитания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азвитие у воспитанников представлений и  элементарных понятий о взаимосвязях и  взаимоотношениях человека и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Формирование эмоционально – ценностного отношения к 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сознание своего собственного «Я» как части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бобщение опыта практической деятельности по отражению полученных знаний и впечатлений от взаимодействия с природой, окружающим ми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Экологическое образование дошкольников в рамках ФГОС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2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ание   эф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ивной  системы  экологического образования   в  детском саду, основанной  на интегрированном подходе.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ация э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ния    через разные виды деятельности  ребенка: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экспериментирование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наблюдение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труд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игру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музыкальную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зобразительную;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-физическую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428760" y="285840"/>
            <a:ext cx="8214840" cy="593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- не самоцель, они лишь помогают сформировать у детей определенное отношение к природе, экологически грамотное и безопасное поведение, активную жизненную позиц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детей дошкольного возраста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чень развит познавательный интерес, в частности к природе. Именно в этом возрасте они воспринимают мир в целом, что способствует формированию экологического мировоззрения. Очень важно поддерживать этот познавательный инте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Другая 1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d26900"/>
      </a:hlink>
      <a:folHlink>
        <a:srgbClr val="fbd5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9</TotalTime>
  <Application>LibreOffice/7.4.7.2$Linux_X86_64 LibreOffice_project/40$Build-2</Application>
  <AppVersion>15.0000</AppVersion>
  <Words>1484</Words>
  <Paragraphs>16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www.PHILka.RU</cp:lastModifiedBy>
  <dcterms:modified xsi:type="dcterms:W3CDTF">2017-03-16T06:15:56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