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CF8-F056-4438-A509-0F52C754B9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265F-7A10-42A4-81B8-A4FCAADF2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D82-A25B-41BD-BDBC-22E44E96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D21-C823-44B2-90FE-0180321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10BCF-4BC2-4FAB-AAB4-5D40B4A9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0DD50-590A-46F1-9A88-5064DE9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DA6D1-0009-4122-9E18-B6829BC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98988-724B-4177-BE1C-B4511DD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106E-997E-411C-93D6-728A46D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45573-F513-42BE-B740-0FFCFF6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EFBA-284D-4EFD-9933-B5503F8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27E5C-9F35-45A2-A923-5CA88F07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B62F7-0D16-485F-AF25-40FBA48F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D04-5EDE-40AE-B9E7-0F3723E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574-BDBA-4348-9DEE-2A82072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C0A4-108B-4E2E-91BE-898D2308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E198-BF29-456E-B56C-83EA6AE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2CF-9E62-493B-AE8A-CEBA5A8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671-900D-4474-9003-F172482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0357-10B0-429F-9DD2-1359B42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BB1-47D5-4785-A7DA-73D7B25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107-8A8C-4322-8DE2-B0DFA49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50A-4619-4355-814B-D269909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27D2-7F44-4CCE-966C-EC72D61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42EC-FD4D-4FF1-983E-4DA8F11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40C3-6FA6-4E6C-958D-855F7D1D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B8C-038A-4223-BA3F-9B7629A5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F51B-28C4-4C61-86D3-388582EA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0C9C-1192-4297-A8A3-CF8FEAB9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AD38-3016-4888-A5AA-AF8A731F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82C7-331D-4E53-9353-4B7EBB1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8D5D-5B2B-471F-BE37-B200A56A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DA37-51DD-4E77-8CFD-60FACBEF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C34-47C2-4547-A793-18E69251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20EC-1DB9-40B1-A3BD-59A84F9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FC5F-3A45-4BF2-ABA5-368BB43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C6B2-26BB-4AF9-8A96-9D21668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50E6-5870-48B3-A386-CC80EDD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00C9-E81F-4B78-BB6B-A8C2182E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5B6C-C74D-4E7D-ABAD-5BC90460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F859-7B0E-42AB-8122-70DDF7C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2C0E-35A7-4F0F-AF9A-5250759B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D0D6-BF48-494F-BF04-5B4D113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F465-14B0-41D6-BEAB-9E782D0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3BD-D533-4542-A002-59FA55B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F355-5F7D-422D-BDBB-3ECC9BBD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254E-5785-4BF9-9680-3250FAD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9AAC-9145-45C4-8B15-AB258536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53CD-B1EA-41A9-B7EA-C119E08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A9FE-2128-4768-A5E4-36051CF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A599-80EB-45DF-8C24-FED8716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89C2-3EFE-47E8-A198-0CE2011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E056-B549-4501-B0BD-A2EF1599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0D84-3318-4AC0-B2AF-CC4BF7D2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49A3-F77D-481C-9325-BEDF513A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39A-B5C2-4501-84EC-0EC5F2A8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AEAB-F60D-4F4A-A777-164DDE4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18AC-9DB3-40B1-956B-0B7C2C3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AA95-F477-4BFB-A2E7-4E5DE3E5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40BA-DD2A-40A8-8A8F-A0222B3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41B8-5CFA-4279-BBF7-4274023C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1C10-A771-4B59-9C4E-3A6DB2E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BA52-AD4E-4D25-9775-8136D04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64B3-75D9-4285-8FB8-830DD52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91B3-31BB-47D1-8DCA-C85DA6F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00CF-47DD-45CC-A08E-5213B7F8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3B2-B840-4E0D-AAA7-DE396DF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74BF-1435-4586-B15B-CC59B48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32FE-A274-40EC-9E37-35A001D5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DA5B4-E70C-4A9D-A9AB-B2FF4DAB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D00A-9EAA-4C7C-B3E2-CFDBA14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81A87-B176-4C00-9CBE-E9F4F70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89BA-833D-4BA2-AAE2-A724218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5A80-E889-4F64-BCC3-83D19CAD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262D-945F-4F6E-B2DB-04E7F5E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869E-B739-44B8-8CBD-CA7E1F3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6C4E-1642-4D0F-95F8-7B53B8A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BB8-46AF-475A-9B2D-E463A02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1E86-AB52-4022-86EC-D17FC05D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34B1A-AC72-42EC-B8EF-E94A0FFA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2533E-6A3B-4072-B19D-981F3FE4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60EF-16A2-459D-9724-34996E01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0FA0-5EAA-40A6-B628-A4F851C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EE92-EF97-47A1-A4D4-04E3060A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6E9F-BD5D-4F44-84AA-459E42C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ADBF-1DF0-4951-A090-D7A43D6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9DF5-3D92-4287-ABBF-9EB7BB4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D08A-4C57-4CBA-A197-1B71A3E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7C8-F740-4F4C-93D1-D5A0407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A1EAC-AEAD-4A7C-BFC2-8F34D50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0E73-A13C-4E1A-AC3A-FB263B8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A05F-5F29-477D-BCB5-2651BCF7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BBA2-84F4-41EF-94E7-671A049B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DBE6-DDB3-402F-AD8B-D236809F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F807C-865C-431B-A641-913C764E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2741-07A1-404F-B48F-3C5DD8D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73DEA-99D2-4328-B25C-CD55435E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357F-74C8-4498-BDF3-167E411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268A7-7842-4C7D-99CD-EA1D3FF0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CC6-FEFF-408C-AFD5-56A5E29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D22B-B233-4191-9CF9-58422595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C7EF-A46F-4160-89B6-8970379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CFEF-4059-4A9A-BEEF-6EB22BB0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195DA-F42C-43E9-9602-EC124F3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E34D-2DB9-4ADD-AE99-3D5E817B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3B28-C231-4787-8D02-E75C4F54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6D0A-4763-4F05-B33B-BB6D3F78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E7F17-7BE6-482D-BDB3-4D6C3016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11A6A-95A4-47BF-972C-4DE3D862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788D2-F26F-4323-8A11-43BEF03F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2542-C501-4328-B4A5-31912C1220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186-D845-4D1B-AA2F-39774FFE34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9C29-ED88-435D-816A-CDECBAA8D9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32ED-4822-41C2-875E-10B2CB4FB8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490-B6D4-4B5D-83CF-F21FB5CE04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A606-A5FF-4383-A692-95B4747C3D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936-8AA1-425E-B852-BC9692C126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5E7C-4866-490D-8B4A-FCD9B349CC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92B-2C47-418D-A9FB-4CE1209813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82560" y="542880"/>
            <a:ext cx="7839000" cy="3059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Гранит,пизвестняк, песок и глина- это полезные ископаемые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казать, что хозяйственная деятельность человека невозможна без этих ископаемы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 изучить свой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 выяснить, для чего используют в хозяй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ли литератур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следовали свойства песка и гл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знали у взрослых, где применяется       песок и гли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Lucida Sans Unicode"/>
              </a:rPr>
              <a:t>Результаты исследования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8845200" y="6049800"/>
            <a:ext cx="2984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49" name="Прямая со стрелкой 4"/>
          <p:cNvCxnSpPr/>
          <p:nvPr/>
        </p:nvCxnSpPr>
        <p:spPr>
          <a:xfrm flipH="1">
            <a:off x="1785600" y="1499040"/>
            <a:ext cx="157248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0" name="Прямая со стрелкой 6"/>
          <p:cNvCxnSpPr/>
          <p:nvPr/>
        </p:nvCxnSpPr>
        <p:spPr>
          <a:xfrm>
            <a:off x="5929200" y="1642680"/>
            <a:ext cx="157248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1" name="Овал 7"/>
          <p:cNvSpPr/>
          <p:nvPr/>
        </p:nvSpPr>
        <p:spPr>
          <a:xfrm>
            <a:off x="369720" y="3286080"/>
            <a:ext cx="3357720" cy="26589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виде крупинок, сыпучий. Бывает различ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8"/>
          <p:cNvSpPr/>
          <p:nvPr/>
        </p:nvSpPr>
        <p:spPr>
          <a:xfrm>
            <a:off x="5500800" y="3286080"/>
            <a:ext cx="3643200" cy="27147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виде мельчайших частичек, которые скапливаясь образуют слои. Бывают жёлтого, белого и др.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54" name="Прямая со стрелкой 4"/>
          <p:cNvCxnSpPr/>
          <p:nvPr/>
        </p:nvCxnSpPr>
        <p:spPr>
          <a:xfrm flipH="1">
            <a:off x="499320" y="1500120"/>
            <a:ext cx="1715400" cy="1858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5" name="Прямая со стрелкой 6"/>
          <p:cNvCxnSpPr>
            <a:stCxn id="453" idx="2"/>
          </p:cNvCxnSpPr>
          <p:nvPr/>
        </p:nvCxnSpPr>
        <p:spPr>
          <a:xfrm>
            <a:off x="4648680" y="1676160"/>
            <a:ext cx="65520" cy="261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6929280" y="1571760"/>
            <a:ext cx="1501200" cy="1715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57" name="Овал 10" descr=""/>
          <p:cNvPicPr/>
          <p:nvPr/>
        </p:nvPicPr>
        <p:blipFill>
          <a:blip r:embed="rId2"/>
          <a:stretch/>
        </p:blipFill>
        <p:spPr>
          <a:xfrm>
            <a:off x="-30240" y="3681360"/>
            <a:ext cx="2565360" cy="982800"/>
          </a:xfrm>
          <a:prstGeom prst="rect">
            <a:avLst/>
          </a:prstGeom>
          <a:ln w="0">
            <a:noFill/>
          </a:ln>
        </p:spPr>
      </p:pic>
      <p:sp>
        <p:nvSpPr>
          <p:cNvPr id="458" name="Овал 11"/>
          <p:cNvSpPr/>
          <p:nvPr/>
        </p:nvSpPr>
        <p:spPr>
          <a:xfrm>
            <a:off x="3357720" y="4429080"/>
            <a:ext cx="2714400" cy="1214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12"/>
          <p:cNvSpPr/>
          <p:nvPr/>
        </p:nvSpPr>
        <p:spPr>
          <a:xfrm>
            <a:off x="6429240" y="3571920"/>
            <a:ext cx="2500560" cy="928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61" name="Прямая со стрелкой 4"/>
          <p:cNvCxnSpPr/>
          <p:nvPr/>
        </p:nvCxnSpPr>
        <p:spPr>
          <a:xfrm flipH="1">
            <a:off x="1071000" y="1427760"/>
            <a:ext cx="185796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2" name="Прямая со стрелкой 6"/>
          <p:cNvCxnSpPr/>
          <p:nvPr/>
        </p:nvCxnSpPr>
        <p:spPr>
          <a:xfrm>
            <a:off x="6072120" y="1357200"/>
            <a:ext cx="1929600" cy="15724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3" name="Овал 7"/>
          <p:cNvSpPr/>
          <p:nvPr/>
        </p:nvSpPr>
        <p:spPr>
          <a:xfrm>
            <a:off x="214200" y="3071880"/>
            <a:ext cx="2357640" cy="10713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8"/>
          <p:cNvSpPr/>
          <p:nvPr/>
        </p:nvSpPr>
        <p:spPr>
          <a:xfrm>
            <a:off x="6500880" y="3071880"/>
            <a:ext cx="2143080" cy="1143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ричневая и друг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Прямая со стрелкой 10"/>
          <p:cNvCxnSpPr/>
          <p:nvPr/>
        </p:nvCxnSpPr>
        <p:spPr>
          <a:xfrm flipH="1">
            <a:off x="1355400" y="4287600"/>
            <a:ext cx="2160" cy="572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6" name="Прямая со стрелкой 12"/>
          <p:cNvCxnSpPr/>
          <p:nvPr/>
        </p:nvCxnSpPr>
        <p:spPr>
          <a:xfrm flipH="1">
            <a:off x="7714440" y="4357440"/>
            <a:ext cx="2520" cy="572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7" name="Овал 14"/>
          <p:cNvSpPr/>
          <p:nvPr/>
        </p:nvSpPr>
        <p:spPr>
          <a:xfrm>
            <a:off x="285840" y="5000760"/>
            <a:ext cx="2286000" cy="12715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ар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15"/>
          <p:cNvSpPr/>
          <p:nvPr/>
        </p:nvSpPr>
        <p:spPr>
          <a:xfrm>
            <a:off x="6572160" y="5072040"/>
            <a:ext cx="2143080" cy="1200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ирпич и глиняная п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есок и глина – полезные ископаемые необходимые в хозяйственной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тская энциклопедия «Всё обо всём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. Плешаков «От земли до неб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атлас-определитель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  Ю. Гомозова «В гостях у мастера Глинчик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picture"/>
          <p:cNvPicPr/>
          <p:nvPr/>
        </p:nvPicPr>
        <p:blipFill>
          <a:blip r:embed="rId2"/>
          <a:stretch/>
        </p:blipFill>
        <p:spPr>
          <a:xfrm>
            <a:off x="468360" y="1844640"/>
            <a:ext cx="835164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71640" y="1196640"/>
            <a:ext cx="6781680" cy="448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нутри (в недрах) -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picture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759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76" name="Text Box 5"/>
          <p:cNvSpPr/>
          <p:nvPr/>
        </p:nvSpPr>
        <p:spPr>
          <a:xfrm>
            <a:off x="3924360" y="544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ь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picture"/>
          <p:cNvPicPr/>
          <p:nvPr/>
        </p:nvPicPr>
        <p:blipFill>
          <a:blip r:embed="rId1"/>
          <a:stretch/>
        </p:blipFill>
        <p:spPr>
          <a:xfrm>
            <a:off x="755640" y="260280"/>
            <a:ext cx="813744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78" name="Text Box 6"/>
          <p:cNvSpPr/>
          <p:nvPr/>
        </p:nvSpPr>
        <p:spPr>
          <a:xfrm>
            <a:off x="370836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овая установка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аз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рани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Тор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Угол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Известня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Горючее                    8. Имеет зап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Твердое                   9. Пропускает вод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Жидкое                   10.Сыпучее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Тяжелее воды        11.Легче воды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Черного цвета        12.Газообразно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Желтого цвета        13.Белого цве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. Хрупкое                   14.Пластич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Вариант 1 – 1, 4, 5, 7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Вариант 2 – 1,3, 8, 11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837720" y="90792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то находится в недрах Земл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войства полезных ископае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де они применяютс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4" descr=""/>
          <p:cNvPicPr/>
          <p:nvPr/>
        </p:nvPicPr>
        <p:blipFill>
          <a:blip r:embed="rId1"/>
          <a:stretch/>
        </p:blipFill>
        <p:spPr>
          <a:xfrm>
            <a:off x="682560" y="762120"/>
            <a:ext cx="77850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утри (в недрах) -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EARTH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утри (в недрах)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лезные ископаем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то находится в недрах Земл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войства полезных ископае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де они применяютс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57200" y="1484280"/>
          <a:ext cx="8388360" cy="4843440"/>
        </p:xfrm>
        <a:graphic>
          <a:graphicData uri="http://schemas.openxmlformats.org/drawingml/2006/table">
            <a:tbl>
              <a:tblPr/>
              <a:tblGrid>
                <a:gridCol w="1811160"/>
                <a:gridCol w="3024360"/>
                <a:gridCol w="3552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истый, твердый, пр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, изготовление памя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го цвета, твердый, хрупкий, гор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опление жилых помещений, краски, лекарства, пластмасса, ду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дкость темного цвета, с запахом бензина, горю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росин, бензин, вазелин, лекарства,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елкая взвесь, бурого, желтого, белого и др.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пич, пос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крупинок, сыпуч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и, стек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749160" y="237960"/>
            <a:ext cx="84013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Гранит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Известняк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Песок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Глина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«Зачем нужны гранит, известняк, песок и глина?»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1:32:49Z</dcterms:created>
  <dc:creator>Оля</dc:creator>
  <dc:description/>
  <dc:language>en-US</dc:language>
  <cp:lastModifiedBy> </cp:lastModifiedBy>
  <dcterms:modified xsi:type="dcterms:W3CDTF">2017-02-28T03:18:13Z</dcterms:modified>
  <cp:revision>13</cp:revision>
  <dc:subject/>
  <dc:title>Слайд 1</dc:title>
</cp:coreProperties>
</file>