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28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08FF-493E-4E80-909D-0D6D9ABCCC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ABF5-A10C-4A06-8463-BA49F4E12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307-BCBF-46AE-8945-D48AAF99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224-1ACE-4346-A7F3-262C5587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75AC1-917E-4365-A471-13BE5639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5D9FD-19C9-41FC-B612-BA61370B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7B4E7-5AB4-49FE-AA34-725A0E9C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2808C-F30C-455B-BEB3-83081F6C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4BB7C-7B38-4BAA-8488-081AA266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E490F-4AE9-4AD3-9172-B29893BF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30539-6330-445F-8A0B-A79A389E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16873-3701-4579-8D64-C90B36BF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577CD-C456-457C-B040-3B00B91B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956-D040-45D5-84F6-7518D04F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DC4-EC99-4328-B862-B1D24072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A7B6-338F-4A26-AA00-F0E9F010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358D-6D38-464F-A9DC-6687B8D2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25B6-5C8A-4A78-A72A-3879D8CD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E653-507E-4FDA-8FB0-958D7C33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4266-A2FA-4D55-B0B4-4C3D51B5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9477-A68F-4368-A4AB-D30FC060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1A70-B595-4EC2-A163-5126B5C6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E83-D544-4044-9D0A-611EC267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D520-0D56-43E7-B5E6-27EC3C2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8334-F72F-44B2-BEE8-BA3C375C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B208-89AD-4B52-BD66-7EE2C783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3885-77BD-4E7E-95EC-874FD2CC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0569-D590-4504-A56E-8698824A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BDCE-FA9A-45E1-9FB2-53D5B400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5A1C-788F-4AC7-B554-AD06FC8D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708A-C8FF-4763-9B39-B56AE20E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17429-72CD-4A47-B55B-2708424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5D3DD-0840-42C2-870A-6D3824D8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FCE-8B85-47C6-A18C-72CBACC7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B904-D3BE-4FAE-B773-655F42F5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5DBE-F27C-46D9-8642-28A0E771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19025-6220-4BE8-9423-C5342011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C561-9B60-45F1-A438-7E117097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8435F-1719-4690-B838-584633B1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923B9-4535-44E0-90CE-F6B78699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1717-526F-49D4-8ABD-4F8408F0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D90B5-771C-4960-AD40-A5878846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4AE43-C956-4596-A918-BFBA0340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3CD2-7205-4117-8946-011057E1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672-B651-4622-95F3-54B637DE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D1F63-4188-43B5-8DC8-8E14CE17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D370-01AD-4AFE-8214-27DE8841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9464-53F2-4963-AE07-FEA7B4DE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47C1A-7200-4842-8053-022599E9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A91D4-687E-42D4-85BD-BA2EA065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31628-1C5D-4786-AE6B-1F6A3B45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32BA1-008A-402D-8B8A-D5910DBD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7FB3-59B3-4AA3-BDC4-5886EE2F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58C6D-F2D1-40BE-9587-FF72DE9D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56BE-3EB1-456A-B233-6617D1BE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017-10DA-4F3E-885F-1708704F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0FC06-7E75-432D-B36F-DAE40D31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6D956-CF3B-4900-B6AB-714938AE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EEBB8-E20C-4D17-A04A-1E2E70F1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C404-69CB-47AA-B169-2922B0B3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5038-BDD4-4867-9D3E-50E3C72D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0228E-A199-470D-ADCB-4CAEC3C0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CB871-44FB-4A90-A2D9-92F7D60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109C7-A91A-4707-9132-48A4CA91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CFEB1-F9D1-4D8E-A270-E0AC5E2B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74E07-CBD3-4F5C-BB17-EB13CEB1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859-0739-458D-BA56-C4476477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3F990-502A-4FE5-8385-00B5AE87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B53F0-06E0-4C39-9F81-1BEA6D30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AB567-235A-471B-B694-B74232B4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644AB-16BC-492C-9748-2570228D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D4E5-321C-420B-BAA5-3D8E9CA7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D4F09-8F96-41C0-A0B6-3785BCC5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9B2C9-6B16-4257-BC90-3836C434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A5BF8-73E9-486C-B205-C937EC71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46F29-7ABF-48D1-8151-CA1134B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7FE43-1C1E-4948-8BE0-3A02C410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CCA-AB91-4B8D-BBBC-A09392F5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8710-5048-454F-8C4C-96F14491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71437-BFB3-40C1-8AC8-54128220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58B96-8DE3-42D9-9DF6-2F771A88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2C8D7-E01F-457E-938B-6AE4A8A6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488E9-E150-4158-8EDC-2D8D03AA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B3FDE-5F43-4350-8B00-44792272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18715-4A5D-4B5F-AB12-8B26DEAC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92CAF-620C-49A5-9E4B-85FDC1F3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09D4A-2AE4-4AB2-B373-C13DF823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B5A32-EAF9-45BD-BF1A-F0777813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E26-74EB-41BB-9532-1B38D7A3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450CF-CFC7-4C93-944A-B9E33441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48011-4B0C-4BDE-BE0E-FC626521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68027-0435-4CDD-A300-6AF59BC8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463A6-6C1A-4B5E-8F69-5EB8F289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2DF3B-589D-48E0-9896-D1855BD2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0F1C1-03E5-467E-8A2B-8458AA6A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0413B-0EEB-45A8-A9FB-E0BF35D2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09E71-468A-4477-9BFC-E0586575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72789-18A4-471C-B197-76065588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93530-AF65-4F4C-95EB-C52B2F2B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6B3-EC56-4DBC-A145-381E9F7F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4FF1B-3B46-4D74-B8B4-804EEE1E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1A520-7D7E-43D6-B932-8AA722CD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7592B-9707-4DAB-8E36-A234A8BB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4734C-F7CC-4ED7-8A54-15B92DF7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86515-2AC8-4B65-88AA-E6182449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C6A0F-75BA-4BB9-9A99-A5B6B6C0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53AA4-341B-4824-93BA-F47FBC19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A38C9-4154-4919-91EC-F2C87E4F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A79F6-4E2E-4D2C-A69F-9A6C4ABF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1AFE6-1ACA-476B-802A-042D3CF7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D345-F9FA-4564-83AE-0697DB7C1E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250A-4821-4569-998D-48398CE2AA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C711-A554-4C7D-86FC-95AABCF9B5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74EC-288D-47FF-8D10-13C82251A8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4C9A-F56D-4892-B2DB-2A250FA97A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9F0D-46AE-49C2-B471-E726E34F90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74E7-D1B4-401A-A261-A2685133B7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C593-CEC1-4DCE-9CA4-E50ABAB9CC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3408-145B-472C-A0B2-32332AE16B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682560" y="542880"/>
            <a:ext cx="7839000" cy="3059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Гранит,пизвестняк, песок и глина- это полезные ископаемые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казать, что хозяйственная деятельность человека невозможна без этих ископаемых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 изучить свойств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 выяснить, для чего используют в хозяйств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ли литературу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следовали свойства песка и гл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знали у взрослых, где применяется       песок и глин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Lucida Sans Unicode"/>
              </a:rPr>
              <a:t>Результаты исследования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8845200" y="6049800"/>
            <a:ext cx="29844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49" name="Прямая со стрелкой 4"/>
          <p:cNvCxnSpPr/>
          <p:nvPr/>
        </p:nvCxnSpPr>
        <p:spPr>
          <a:xfrm flipH="1">
            <a:off x="1785600" y="1499040"/>
            <a:ext cx="1572480" cy="1500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50" name="Прямая со стрелкой 6"/>
          <p:cNvCxnSpPr/>
          <p:nvPr/>
        </p:nvCxnSpPr>
        <p:spPr>
          <a:xfrm>
            <a:off x="5929200" y="1642680"/>
            <a:ext cx="1572480" cy="1500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51" name="Овал 7"/>
          <p:cNvSpPr/>
          <p:nvPr/>
        </p:nvSpPr>
        <p:spPr>
          <a:xfrm>
            <a:off x="369720" y="3286080"/>
            <a:ext cx="3357720" cy="26589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виде крупинок, сыпучий. Бывает различ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вал 8"/>
          <p:cNvSpPr/>
          <p:nvPr/>
        </p:nvSpPr>
        <p:spPr>
          <a:xfrm>
            <a:off x="5500800" y="3286080"/>
            <a:ext cx="3643200" cy="27147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виде мельчайших частичек, которые скапливаясь образуют слои. Бывают жёлтого, белого и др.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54" name="Прямая со стрелкой 4"/>
          <p:cNvCxnSpPr/>
          <p:nvPr/>
        </p:nvCxnSpPr>
        <p:spPr>
          <a:xfrm flipH="1">
            <a:off x="499320" y="1500120"/>
            <a:ext cx="1715400" cy="18583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55" name="Прямая со стрелкой 6"/>
          <p:cNvCxnSpPr>
            <a:stCxn id="453" idx="2"/>
          </p:cNvCxnSpPr>
          <p:nvPr/>
        </p:nvCxnSpPr>
        <p:spPr>
          <a:xfrm>
            <a:off x="4648680" y="1676160"/>
            <a:ext cx="65520" cy="2610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56" name="Прямая со стрелкой 8"/>
          <p:cNvCxnSpPr/>
          <p:nvPr/>
        </p:nvCxnSpPr>
        <p:spPr>
          <a:xfrm>
            <a:off x="6929280" y="1571760"/>
            <a:ext cx="1501200" cy="1715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57" name="Овал 10" descr=""/>
          <p:cNvPicPr/>
          <p:nvPr/>
        </p:nvPicPr>
        <p:blipFill>
          <a:blip r:embed="rId2"/>
          <a:stretch/>
        </p:blipFill>
        <p:spPr>
          <a:xfrm>
            <a:off x="-30240" y="3681360"/>
            <a:ext cx="2565360" cy="982800"/>
          </a:xfrm>
          <a:prstGeom prst="rect">
            <a:avLst/>
          </a:prstGeom>
          <a:ln w="0">
            <a:noFill/>
          </a:ln>
        </p:spPr>
      </p:pic>
      <p:sp>
        <p:nvSpPr>
          <p:cNvPr id="458" name="Овал 11"/>
          <p:cNvSpPr/>
          <p:nvPr/>
        </p:nvSpPr>
        <p:spPr>
          <a:xfrm>
            <a:off x="3357720" y="4429080"/>
            <a:ext cx="2714400" cy="1214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стек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12"/>
          <p:cNvSpPr/>
          <p:nvPr/>
        </p:nvSpPr>
        <p:spPr>
          <a:xfrm>
            <a:off x="6429240" y="3571920"/>
            <a:ext cx="2500560" cy="9288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61" name="Прямая со стрелкой 4"/>
          <p:cNvCxnSpPr/>
          <p:nvPr/>
        </p:nvCxnSpPr>
        <p:spPr>
          <a:xfrm flipH="1">
            <a:off x="1071000" y="1427760"/>
            <a:ext cx="1857960" cy="1500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2" name="Прямая со стрелкой 6"/>
          <p:cNvCxnSpPr/>
          <p:nvPr/>
        </p:nvCxnSpPr>
        <p:spPr>
          <a:xfrm>
            <a:off x="6072120" y="1357200"/>
            <a:ext cx="1929600" cy="15724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63" name="Овал 7"/>
          <p:cNvSpPr/>
          <p:nvPr/>
        </p:nvSpPr>
        <p:spPr>
          <a:xfrm>
            <a:off x="214200" y="3071880"/>
            <a:ext cx="2357640" cy="10713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е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8"/>
          <p:cNvSpPr/>
          <p:nvPr/>
        </p:nvSpPr>
        <p:spPr>
          <a:xfrm>
            <a:off x="6500880" y="3071880"/>
            <a:ext cx="2143080" cy="1143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оричневая и другие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Прямая со стрелкой 10"/>
          <p:cNvCxnSpPr/>
          <p:nvPr/>
        </p:nvCxnSpPr>
        <p:spPr>
          <a:xfrm flipH="1">
            <a:off x="1355400" y="4287600"/>
            <a:ext cx="2160" cy="572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6" name="Прямая со стрелкой 12"/>
          <p:cNvCxnSpPr/>
          <p:nvPr/>
        </p:nvCxnSpPr>
        <p:spPr>
          <a:xfrm flipH="1">
            <a:off x="7714440" y="4357440"/>
            <a:ext cx="2520" cy="572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67" name="Овал 14"/>
          <p:cNvSpPr/>
          <p:nvPr/>
        </p:nvSpPr>
        <p:spPr>
          <a:xfrm>
            <a:off x="285840" y="5000760"/>
            <a:ext cx="2286000" cy="12715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фар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Овал 15"/>
          <p:cNvSpPr/>
          <p:nvPr/>
        </p:nvSpPr>
        <p:spPr>
          <a:xfrm>
            <a:off x="6572160" y="5072040"/>
            <a:ext cx="2143080" cy="12002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ирпич и глиняная пос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есок и глина – полезные ископаемые необходимые в хозяйственной деятельности человека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тская энциклопедия «Всё обо всём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. Плешаков «От земли до неба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атлас-определитель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  Ю. Гомозова «В гостях у мастера Глинчика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picture"/>
          <p:cNvPicPr/>
          <p:nvPr/>
        </p:nvPicPr>
        <p:blipFill>
          <a:blip r:embed="rId2"/>
          <a:stretch/>
        </p:blipFill>
        <p:spPr>
          <a:xfrm>
            <a:off x="468360" y="1844640"/>
            <a:ext cx="8351640" cy="475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971640" y="1196640"/>
            <a:ext cx="6781680" cy="448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Это планета Солнечной систем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Имеет шарообразную фор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Поверхность её – горы, равнины, овраг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На поверхности – вода, почва, растительность, животные, люд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нутри (в недрах) - 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picture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759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476" name="Text Box 5"/>
          <p:cNvSpPr/>
          <p:nvPr/>
        </p:nvSpPr>
        <p:spPr>
          <a:xfrm>
            <a:off x="3924360" y="544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рь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picture"/>
          <p:cNvPicPr/>
          <p:nvPr/>
        </p:nvPicPr>
        <p:blipFill>
          <a:blip r:embed="rId1"/>
          <a:stretch/>
        </p:blipFill>
        <p:spPr>
          <a:xfrm>
            <a:off x="755640" y="260280"/>
            <a:ext cx="8137440" cy="6048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478" name="Text Box 6"/>
          <p:cNvSpPr/>
          <p:nvPr/>
        </p:nvSpPr>
        <p:spPr>
          <a:xfrm>
            <a:off x="3708360" y="580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ровая установка в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Газ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Глин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есок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Грани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Тор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Угол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Сол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Известняк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Горючее                    8. Имеет зап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Твердое                   9. Пропускает вод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Жидкое                   10.Сыпучее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Тяжелее воды        11.Легче воды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. Черного цвета        12.Газообразно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. Желтого цвета        13.Белого цве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. Хрупкое                   14.Пластичн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Вариант 1 – 1, 4, 5, 7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Вариант 2 – 1,3, 8, 11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837720" y="907920"/>
            <a:ext cx="80074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Что находится в недрах Земли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войства полезных ископае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де они применяются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Rectangle 4" descr=""/>
          <p:cNvPicPr/>
          <p:nvPr/>
        </p:nvPicPr>
        <p:blipFill>
          <a:blip r:embed="rId1"/>
          <a:stretch/>
        </p:blipFill>
        <p:spPr>
          <a:xfrm>
            <a:off x="682560" y="762120"/>
            <a:ext cx="778500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ланета Солнечной систем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меет шарообразную фор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верхность её – горы, равнины, овраг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 поверхности – вода, почва, растительность, животные, люд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нутри (в недрах) - 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EARTH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ланета Солнечной систем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меет шарообразную фор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верхность её – горы, равнины, овраг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 поверхности – вода, почва, растительность, животные, люд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нутри (в недрах) 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олезные ископаемы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Что находится в недрах Земли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войства полезных ископае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де они применяются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457200" y="1484280"/>
          <a:ext cx="8388360" cy="4843440"/>
        </p:xfrm>
        <a:graphic>
          <a:graphicData uri="http://schemas.openxmlformats.org/drawingml/2006/table">
            <a:tbl>
              <a:tblPr/>
              <a:tblGrid>
                <a:gridCol w="1811160"/>
                <a:gridCol w="3024360"/>
                <a:gridCol w="3552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св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истый, твердый, про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ительство, изготовление памя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енный у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го цвета, твердый, хрупкий, гор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опление жилых помещений, краски, лекарства, пластмасса, дух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дкость темного цвета, с запахом бензина, горю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росин, бензин, вазелин, лекарства, м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мелкая взвесь, бурого, желтого, белого и др. ц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пич, пос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крупинок, сыпуч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и, стек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749160" y="237960"/>
            <a:ext cx="84013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Lucida Sans Unicode"/>
              </a:rPr>
              <a:t>Гранит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Lucida Sans Unicode"/>
              </a:rPr>
              <a:t>Известняк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Lucida Sans Unicode"/>
              </a:rPr>
              <a:t>Песок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Lucida Sans Unicode"/>
              </a:rPr>
              <a:t>Глина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8315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«Зачем нужны гранит, известняк, песок и глина?»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1:32:49Z</dcterms:created>
  <dc:creator>Оля</dc:creator>
  <dc:description/>
  <dc:language>en-US</dc:language>
  <cp:lastModifiedBy> </cp:lastModifiedBy>
  <dcterms:modified xsi:type="dcterms:W3CDTF">2017-02-28T03:18:13Z</dcterms:modified>
  <cp:revision>13</cp:revision>
  <dc:subject/>
  <dc:title>Слайд 1</dc:title>
</cp:coreProperties>
</file>