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E9CD-675C-4B98-8159-7425B9C46E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1542-5843-46C2-8722-4BF838D00E0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82165-A509-4893-9C5A-A9D8D33DA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F46B-5AF6-4FA0-B732-33E993BD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E297A-6045-445E-903A-3410213C4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06078-2E9C-475B-A5A5-3D0D9C60E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CA33A-DC36-43E8-91F5-AA786E888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60BBD-02ED-4D0F-8A9C-3A6B6AAEF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C5165-EDED-4B59-AA7D-EC7B8CA08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C9468-EDAA-4504-89DB-3CF137A4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38385-18B4-47AE-A64F-428F934A6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D6148-9D7F-49C0-856B-3D4418A46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7AFBB-C744-47F1-BA77-3683A857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2497-5F3B-4317-B58B-955A37B8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92844-2D1C-402E-87BA-500F4F9DA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1AF8-44CF-4087-A9FF-229BB520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297AC-9925-4B98-86A0-D471B5224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48811-193A-4B91-9272-500A1EBD0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0788D-A69E-4569-BF25-2BA2391FE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0E50-7DF6-4ACC-88FC-4A4CD3B2A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484F0-9BBC-4CCC-9D22-18D8F3AE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6190-B4AA-4113-8CE4-995DBE816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B55B4-2132-4BE1-8610-3464146F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35B5-88D0-4E10-9275-F83CCBA3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CE79-3F7E-4BC4-8E5A-9F7FDE723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F5B3-2DCC-40AE-884F-0CB42D512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0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8F1A-DC6D-4136-9102-08535869B7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0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9DC-5DB9-47EE-A882-2587BC8ED37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755640" y="476280"/>
            <a:ext cx="7561440" cy="612144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Обучение детей с учётом психофизиологии.</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endParaRPr b="0" lang="en-US" sz="44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 естественных наук МАОУ СОШ № 15</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18 - 2019 учебный год.</a:t>
            </a:r>
            <a:endParaRPr b="0" lang="en-US" sz="2000" spc="-1" strike="noStrike">
              <a:solidFill>
                <a:srgbClr val="ffffff"/>
              </a:solidFill>
              <a:latin typeface="Arial"/>
            </a:endParaRPr>
          </a:p>
        </p:txBody>
      </p:sp>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B762-8925-48AF-8C81-FC2FBD7C858B}"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pic>
        <p:nvPicPr>
          <p:cNvPr id="220" name="Рисунок 5" descr="F:\brain1.jpg"/>
          <p:cNvPicPr/>
          <p:nvPr/>
        </p:nvPicPr>
        <p:blipFill>
          <a:blip r:embed="rId1"/>
          <a:stretch/>
        </p:blipFill>
        <p:spPr>
          <a:xfrm>
            <a:off x="1332000" y="2708280"/>
            <a:ext cx="655308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000" y="277920"/>
            <a:ext cx="8218440" cy="6246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Задание № 3. </a:t>
            </a:r>
            <a:br>
              <a:rPr sz="1800"/>
            </a:br>
            <a:r>
              <a:rPr b="0" lang="ru-RU" sz="1800" spc="-1" strike="noStrike">
                <a:solidFill>
                  <a:srgbClr val="ccecff"/>
                </a:solidFill>
                <a:latin typeface="Arial"/>
              </a:rPr>
              <a:t>Скрестите руки на груди и посмотрите, какая рука оказалась сверху — правая или левая. Это так называемая поза Наполеона. Результат зафиксируйте.</a:t>
            </a:r>
            <a:br>
              <a:rPr sz="1800"/>
            </a:br>
            <a:r>
              <a:rPr b="0" lang="ru-RU" sz="1800" spc="-1" strike="noStrike">
                <a:solidFill>
                  <a:srgbClr val="ccecff"/>
                </a:solidFill>
                <a:latin typeface="Arial"/>
              </a:rPr>
              <a:t> </a:t>
            </a:r>
            <a:br>
              <a:rPr sz="1800"/>
            </a:br>
            <a:r>
              <a:rPr b="1" lang="ru-RU" sz="1800" spc="-1" strike="noStrike">
                <a:solidFill>
                  <a:srgbClr val="ccecff"/>
                </a:solidFill>
                <a:latin typeface="Arial"/>
              </a:rPr>
              <a:t>Задание № 4. </a:t>
            </a:r>
            <a:br>
              <a:rPr sz="1800"/>
            </a:br>
            <a:r>
              <a:rPr b="0" lang="ru-RU" sz="1800" spc="-1" strike="noStrike">
                <a:solidFill>
                  <a:srgbClr val="ccecff"/>
                </a:solidFill>
                <a:latin typeface="Arial"/>
              </a:rPr>
              <a:t>Для того, чтобы проделать данное задание, вам необходимо поапплодировать или просто похлопать в ладоши. А сейчас обратите внимание, какая рука при апплодировании у вас оказывается сверху — правая или левая. Фиксируем этот результат на своем листке.</a:t>
            </a:r>
            <a:br>
              <a:rPr sz="1800"/>
            </a:b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5280" y="188640"/>
            <a:ext cx="8229600" cy="632628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Учёт психофизиологических особенностей учащихся с асимметрией полушарий головного мозга в учебном процесс</a:t>
            </a:r>
            <a:endParaRPr b="0" lang="en-US" sz="1800" spc="-1" strike="noStrike">
              <a:solidFill>
                <a:srgbClr val="ffffff"/>
              </a:solidFill>
              <a:latin typeface="Arial"/>
            </a:endParaRPr>
          </a:p>
        </p:txBody>
      </p:sp>
      <p:graphicFrame>
        <p:nvGraphicFramePr>
          <p:cNvPr id="235" name=""/>
          <p:cNvGraphicFramePr/>
          <p:nvPr/>
        </p:nvGraphicFramePr>
        <p:xfrm>
          <a:off x="179280" y="1052640"/>
          <a:ext cx="8785440" cy="5749920"/>
        </p:xfrm>
        <a:graphic>
          <a:graphicData uri="http://schemas.openxmlformats.org/drawingml/2006/table">
            <a:tbl>
              <a:tblPr/>
              <a:tblGrid>
                <a:gridCol w="4394160"/>
                <a:gridCol w="4391280"/>
              </a:tblGrid>
              <a:tr h="244440">
                <a:tc>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евополушарные» дети</a:t>
                      </a:r>
                      <a:endParaRPr b="0" lang="en-US" sz="16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ополушарные» дети</a:t>
                      </a:r>
                      <a:endParaRPr b="0" lang="en-US" sz="16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Комфортность работы в кабинет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1872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111744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Расстановка столов традиционна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Тишина на урок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3. Предпочитают работу в одиночку.</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4. Темная классная доска, светлый мел.</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Расстановка столов по кругу.</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Работа в активном диалоге. Во время самостоятельной деятельности -  музыкальный фо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3. Предпочитают работу в группах.</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4. Светлая доска, тёмный мел.</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Учебная мотивация</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9084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Привлекает процесс усвоения знан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 Выражена потребность в самосовершенствовани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Престижность положения в коллектив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Ориентация на высокую оценку и похвалу.</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182880">
                <a:tc gridSpan="2">
                  <a:txBody>
                    <a:bodyPr lIns="42840" rIns="42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Arial"/>
                        </a:rPr>
                        <a:t>Психофизиологические особенности</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45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 Хорошо развито логическое мышлени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1. Хорошо развита интуиция, природное любопытство.</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2491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2. Хорошо контролируют свою речь.</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2. Более эмоциональны.</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1768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3. Хорошо запоминают факты, даты, имена, числа, формулы.</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3. Хорошо запоминают материал объяснение, которого сопровождается опытами и демонстрациями.</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4. Буквально понимают смысл слов.</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4. Понимают не только буквальный смысл того, что слышат или читают.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Он висит у меня на хвосте".</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1489320">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5. Необходимо давать информацию в письменном виде. Умеют последовательно обрабатывать информацию. Складывают информацию из кусочков. Лучше воспринимают информацию на слух.</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42840" rIns="42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5. Хорошо могут обрабатывать информацию, которая выражается не в словах, а в символах и образах.</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Умеют одновременно обрабатывать много информации. Воспринимают информацию целостно, а если концентрируются на деталях, перестают понимать смысл. Любят информацию в виде графиков, карт и демонстрац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0000"/>
                          </a:solidFill>
                          <a:latin typeface="Arial"/>
                        </a:rPr>
                        <a:t>Лучше воспринимают информацию визуально.</a:t>
                      </a:r>
                      <a:endParaRPr b="0" lang="en-US" sz="1200" spc="-1" strike="noStrike">
                        <a:solidFill>
                          <a:srgbClr val="ffffff"/>
                        </a:solidFill>
                        <a:latin typeface="Arial"/>
                      </a:endParaRPr>
                    </a:p>
                  </a:txBody>
                  <a:tcPr anchor="t" marL="42840" marR="4284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404640"/>
            <a:ext cx="7272360" cy="495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ccecff"/>
              </a:solidFill>
              <a:latin typeface="Arial"/>
            </a:endParaRPr>
          </a:p>
        </p:txBody>
      </p:sp>
      <p:graphicFrame>
        <p:nvGraphicFramePr>
          <p:cNvPr id="237" name=""/>
          <p:cNvGraphicFramePr/>
          <p:nvPr/>
        </p:nvGraphicFramePr>
        <p:xfrm>
          <a:off x="179280" y="404640"/>
          <a:ext cx="8785440" cy="5424840"/>
        </p:xfrm>
        <a:graphic>
          <a:graphicData uri="http://schemas.openxmlformats.org/drawingml/2006/table">
            <a:tbl>
              <a:tblPr/>
              <a:tblGrid>
                <a:gridCol w="4429080"/>
                <a:gridCol w="4356360"/>
              </a:tblGrid>
              <a:tr h="487080">
                <a:tc>
                  <a:txBody>
                    <a:bodyPr lIns="58320" rIns="58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евополушарные» де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58320" rIns="58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ополушарные» де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6. Умеют анализирова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6. Умеют рассматривать проблему в целом, не применяя анализ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7. Имеют хорошие математические способност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7. Имеют хорошее пространственное мышлени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8. Могут доказыва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8. Могут предсказывать результаты и сопоставлять факты.</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9. Хорошо справляются с заданиями на поиск ошибок. Любят проверять.</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9. Не любят проверять работу.</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0. Необходимо многократное повторение и ясные инструкци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0. Любят самостоятельный выбор.</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296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1. Хорошо работают с применением алгоритм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0. Любят творческие задания. Хорошие фантазёры и мечтател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1. Не видят за частями целого, не умеют выводить правила, предпочитают, чтобы правила им показал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1. Не обращают внимание на детали, предпочитают видеть проблему в цело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 </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2. Могут долго удерживать внимание, слушать учител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2. Характерны  -  отвлекаемость, способность к саморазвлечению.</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47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3. Хорошо работают по планам, схемам, шаблонам, выполняют типовые задани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3. Хорошо развита поисковая деятельность, легче выполняют задания на сообразительность, на догадку.</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74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4. Легко воспринимают абстрактный материал.</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4. Легче учатся на материале конкретных жизненных примеров. </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24192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5. Хорошо могут выявлять различия.</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5. Хорошо могут выявлять сходства.</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5400">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16. Хорошо развито чувство времени.</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58320" rIns="58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6. Не умеют управлять своим временем, более дезорганизованы.</a:t>
                      </a:r>
                      <a:endParaRPr b="0" lang="en-US" sz="1200" spc="-1" strike="noStrike">
                        <a:solidFill>
                          <a:srgbClr val="ffffff"/>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277560"/>
            <a:ext cx="8424720" cy="5311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 Пример заданий для детей с разной асимметрией головного мозга. </a:t>
            </a:r>
            <a:br>
              <a:rPr sz="1800"/>
            </a:br>
            <a:br>
              <a:rPr sz="2000"/>
            </a:br>
            <a:r>
              <a:rPr b="1" lang="ru-RU" sz="1800" spc="-1" strike="noStrike">
                <a:solidFill>
                  <a:srgbClr val="000000"/>
                </a:solidFill>
                <a:latin typeface="Times New Roman"/>
                <a:ea typeface="Times New Roman"/>
              </a:rPr>
              <a:t>Левополушарные.</a:t>
            </a:r>
            <a:br>
              <a:rPr sz="1800"/>
            </a:br>
            <a:r>
              <a:rPr b="1" lang="ru-RU" sz="1800" spc="-1" strike="noStrike">
                <a:solidFill>
                  <a:srgbClr val="ccecff"/>
                </a:solidFill>
                <a:latin typeface="Times New Roman"/>
                <a:ea typeface="Times New Roman"/>
              </a:rPr>
              <a:t>Тело массой 71 г опустили в мензурку с водой, при этом объём жидкости в ней увеличился с 43 мл до 53 мл. Определите плотность этого тела.</a:t>
            </a:r>
            <a:br>
              <a:rPr sz="1800"/>
            </a:br>
            <a:r>
              <a:rPr b="1" lang="ru-RU" sz="1800" spc="-1" strike="noStrike">
                <a:solidFill>
                  <a:srgbClr val="ccecff"/>
                </a:solidFill>
                <a:latin typeface="Times New Roman"/>
                <a:ea typeface="Times New Roman"/>
              </a:rPr>
              <a:t> </a:t>
            </a:r>
            <a:br>
              <a:rPr sz="1800"/>
            </a:br>
            <a:r>
              <a:rPr b="1" lang="ru-RU" sz="1800" spc="-1" strike="noStrike">
                <a:solidFill>
                  <a:srgbClr val="000000"/>
                </a:solidFill>
                <a:latin typeface="Times New Roman"/>
                <a:ea typeface="Times New Roman"/>
              </a:rPr>
              <a:t>Правополушарные.</a:t>
            </a:r>
            <a:br>
              <a:rPr sz="1800"/>
            </a:br>
            <a:r>
              <a:rPr b="1" lang="ru-RU" sz="1800" spc="-1" strike="noStrike">
                <a:solidFill>
                  <a:srgbClr val="ccecff"/>
                </a:solidFill>
                <a:latin typeface="Times New Roman"/>
                <a:ea typeface="Times New Roman"/>
              </a:rPr>
              <a:t>Тело А сначала взвесили, а затем опустили в мензурку с водой так, как показано на рисунке. Определите плотность этого тела.</a:t>
            </a:r>
            <a:br>
              <a:rPr sz="1800"/>
            </a:br>
            <a:r>
              <a:rPr b="1" lang="ru-RU" sz="1800" spc="-1" strike="noStrike">
                <a:solidFill>
                  <a:srgbClr val="ccecff"/>
                </a:solidFill>
                <a:latin typeface="Times New Roman"/>
                <a:ea typeface="Times New Roman"/>
              </a:rPr>
              <a:t> </a:t>
            </a:r>
            <a:br>
              <a:rPr sz="1800"/>
            </a:br>
            <a:r>
              <a:rPr b="0" lang="ru-RU" sz="2000" spc="-1" strike="noStrike">
                <a:solidFill>
                  <a:srgbClr val="ccecff"/>
                </a:solidFill>
                <a:latin typeface="Times New Roman"/>
                <a:ea typeface="Times New Roman"/>
              </a:rPr>
              <a:t>                                </a:t>
            </a:r>
            <a:r>
              <a:rPr b="1" lang="ru-RU" sz="2000" spc="-1" strike="noStrike">
                <a:solidFill>
                  <a:srgbClr val="ccecff"/>
                </a:solidFill>
                <a:latin typeface="Times New Roman"/>
                <a:ea typeface="Times New Roman"/>
              </a:rPr>
              <a:t>                                                   </a:t>
            </a:r>
            <a:br>
              <a:rPr sz="2000"/>
            </a:br>
            <a:r>
              <a:rPr b="1" lang="ru-RU" sz="2000" spc="-1" strike="noStrike">
                <a:solidFill>
                  <a:srgbClr val="ccecff"/>
                </a:solidFill>
                <a:latin typeface="Times New Roman"/>
                <a:ea typeface="Times New Roman"/>
              </a:rPr>
              <a:t> </a:t>
            </a:r>
            <a:br>
              <a:rPr sz="2000"/>
            </a:br>
            <a:r>
              <a:rPr b="1" lang="ru-RU" sz="2000" spc="-1" strike="noStrike">
                <a:solidFill>
                  <a:srgbClr val="ccecff"/>
                </a:solidFill>
                <a:latin typeface="Arial"/>
              </a:rPr>
              <a:t> </a:t>
            </a:r>
            <a:br>
              <a:rPr sz="2000"/>
            </a:br>
            <a:r>
              <a:rPr b="1" lang="ru-RU" sz="2000" spc="-1" strike="noStrike">
                <a:solidFill>
                  <a:srgbClr val="ccecff"/>
                </a:solidFill>
                <a:latin typeface="Arial"/>
              </a:rPr>
              <a:t> </a:t>
            </a:r>
            <a:br>
              <a:rPr sz="2000"/>
            </a:br>
            <a:r>
              <a:rPr b="1" lang="ru-RU" sz="2000" spc="-1" strike="noStrike">
                <a:solidFill>
                  <a:srgbClr val="ccecff"/>
                </a:solidFill>
                <a:latin typeface="Arial"/>
              </a:rPr>
              <a:t> </a:t>
            </a:r>
            <a:br>
              <a:rPr sz="2000"/>
            </a:br>
            <a:endParaRPr b="0" lang="en-US" sz="2000" spc="-1" strike="noStrike">
              <a:solidFill>
                <a:srgbClr val="ccecff"/>
              </a:solidFill>
              <a:latin typeface="Arial"/>
            </a:endParaRPr>
          </a:p>
        </p:txBody>
      </p:sp>
      <p:pic>
        <p:nvPicPr>
          <p:cNvPr id="239" name="Рисунок 2" descr="Рисунок-5.jpg"/>
          <p:cNvPicPr/>
          <p:nvPr/>
        </p:nvPicPr>
        <p:blipFill>
          <a:blip r:embed="rId1"/>
          <a:stretch/>
        </p:blipFill>
        <p:spPr>
          <a:xfrm>
            <a:off x="2916360" y="3860640"/>
            <a:ext cx="4968720" cy="24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04640"/>
            <a:ext cx="8713800" cy="6120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rPr>
              <a:t>                                                </a:t>
            </a:r>
            <a:r>
              <a:rPr b="1" lang="ru-RU" sz="1800" spc="-1" strike="noStrike">
                <a:solidFill>
                  <a:srgbClr val="000000"/>
                </a:solidFill>
                <a:latin typeface="Arial"/>
              </a:rPr>
              <a:t>6. Рекомендации учителю</a:t>
            </a:r>
            <a:r>
              <a:rPr b="1" lang="ru-RU" sz="1800" spc="-1" strike="noStrike">
                <a:solidFill>
                  <a:srgbClr val="ccecff"/>
                </a:solidFill>
                <a:latin typeface="Arial"/>
              </a:rPr>
              <a:t>.</a:t>
            </a:r>
            <a:br>
              <a:rPr sz="1800"/>
            </a:br>
            <a:br>
              <a:rPr sz="1400"/>
            </a:br>
            <a:r>
              <a:rPr b="1" lang="ru-RU" sz="1600" spc="-1" strike="noStrike">
                <a:solidFill>
                  <a:srgbClr val="ccecff"/>
                </a:solidFill>
                <a:latin typeface="Times New Roman"/>
                <a:ea typeface="Times New Roman"/>
              </a:rPr>
              <a:t>1.</a:t>
            </a:r>
            <a:r>
              <a:rPr b="0" lang="ru-RU" sz="1600" spc="-1" strike="noStrike">
                <a:solidFill>
                  <a:srgbClr val="ccecff"/>
                </a:solidFill>
                <a:latin typeface="Times New Roman"/>
                <a:ea typeface="Times New Roman"/>
              </a:rPr>
              <a:t> Если ученик </a:t>
            </a:r>
            <a:r>
              <a:rPr b="1" lang="ru-RU" sz="1600" spc="-1" strike="noStrike">
                <a:solidFill>
                  <a:srgbClr val="ccecff"/>
                </a:solidFill>
                <a:latin typeface="Times New Roman"/>
                <a:ea typeface="Times New Roman"/>
              </a:rPr>
              <a:t>отвёл глаза</a:t>
            </a:r>
            <a:r>
              <a:rPr b="0" lang="ru-RU" sz="1600" spc="-1" strike="noStrike">
                <a:solidFill>
                  <a:srgbClr val="ccecff"/>
                </a:solidFill>
                <a:latin typeface="Times New Roman"/>
                <a:ea typeface="Times New Roman"/>
              </a:rPr>
              <a:t> в сторону – это сигнал для учителя, нет интереса к учителю и его информации,  ребёнок  в данный момент не воспринимает речь учителя, он  </a:t>
            </a:r>
            <a:r>
              <a:rPr b="1" lang="ru-RU" sz="1600" spc="-1" strike="noStrike">
                <a:solidFill>
                  <a:srgbClr val="ccecff"/>
                </a:solidFill>
                <a:latin typeface="Times New Roman"/>
                <a:ea typeface="Times New Roman"/>
              </a:rPr>
              <a:t>перерабатывает информацию</a:t>
            </a:r>
            <a:r>
              <a:rPr b="0" lang="ru-RU" sz="1600" spc="-1" strike="noStrike">
                <a:solidFill>
                  <a:srgbClr val="ccecff"/>
                </a:solidFill>
                <a:latin typeface="Times New Roman"/>
                <a:ea typeface="Times New Roman"/>
              </a:rPr>
              <a:t>. Если учитель, пытаясь вернуть внимание ученика, начинает ускорять темп и громкость речи, делает замечание, ученик воспринимает это как агрессию по отношению к себе.</a:t>
            </a:r>
            <a:br>
              <a:rPr sz="1600"/>
            </a:br>
            <a:r>
              <a:rPr b="0" lang="ru-RU" sz="1600" spc="-1" strike="noStrike">
                <a:solidFill>
                  <a:srgbClr val="ccecff"/>
                </a:solidFill>
                <a:latin typeface="Times New Roman"/>
                <a:ea typeface="Times New Roman"/>
              </a:rPr>
              <a:t>Учителю необходимо </a:t>
            </a:r>
            <a:r>
              <a:rPr b="1" lang="ru-RU" sz="1600" spc="-1" strike="noStrike">
                <a:solidFill>
                  <a:srgbClr val="ccecff"/>
                </a:solidFill>
                <a:latin typeface="Times New Roman"/>
                <a:ea typeface="Times New Roman"/>
              </a:rPr>
              <a:t>сделать паузу</a:t>
            </a:r>
            <a:r>
              <a:rPr b="0" lang="ru-RU" sz="1600" spc="-1" strike="noStrike">
                <a:solidFill>
                  <a:srgbClr val="ccecff"/>
                </a:solidFill>
                <a:latin typeface="Times New Roman"/>
                <a:ea typeface="Times New Roman"/>
              </a:rPr>
              <a:t>, дать возможность ученику </a:t>
            </a:r>
            <a:r>
              <a:rPr b="1" lang="ru-RU" sz="1600" spc="-1" strike="noStrike">
                <a:solidFill>
                  <a:srgbClr val="ccecff"/>
                </a:solidFill>
                <a:latin typeface="Times New Roman"/>
                <a:ea typeface="Times New Roman"/>
              </a:rPr>
              <a:t>усвоить </a:t>
            </a:r>
            <a:r>
              <a:rPr b="0" lang="ru-RU" sz="1600" spc="-1" strike="noStrike">
                <a:solidFill>
                  <a:srgbClr val="ccecff"/>
                </a:solidFill>
                <a:latin typeface="Times New Roman"/>
                <a:ea typeface="Times New Roman"/>
              </a:rPr>
              <a:t>полученную </a:t>
            </a:r>
            <a:r>
              <a:rPr b="1" lang="ru-RU" sz="1600" spc="-1" strike="noStrike">
                <a:solidFill>
                  <a:srgbClr val="ccecff"/>
                </a:solidFill>
                <a:latin typeface="Times New Roman"/>
                <a:ea typeface="Times New Roman"/>
              </a:rPr>
              <a:t>информацию</a:t>
            </a:r>
            <a:r>
              <a:rPr b="0" lang="ru-RU" sz="1600" spc="-1" strike="noStrike">
                <a:solidFill>
                  <a:srgbClr val="ccecff"/>
                </a:solidFill>
                <a:latin typeface="Times New Roman"/>
                <a:ea typeface="Times New Roman"/>
              </a:rPr>
              <a:t>. </a:t>
            </a:r>
            <a:br>
              <a:rPr sz="1600"/>
            </a:br>
            <a:r>
              <a:rPr b="0" lang="ru-RU" sz="1600" spc="-1" strike="noStrike">
                <a:solidFill>
                  <a:srgbClr val="ccecff"/>
                </a:solidFill>
                <a:latin typeface="Times New Roman"/>
                <a:ea typeface="Times New Roman"/>
              </a:rPr>
              <a:t>Те, кто отводит глаза</a:t>
            </a:r>
            <a:r>
              <a:rPr b="1" lang="ru-RU" sz="1600" spc="-1" strike="noStrike">
                <a:solidFill>
                  <a:srgbClr val="000000"/>
                </a:solidFill>
                <a:latin typeface="Times New Roman"/>
                <a:ea typeface="Times New Roman"/>
              </a:rPr>
              <a:t> вправо </a:t>
            </a:r>
            <a:r>
              <a:rPr b="0" lang="ru-RU" sz="1600" spc="-1" strike="noStrike">
                <a:solidFill>
                  <a:srgbClr val="ccecff"/>
                </a:solidFill>
                <a:latin typeface="Times New Roman"/>
                <a:ea typeface="Times New Roman"/>
              </a:rPr>
              <a:t>в процессе мышления, являются </a:t>
            </a:r>
            <a:r>
              <a:rPr b="1" lang="ru-RU" sz="1600" spc="-1" strike="noStrike">
                <a:solidFill>
                  <a:srgbClr val="000000"/>
                </a:solidFill>
                <a:latin typeface="Times New Roman"/>
                <a:ea typeface="Times New Roman"/>
              </a:rPr>
              <a:t>левополушарными</a:t>
            </a:r>
            <a:r>
              <a:rPr b="1" lang="ru-RU" sz="1600" spc="-1" strike="noStrike">
                <a:solidFill>
                  <a:srgbClr val="ffffff"/>
                </a:solidFill>
                <a:latin typeface="Times New Roman"/>
                <a:ea typeface="Times New Roman"/>
              </a:rPr>
              <a:t>. </a:t>
            </a:r>
            <a:br>
              <a:rPr sz="1600"/>
            </a:br>
            <a:r>
              <a:rPr b="0" lang="ru-RU" sz="1600" spc="-1" strike="noStrike">
                <a:solidFill>
                  <a:srgbClr val="ccecff"/>
                </a:solidFill>
                <a:latin typeface="Times New Roman"/>
                <a:ea typeface="Times New Roman"/>
              </a:rPr>
              <a:t>Те, кто отводит глаза </a:t>
            </a:r>
            <a:r>
              <a:rPr b="1" lang="ru-RU" sz="1600" spc="-1" strike="noStrike">
                <a:solidFill>
                  <a:srgbClr val="000000"/>
                </a:solidFill>
                <a:latin typeface="Times New Roman"/>
                <a:ea typeface="Times New Roman"/>
              </a:rPr>
              <a:t>влево </a:t>
            </a:r>
            <a:r>
              <a:rPr b="0" lang="ru-RU" sz="1600" spc="-1" strike="noStrike">
                <a:solidFill>
                  <a:srgbClr val="ccecff"/>
                </a:solidFill>
                <a:latin typeface="Times New Roman"/>
                <a:ea typeface="Times New Roman"/>
              </a:rPr>
              <a:t>в процессе мышления, являются </a:t>
            </a:r>
            <a:r>
              <a:rPr b="1" lang="ru-RU" sz="1600" spc="-1" strike="noStrike">
                <a:solidFill>
                  <a:srgbClr val="000000"/>
                </a:solidFill>
                <a:latin typeface="Times New Roman"/>
                <a:ea typeface="Times New Roman"/>
              </a:rPr>
              <a:t>правополушарными</a:t>
            </a:r>
            <a:r>
              <a:rPr b="1" lang="ru-RU" sz="1600" spc="-1" strike="noStrike">
                <a:solidFill>
                  <a:srgbClr val="ccecff"/>
                </a:solidFill>
                <a:latin typeface="Times New Roman"/>
                <a:ea typeface="Times New Roman"/>
              </a:rPr>
              <a:t>.</a:t>
            </a:r>
            <a:br>
              <a:rPr sz="1600"/>
            </a:br>
            <a:br>
              <a:rPr sz="1600"/>
            </a:br>
            <a:r>
              <a:rPr b="1" lang="ru-RU" sz="1600" spc="-1" strike="noStrike">
                <a:solidFill>
                  <a:srgbClr val="ccecff"/>
                </a:solidFill>
                <a:latin typeface="Times New Roman"/>
                <a:ea typeface="Times New Roman"/>
              </a:rPr>
              <a:t>2.</a:t>
            </a:r>
            <a:r>
              <a:rPr b="0" lang="ru-RU" sz="1600" spc="-1" strike="noStrike">
                <a:solidFill>
                  <a:srgbClr val="ccecff"/>
                </a:solidFill>
                <a:latin typeface="Times New Roman"/>
                <a:ea typeface="Times New Roman"/>
              </a:rPr>
              <a:t> Определите свой тип мышления.</a:t>
            </a:r>
            <a:br>
              <a:rPr sz="1600"/>
            </a:br>
            <a:br>
              <a:rPr sz="1600"/>
            </a:br>
            <a:r>
              <a:rPr b="1" lang="ru-RU" sz="1600" spc="-1" strike="noStrike">
                <a:solidFill>
                  <a:srgbClr val="ccecff"/>
                </a:solidFill>
                <a:latin typeface="Times New Roman"/>
                <a:ea typeface="Times New Roman"/>
              </a:rPr>
              <a:t>3.</a:t>
            </a:r>
            <a:r>
              <a:rPr b="0" lang="ru-RU" sz="1600" spc="-1" strike="noStrike">
                <a:solidFill>
                  <a:srgbClr val="ccecff"/>
                </a:solidFill>
                <a:latin typeface="Times New Roman"/>
                <a:ea typeface="Times New Roman"/>
              </a:rPr>
              <a:t> Помните, что при объяснении нового материала, даже опытного учителя слышат и воспринимают учебный материал в полном объёме  лишь малая часть учащихся. Это, как правило, «левополушарные» учащиеся, обладающие словестно – логическим характером познавательных процессов, склонные к абстрагированию и обобщению. Однако они составляют самую малочисленную группу школьников. Самую же неуспешную, но и самую многочисленную  группу составляют «правополушарные» учащиеся с конкретно – образным мышлением, целостным восприятием, развитым воображением. Преобладание в обучении словестно – рассудочных схем усвоения знаний (75% учебных предметов направлено на развитие левого полушария) приводит к недостаточному развитию воображения, образного мышления школьников и в итоге к снижению интереса к учению. У большинства создаётся некомфортное психологическое состояние «дидактического рассогласования» с отрицательной эмоциональной окраской. </a:t>
            </a:r>
            <a:r>
              <a:rPr b="1" lang="ru-RU" sz="2400" spc="-1" strike="noStrike">
                <a:solidFill>
                  <a:srgbClr val="000000"/>
                </a:solidFill>
                <a:latin typeface="Times New Roman"/>
                <a:ea typeface="Times New Roman"/>
              </a:rPr>
              <a:t>О каком качестве обучения можно говорить в таком случае?</a:t>
            </a:r>
            <a:br>
              <a:rPr sz="2400"/>
            </a:b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23640" y="764640"/>
            <a:ext cx="8569080" cy="59770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Times New Roman"/>
                <a:ea typeface="Times New Roman"/>
              </a:rPr>
              <a:t>4.</a:t>
            </a:r>
            <a:r>
              <a:rPr b="0" lang="ru-RU" sz="1600" spc="-1" strike="noStrike">
                <a:solidFill>
                  <a:srgbClr val="ccecff"/>
                </a:solidFill>
                <a:latin typeface="Times New Roman"/>
                <a:ea typeface="Times New Roman"/>
              </a:rPr>
              <a:t> Учитывайте во время своей работы, что в классе есть дети с противоположным по отношению к вам типом мышления, в противном случае оценки учителей с разным типом функциональной асимметрии полушарий значительно расходятся для 74% мальчиков и для 50% девочек – закон нейропсихологического соответствия учителя и ученика. Левополушарный учитель в 82% случаев лучше оценивает детей своего типа, правополушарный и равнополушарный учитель в 73% случаев даёт положительную оценку детям своего типа. Для учителя главным является его способность научить ребёнка по своей методике: «Люблю того, кого умею научить». Если же у учителя возникает проблемы при обучении, то он подсознательно связывает их не с выбором методики, не со своей способностью научить, а с особенностями отстающего, возникает внутренний конфликт: способ изложения информации не совпадает с типом восприятия этой информации учеником. В результате этого ребёнок, постоянно страдающий от неуспеха, изменяет своё поведение: становится пассивным, капризным, раздражительным, нестарательным и т.д.</a:t>
            </a:r>
            <a:br>
              <a:rPr sz="1600"/>
            </a:br>
            <a:r>
              <a:rPr b="0" lang="ru-RU" sz="1600" spc="-1" strike="noStrike">
                <a:solidFill>
                  <a:srgbClr val="ccecff"/>
                </a:solidFill>
                <a:latin typeface="Times New Roman"/>
                <a:ea typeface="Times New Roman"/>
              </a:rPr>
              <a:t> </a:t>
            </a:r>
            <a:br>
              <a:rPr sz="1600"/>
            </a:br>
            <a:r>
              <a:rPr b="1" lang="ru-RU" sz="1600" spc="-1" strike="noStrike">
                <a:solidFill>
                  <a:srgbClr val="ccecff"/>
                </a:solidFill>
                <a:latin typeface="Times New Roman"/>
                <a:ea typeface="Times New Roman"/>
              </a:rPr>
              <a:t>5.</a:t>
            </a:r>
            <a:r>
              <a:rPr b="0" lang="ru-RU" sz="1600" spc="-1" strike="noStrike">
                <a:solidFill>
                  <a:srgbClr val="ccecff"/>
                </a:solidFill>
                <a:latin typeface="Times New Roman"/>
                <a:ea typeface="Times New Roman"/>
              </a:rPr>
              <a:t> Посадить за одну парту, по мере возможности, учащихся с разным доминирующим мышлением, они будут дополнять друг друга. Ученик правополушарного типа мышления, работая в паре с левополушарным над заданием учителя, может показать своему товарищу такие стратегии обучения, как синтез, применение схем. Привлечение данных из контекста, выделение сути, поиск известной информации и сопоставление фактов. Левополушарный ученик может поделиться со своим партнёром способами выделения нужных деталях, выявления различий. Создания категорий.</a:t>
            </a:r>
            <a:br>
              <a:rPr sz="1600"/>
            </a:br>
            <a:r>
              <a:rPr b="0" lang="ru-RU" sz="1600" spc="-1" strike="noStrike">
                <a:solidFill>
                  <a:srgbClr val="ccecff"/>
                </a:solidFill>
                <a:latin typeface="Times New Roman"/>
                <a:ea typeface="Times New Roman"/>
              </a:rPr>
              <a:t>«Равнополушарных» детей можно посадить вместе.</a:t>
            </a:r>
            <a:br>
              <a:rPr sz="1600"/>
            </a:br>
            <a:r>
              <a:rPr b="0" lang="ru-RU" sz="1600" spc="-1" strike="noStrike">
                <a:solidFill>
                  <a:srgbClr val="ccecff"/>
                </a:solidFill>
                <a:latin typeface="Times New Roman"/>
                <a:ea typeface="Times New Roman"/>
              </a:rPr>
              <a:t> </a:t>
            </a:r>
            <a:br>
              <a:rPr sz="1600"/>
            </a:br>
            <a:br>
              <a:rPr sz="1800"/>
            </a:br>
            <a:r>
              <a:rPr b="1" lang="ru-RU" sz="1800" spc="-1" strike="noStrike">
                <a:solidFill>
                  <a:srgbClr val="ffc000"/>
                </a:solidFill>
                <a:latin typeface="Times New Roman"/>
                <a:ea typeface="Times New Roman"/>
              </a:rPr>
              <a:t> </a:t>
            </a:r>
            <a:br>
              <a:rPr sz="1800"/>
            </a:br>
            <a:r>
              <a:rPr b="1" lang="ru-RU" sz="1600" spc="-1" strike="noStrike">
                <a:solidFill>
                  <a:srgbClr val="ffc000"/>
                </a:solidFill>
                <a:latin typeface="Arial"/>
              </a:rPr>
              <a:t> </a:t>
            </a:r>
            <a:br>
              <a:rPr sz="1600"/>
            </a:br>
            <a:endParaRPr b="0" lang="en-US" sz="1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4920" y="333360"/>
            <a:ext cx="8410680" cy="6181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C43-4897-4AE2-A3C0-81BAD782937F}"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Прямоугольник 1"/>
          <p:cNvSpPr/>
          <p:nvPr/>
        </p:nvSpPr>
        <p:spPr>
          <a:xfrm>
            <a:off x="468360" y="-5541840"/>
            <a:ext cx="8280360" cy="124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Введени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Средний балл по успеваемости в гимназии, у А.Эйнштейна, колебался между «3» и «4» по 5 – бальной систем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одном из писем, относящимся к 1940 году, Эйнштейн следующим образом описал сложившуюся в то время ситуацию с обучением в гимназии «Когда я был в 7 классе гимназии, меня вызвал классный наставник и выразил желание, чтобы я оставил гимназию. На моё возражение, что я не чем не провинился. Он ответил лишь «Одного вашего присутствия достаточно, чтобы подорвать уважение класса ко мне». Это был преподаватель греческого языка, который сказал,  из Эйнштейна ничего путного не выйдет. Однако предсказаниям преподавателя греческого языка не суждено было сбыться и Эйнштейн стал выдающимся физиком, который решил проблему, которая  не давала покоя ведущим физикам всего мира.</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создания специальной теории относительности Эйнштейну необходимо было охватить целостным нетрадиционным взглядом все сложные противоречивые факты, отрешиться от штампов и классификаций, которые расчленяют, искусственно дробят целостную картину мира. По той же причине, что и у Эйнштейна проблемы в обучении на начальном этапе были и у другого выдающегося физика И.Ньютона, который открыл закон всемирного тяготения и природу света. Что – же это за причина, которая мешала, им успешно учится? Они оба имели доминирующее правостороннее мышлени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57434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Определение наличия выраженной функциональной асимметрии мозговых полушарий. </a:t>
            </a:r>
            <a:br>
              <a:rPr sz="2000"/>
            </a:br>
            <a:r>
              <a:rPr b="1" lang="ru-RU" sz="2000" spc="-1" strike="noStrike">
                <a:solidFill>
                  <a:srgbClr val="ccecff"/>
                </a:solidFill>
                <a:latin typeface="Arial"/>
              </a:rPr>
              <a:t> </a:t>
            </a:r>
            <a:br>
              <a:rPr sz="2000"/>
            </a:br>
            <a:r>
              <a:rPr b="0" lang="ru-RU" sz="2000" spc="-1" strike="noStrike">
                <a:solidFill>
                  <a:srgbClr val="ccecff"/>
                </a:solidFill>
                <a:latin typeface="Arial"/>
              </a:rPr>
              <a:t>Существует несколько  способов определения наличия выраженной функциональной асимметрии мозговых полушарий. Для того чтобы определить достаточно точно к  какому типу мышления принадлежит человек желательно использовать несколько способов. Рассмотрим три наиболее простых способа определения асимметрии полушарий головного мозга.</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5640" y="277560"/>
            <a:ext cx="7201080" cy="5311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способ.</a:t>
            </a:r>
            <a:r>
              <a:rPr b="0" lang="ru-RU" sz="2000" spc="-1" strike="noStrike">
                <a:solidFill>
                  <a:srgbClr val="000000"/>
                </a:solidFill>
                <a:latin typeface="Arial"/>
              </a:rPr>
              <a:t> </a:t>
            </a:r>
            <a:br>
              <a:rPr sz="2000"/>
            </a:br>
            <a:br>
              <a:rPr sz="2000"/>
            </a:br>
            <a:br>
              <a:rPr sz="2000"/>
            </a:br>
            <a:r>
              <a:rPr b="0" lang="ru-RU" sz="2000" spc="-1" strike="noStrike">
                <a:solidFill>
                  <a:srgbClr val="ccecff"/>
                </a:solidFill>
                <a:latin typeface="Arial"/>
              </a:rPr>
              <a:t>Для определения наличия выраженной функциональной асимметрии  мозговых полушарий используется метод И.П. Павлова, при котором испытуемому предъявляется набор из 9 карточек со словами: окунь, орёл, овца, бегать, летать, плавать, чешуя, перья, шерсть.</a:t>
            </a:r>
            <a:br>
              <a:rPr sz="2000"/>
            </a:br>
            <a:r>
              <a:rPr b="0" lang="ru-RU" sz="2000" spc="-1" strike="noStrike">
                <a:solidFill>
                  <a:srgbClr val="ccecff"/>
                </a:solidFill>
                <a:latin typeface="Arial"/>
              </a:rPr>
              <a:t>      Эти 9 карточек в произвольном порядке лежат перед учеником, он должен разложить их в 3 группы по 3 карточки «по смыслу».</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395280" y="965160"/>
          <a:ext cx="8353440" cy="1697040"/>
        </p:xfrm>
        <a:graphic>
          <a:graphicData uri="http://schemas.openxmlformats.org/drawingml/2006/table">
            <a:tbl>
              <a:tblPr/>
              <a:tblGrid>
                <a:gridCol w="1332000"/>
                <a:gridCol w="1422360"/>
                <a:gridCol w="1349280"/>
                <a:gridCol w="1494000"/>
                <a:gridCol w="1290600"/>
                <a:gridCol w="1465200"/>
              </a:tblGrid>
              <a:tr h="366840">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Левополушарные</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ополушарные</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41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кун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ег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шу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вца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ёл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кун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8ffff"/>
                    </a:solidFill>
                  </a:tcPr>
                </a:tc>
              </a:tr>
              <a:tr h="425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вца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ет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ерс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ег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ет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в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r>
              <a:tr h="463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ёл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ва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ь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ерсть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ь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шуя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8ffff"/>
                    </a:solidFill>
                  </a:tcPr>
                </a:tc>
              </a:tr>
            </a:tbl>
          </a:graphicData>
        </a:graphic>
      </p:graphicFrame>
      <p:sp>
        <p:nvSpPr>
          <p:cNvPr id="227" name="PlaceHolder 1"/>
          <p:cNvSpPr>
            <a:spLocks noGrp="1"/>
          </p:cNvSpPr>
          <p:nvPr>
            <p:ph type="title"/>
          </p:nvPr>
        </p:nvSpPr>
        <p:spPr>
          <a:xfrm>
            <a:off x="4479840" y="2016000"/>
            <a:ext cx="184320" cy="212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5238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способ</a:t>
            </a:r>
            <a:br>
              <a:rPr sz="2000"/>
            </a:br>
            <a:br>
              <a:rPr sz="2000"/>
            </a:br>
            <a:br>
              <a:rPr sz="2000"/>
            </a:br>
            <a:br>
              <a:rPr sz="2000"/>
            </a:br>
            <a:r>
              <a:rPr b="0" lang="ru-RU" sz="2000" spc="-1" strike="noStrike">
                <a:solidFill>
                  <a:srgbClr val="ccecff"/>
                </a:solidFill>
                <a:latin typeface="Arial"/>
              </a:rPr>
              <a:t>Взгляните на рисунок, что вы видите? Запомните именно тот вариант, который увидите первым на картинке.</a:t>
            </a:r>
            <a:br>
              <a:rPr sz="2000"/>
            </a:br>
            <a:r>
              <a:rPr b="1" lang="ru-RU" sz="2000" spc="-1" strike="noStrike">
                <a:solidFill>
                  <a:srgbClr val="ccecff"/>
                </a:solidFill>
                <a:latin typeface="Arial"/>
              </a:rPr>
              <a:t> </a:t>
            </a:r>
            <a:br>
              <a:rPr sz="2000"/>
            </a:br>
            <a:r>
              <a:rPr b="1" lang="ru-RU" sz="3200" spc="-1" strike="noStrike">
                <a:solidFill>
                  <a:srgbClr val="ccecff"/>
                </a:solidFill>
                <a:latin typeface="Arial"/>
              </a:rPr>
              <a:t> </a:t>
            </a:r>
            <a:br>
              <a:rPr sz="3200"/>
            </a:b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2" descr="F:\фото.jpg"/>
          <p:cNvPicPr/>
          <p:nvPr/>
        </p:nvPicPr>
        <p:blipFill>
          <a:blip r:embed="rId1"/>
          <a:stretch/>
        </p:blipFill>
        <p:spPr>
          <a:xfrm>
            <a:off x="324000" y="260280"/>
            <a:ext cx="8496000" cy="633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1"/>
          <p:cNvSpPr/>
          <p:nvPr/>
        </p:nvSpPr>
        <p:spPr>
          <a:xfrm>
            <a:off x="395280" y="1690560"/>
            <a:ext cx="8353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увидели в первую очередь </a:t>
            </a:r>
            <a:r>
              <a:rPr b="1" lang="ru-RU" sz="2000" spc="-1" strike="noStrike">
                <a:solidFill>
                  <a:srgbClr val="000000"/>
                </a:solidFill>
                <a:latin typeface="Arial"/>
              </a:rPr>
              <a:t>пейзаж</a:t>
            </a:r>
            <a:r>
              <a:rPr b="0" lang="ru-RU" sz="2000" spc="-1" strike="noStrike">
                <a:solidFill>
                  <a:srgbClr val="ffffff"/>
                </a:solidFill>
                <a:latin typeface="Arial"/>
              </a:rPr>
              <a:t>, то вы обладаете доминирующим </a:t>
            </a:r>
            <a:r>
              <a:rPr b="1" lang="ru-RU" sz="2000" spc="-1" strike="noStrike">
                <a:solidFill>
                  <a:srgbClr val="000000"/>
                </a:solidFill>
                <a:latin typeface="Arial"/>
              </a:rPr>
              <a:t>левосторонним мышлением</a:t>
            </a: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увидели вначале </a:t>
            </a:r>
            <a:r>
              <a:rPr b="1" lang="ru-RU" sz="2000" spc="-1" strike="noStrike">
                <a:solidFill>
                  <a:srgbClr val="000000"/>
                </a:solidFill>
                <a:latin typeface="Arial"/>
              </a:rPr>
              <a:t>лошадей</a:t>
            </a:r>
            <a:r>
              <a:rPr b="0" lang="ru-RU" sz="2000" spc="-1" strike="noStrike">
                <a:solidFill>
                  <a:srgbClr val="ffffff"/>
                </a:solidFill>
                <a:latin typeface="Arial"/>
              </a:rPr>
              <a:t> – то вы обладаете доминирующим </a:t>
            </a:r>
            <a:r>
              <a:rPr b="1" lang="ru-RU" sz="2000" spc="-1" strike="noStrike">
                <a:solidFill>
                  <a:srgbClr val="000000"/>
                </a:solidFill>
                <a:latin typeface="Arial"/>
              </a:rPr>
              <a:t>правосторонним мышлением</a:t>
            </a:r>
            <a:r>
              <a:rPr b="0"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6840" y="115560"/>
            <a:ext cx="8435880" cy="6010200"/>
          </a:xfrm>
          <a:prstGeom prst="rect">
            <a:avLst/>
          </a:prstGeom>
          <a:noFill/>
          <a:ln w="0">
            <a:noFill/>
          </a:ln>
        </p:spPr>
        <p:txBody>
          <a:bodyPr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способ.</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того чтобы пройти тест, приготовьте листы бумаги и карандаш.</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лее представлено 4 задания, проходя которые вы должны отметить на листе бумаги, какой тип реакции проявился у вас - правый или левый. Их можно отмечать, например, буквами «П» и «Л».</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ание № 1.</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местите руки перед собой и переплетите пальцы, образуя тем самым «замочек» из рук. Посмотрите, какой из двух больших пальцев оказался сверху — правый или левый. Если сверху оказался правый палец, то это правый тип реакции, так и отметьте в своем листке. Если сверху левый палец, то тип реакции у вас левый.</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ание № 2.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зьмите листок бумаги и проделайте в нем отверстие диаметром примерно 3-4 см. Возьмите листок и разместите листок на расстоянии вытянутой руки. Теперь посмотрите двумя глазами на какую-н. точку в пространстве через отверстие в листке. А сейчас закройте сначала один, а затем другой глаз. Посмотрите, в каком из этих двух случаев точка прицела сместится. Если точка сместилась при закрытом правом глазе, то тип вашей реакции — правый, если точка сместилась при закрытии левого глаза — тип реакции левый.</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AC23-DAEB-4B3A-B2C7-07889385FB19}" type="slidenum">
              <a:rPr b="0" lang="ru-RU"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14:10:30Z</dcterms:created>
  <dc:creator>User</dc:creator>
  <dc:description/>
  <dc:language>en-US</dc:language>
  <cp:lastModifiedBy>Петр Васильевич</cp:lastModifiedBy>
  <cp:lastPrinted>2013-04-11T20:43:08Z</cp:lastPrinted>
  <dcterms:modified xsi:type="dcterms:W3CDTF">2019-01-11T17:14:25Z</dcterms:modified>
  <cp:revision>8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