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4818-B1BF-4C83-A547-F134372C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DF9B-F10F-4609-9BC8-EC45355C7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7F10-FFD3-48C0-9610-7D7E1302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B889-7B96-4D3F-A4DA-7BB665DF6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1FED2-63EC-4E90-957A-0961C4F6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E8D49-AE8E-473D-9169-C4341DC4D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865A2D-A614-453E-B829-D58374F0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F0B3E-1A82-452E-808A-6744D872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460A02-3489-42BB-B847-2D387A899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406D0-3DC0-4AFE-95C2-E1C133815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3D6E4E-D3E3-4A57-B624-07C4975A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9609-D924-416E-B0BA-C89EF3A6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917EC-3E08-4014-8AA4-C31E615D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CC0CE-8310-4DED-AE21-6EC6022B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90B9D-80BD-4637-AA96-72617256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B75B9-74D3-48D6-8151-5E362F7F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4A9D9-1154-45C7-823F-86187A6E3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1DB-16E3-4E07-8BC7-65F34D5FD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671-0820-4E10-8B69-67D3296D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F607-B5CC-4DE4-ABFF-77A196D37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DA42-A697-423F-82AE-8CAFE774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6B0-79A0-4EAC-B332-FD913335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477-5248-4301-9B0D-1B998A4E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831E-9C67-402A-BA93-0957A94F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0ED0-5000-4A63-B77E-79B9E91DF3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A0DD-D870-4BE0-AA67-3F4DE63BAB8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02560" cy="30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Дикие звери зимой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19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Саенко М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508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лочке зимой не холодно. У нее теплая рыжевато- серенькая шубка с белым мехом на брюшке. У белки пышный хвост. Зимой белка днем все свое время проводит в поисках пищи. На снегу можно очень часто видеть следы бел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елочка зим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9339415_1"/>
          <p:cNvPicPr/>
          <p:nvPr/>
        </p:nvPicPr>
        <p:blipFill>
          <a:blip r:embed="rId1"/>
          <a:stretch/>
        </p:blipFill>
        <p:spPr>
          <a:xfrm>
            <a:off x="324000" y="907920"/>
            <a:ext cx="5184720" cy="3961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are-10"/>
          <p:cNvPicPr/>
          <p:nvPr/>
        </p:nvPicPr>
        <p:blipFill>
          <a:blip r:embed="rId2"/>
          <a:stretch/>
        </p:blipFill>
        <p:spPr>
          <a:xfrm>
            <a:off x="5508720" y="836640"/>
            <a:ext cx="3240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бан зим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50842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кабана густая щетина, пятак и клыки. Зимой он мало ест, трудно добраться до семян, плодов, шишек, в лесу много сне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 живет в основном за счет своих жировых запасов, многие из них погибают от голода. Люди приходят им на помощь, подкармливают 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8" descr="0a04809519bf9f6c1d4b72836b99377f"/>
          <p:cNvPicPr/>
          <p:nvPr/>
        </p:nvPicPr>
        <p:blipFill>
          <a:blip r:embed="rId1"/>
          <a:stretch/>
        </p:blipFill>
        <p:spPr>
          <a:xfrm>
            <a:off x="611280" y="404640"/>
            <a:ext cx="74880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жик зим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4868640"/>
            <a:ext cx="856944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ж- шатун. Он может не        Вот в таких норках спят еж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ть зим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ежи зимой спят, и корма им не нужно. Но у них есть враги- это куницы, они могут выкопать ежа, которые находятся в спячке и съе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350244"/>
          <p:cNvPicPr/>
          <p:nvPr/>
        </p:nvPicPr>
        <p:blipFill>
          <a:blip r:embed="rId1"/>
          <a:stretch/>
        </p:blipFill>
        <p:spPr>
          <a:xfrm>
            <a:off x="250920" y="1125360"/>
            <a:ext cx="3816360" cy="359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69696"/>
          <p:cNvPicPr/>
          <p:nvPr/>
        </p:nvPicPr>
        <p:blipFill>
          <a:blip r:embed="rId2"/>
          <a:stretch/>
        </p:blipFill>
        <p:spPr>
          <a:xfrm>
            <a:off x="4284720" y="981000"/>
            <a:ext cx="43909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-819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УНИЦА ЗИМ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очень гибкий зверек. Зимой куница имеет буровато- дымчатый пушистый мех. Она быстро передвигается по глубокому снегу, так как лапки хорошо опушены и она на проваливается в сне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имой куница отыскивает под снегом ягоды :брусники, черники, а рябину обрывает прямо с вет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440" y="-108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440" y="4906440"/>
            <a:ext cx="58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9" descr="i4cba0456ec033"/>
          <p:cNvPicPr/>
          <p:nvPr/>
        </p:nvPicPr>
        <p:blipFill>
          <a:blip r:embed="rId1"/>
          <a:stretch/>
        </p:blipFill>
        <p:spPr>
          <a:xfrm>
            <a:off x="395280" y="692280"/>
            <a:ext cx="7129440" cy="42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тицы зим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накомить детей с жизнью  лесных птиц зимой. Им холодно и голод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ие птицы зимой прилетают поближе к человеческому жилью:  вороны, синич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ывать желание оказывать помощь птицам зим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40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-4446720" y="30780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675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ница зим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5634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имой синицы держатся стайками. Им не хватает в лесу пищи, поэтому они переселяются зимой поближе к человеку. Они питаются в лесу семенами и другой растительной пищей. Люди подкармливают 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6" descr="0b0eac4f8bbf3ef7ff5307f8a1834ae3"/>
          <p:cNvPicPr/>
          <p:nvPr/>
        </p:nvPicPr>
        <p:blipFill>
          <a:blip r:embed="rId1"/>
          <a:stretch/>
        </p:blipFill>
        <p:spPr>
          <a:xfrm>
            <a:off x="684360" y="1052640"/>
            <a:ext cx="770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рона зим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роны зимой собираются в группы и используют грачиные гнезда. Зимой они питаются всякими отбросами, залетают к людям. Ворона храбрая птица, она оказывает сопротивление более хищным птиц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ые вороны частично на зиму улетают на ю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12" descr="photo02"/>
          <p:cNvPicPr/>
          <p:nvPr/>
        </p:nvPicPr>
        <p:blipFill>
          <a:blip r:embed="rId1"/>
          <a:stretch/>
        </p:blipFill>
        <p:spPr>
          <a:xfrm>
            <a:off x="684360" y="549360"/>
            <a:ext cx="7345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.Дятел зим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580000" y="1483920"/>
            <a:ext cx="3260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ой дятел забирается глубоко в дуп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мится дятел зимой в основном семенами хвойных деревьев, а весной и летом животной пищ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445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0" descr="0_3a769_93a77d95_L"/>
          <p:cNvPicPr/>
          <p:nvPr/>
        </p:nvPicPr>
        <p:blipFill>
          <a:blip r:embed="rId1"/>
          <a:stretch/>
        </p:blipFill>
        <p:spPr>
          <a:xfrm>
            <a:off x="539640" y="981000"/>
            <a:ext cx="4969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лест зим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501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ест- бойкая птичка размером чуть больше вороб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есты гнездятся и летом и зимой. Зимой гнезда устраивают на елях и выводят потомство. Клесты питаются семенами хвойных раст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7" descr="c16f08f5d39a"/>
          <p:cNvPicPr/>
          <p:nvPr/>
        </p:nvPicPr>
        <p:blipFill>
          <a:blip r:embed="rId1"/>
          <a:stretch/>
        </p:blipFill>
        <p:spPr>
          <a:xfrm>
            <a:off x="755640" y="692280"/>
            <a:ext cx="7416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45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робей зим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515772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имой воробьи мало чирикают, а больше молчат, меньше двигаются, им тоскливо , голодно, холодно. Брюхо у воробья серовато-белое, клюв серый, а зимой он становится черн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воробьи зимой кормятся тем, чем можно поживиться возле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400" y="4570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7" descr="01f86284ccf901af7cff08abc350b5af_62b20aa8463a6a20f87ed42b1ee69edf"/>
          <p:cNvPicPr/>
          <p:nvPr/>
        </p:nvPicPr>
        <p:blipFill>
          <a:blip r:embed="rId1"/>
          <a:stretch/>
        </p:blipFill>
        <p:spPr>
          <a:xfrm>
            <a:off x="468360" y="476280"/>
            <a:ext cx="7151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Лес зимо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5" descr="8natsmall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453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8natsmall"/>
          <p:cNvPicPr/>
          <p:nvPr/>
        </p:nvPicPr>
        <p:blipFill>
          <a:blip r:embed="rId2"/>
          <a:stretch/>
        </p:blipFill>
        <p:spPr>
          <a:xfrm>
            <a:off x="2548080" y="1952640"/>
            <a:ext cx="4047840" cy="2952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602100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имой в лесу очень красив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8" descr="8natsmall"/>
          <p:cNvPicPr/>
          <p:nvPr/>
        </p:nvPicPr>
        <p:blipFill>
          <a:blip r:embed="rId3"/>
          <a:stretch/>
        </p:blipFill>
        <p:spPr>
          <a:xfrm>
            <a:off x="2548080" y="1952640"/>
            <a:ext cx="4047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804960" y="2070720"/>
            <a:ext cx="753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икие звери зим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точнить и расширить представления детей об образе жизни лесных зверей (белка, заяц, волк, медведь, лось, еж, куница) зи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ить знания детей о типичных повадках зверей зимой, способах защиты от врагов, добывания пи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звать желание у детей помогать животн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571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belyak-02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леды животных на снег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587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имой на снегу можно увидеть следы зай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4000" y="544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йцу зимой голодно. Они едят ветки, кору деревьев. Живут они под кустами, елочкой. У них много врагов: волк, лиса. От холода зайчик прячется в ямке или под ел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-963720"/>
            <a:ext cx="8229600" cy="26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 вот и сам заяц- беляк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radish1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9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963720"/>
            <a:ext cx="8229600" cy="26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лк зимой в лес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580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лк – это хищник. У него густая серая шерсть. Он может быстро бегать по снегу и ловить свою добычу: зайца, лису. Это  очень опасный и сильный зверь и приносит большой вред люд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0" descr="358-1024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са зим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573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ерсть- оранжево- рыжая. Она хищница. Ноги у лисы сильные, а лапы маленькие их подошвы зимой покрыты шерстью, она может долго и быстро бегать за зайцем. Пушистый хвост при беге служит ей рул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803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едведь зим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13360"/>
            <a:ext cx="896472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lvl="1" marL="53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ведь- бурый хищник. Это большой и сильный зверь. Шерсть у него густая, теплая. На зиму медведь забирается в берлогу- яму выкопанную где- нибудь под корнями деревьев и спит до тепла. Если его потревожить, то он выходит из берлоги злой и голодный, в это время он очень опас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wolverineLG_2"/>
          <p:cNvPicPr/>
          <p:nvPr/>
        </p:nvPicPr>
        <p:blipFill>
          <a:blip r:embed="rId1"/>
          <a:stretch/>
        </p:blipFill>
        <p:spPr>
          <a:xfrm>
            <a:off x="684360" y="765000"/>
            <a:ext cx="7559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440" y="4601520"/>
            <a:ext cx="58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ось в лесу зим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515736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сь- самый большой зверь, живущий в наших лесах. Он больше коровы и выше лошади. Ноги большие, длинные, копыта широкие, он легко передвигается по снегу. Своими копытами он может убить волка. Волк- основной враг лося. Лось питается корой, ветк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0" descr="3583572_large"/>
          <p:cNvPicPr/>
          <p:nvPr/>
        </p:nvPicPr>
        <p:blipFill>
          <a:blip r:embed="rId1"/>
          <a:stretch/>
        </p:blipFill>
        <p:spPr>
          <a:xfrm>
            <a:off x="684360" y="765000"/>
            <a:ext cx="6983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5:34:35Z</dcterms:created>
  <dc:creator>Сергей</dc:creator>
  <dc:description/>
  <dc:language>en-US</dc:language>
  <cp:lastModifiedBy>Саенко</cp:lastModifiedBy>
  <dcterms:modified xsi:type="dcterms:W3CDTF">2019-01-12T19:45:47Z</dcterms:modified>
  <cp:revision>29</cp:revision>
  <dc:subject/>
  <dc:title>почва</dc:title>
</cp:coreProperties>
</file>