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3D7E-49D0-4177-A37F-BAA2603D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0881-F862-4FB1-A7CE-CE52AFA7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7A68-7B0E-458D-8A08-97F9F2380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A48-5385-4435-AB19-730E080B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BE893-72AE-44A5-9E23-AB5F13974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F4FFB1-D71B-4F4C-88B0-CB16BACFA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E741D-7B7D-4404-8A09-53ABC716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57ED0D-FD61-420B-8FC7-29454EFE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8D88B-B88C-4785-BF59-B8E0BEA2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2F30C-FCFA-44C5-BB08-D065AD28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B9177-EE0F-4661-A320-29AE294A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3471-B01A-4573-AD9B-1C8009D6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17FD9B-7ECC-4A57-8D2A-3015ADD8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BD029-6E74-49F2-A1B5-4D3749C3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D3DF1F-C788-4288-8A88-0CF6BE17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86315-8433-44CB-B9C5-A8BDDD26D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124B5-87E4-4313-8D12-1295F9154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DF4F-DB1B-42B0-93A7-5BCFE84A2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A764-DFE4-4DE6-86B0-B814558BB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9128-001C-410E-83C0-A191FF7D5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BEB0D-B81F-4830-B020-419CADB4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C8F-FF2B-4C58-B6CB-12A664D21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0157-72DC-4BCD-87A6-146CF90C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9D6B-D472-4DED-AFED-F57DB141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BBB0-CD2D-4D3B-BFC7-0D2C670ECA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33CF-8319-4C5A-B70C-15A3B8FE90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02560" cy="3095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ahoma"/>
              </a:rPr>
              <a:t>Дикие звери зимой</a:t>
            </a: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19280" y="3789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готовила Саенко М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5084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Белочке зимой не холодно. У нее теплая рыжевато- серенькая шубка с белым мехом на брюшке. У белки пышный хвост. Зимой белка днем все свое время проводит в поисках пищи. На снегу можно очень часто видеть следы белк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Белочка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5" descr="9339415_1"/>
          <p:cNvPicPr/>
          <p:nvPr/>
        </p:nvPicPr>
        <p:blipFill>
          <a:blip r:embed="rId1"/>
          <a:stretch/>
        </p:blipFill>
        <p:spPr>
          <a:xfrm>
            <a:off x="324000" y="907920"/>
            <a:ext cx="5184720" cy="3961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are-10"/>
          <p:cNvPicPr/>
          <p:nvPr/>
        </p:nvPicPr>
        <p:blipFill>
          <a:blip r:embed="rId2"/>
          <a:stretch/>
        </p:blipFill>
        <p:spPr>
          <a:xfrm>
            <a:off x="5508720" y="836640"/>
            <a:ext cx="32400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абан зим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5084280"/>
            <a:ext cx="82296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 кабана густая щетина, пятак и клыки. Зимой он мало ест, трудно добраться до семян, плодов, шишек, в лесу много снег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Он живет в основном за счет своих жировых запасов, многие из них погибают от голода. Люди приходят им на помощь, подкармливают 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8" descr="0a04809519bf9f6c1d4b72836b99377f"/>
          <p:cNvPicPr/>
          <p:nvPr/>
        </p:nvPicPr>
        <p:blipFill>
          <a:blip r:embed="rId1"/>
          <a:stretch/>
        </p:blipFill>
        <p:spPr>
          <a:xfrm>
            <a:off x="611280" y="404640"/>
            <a:ext cx="7488000" cy="46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Ежик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5280" y="4868640"/>
            <a:ext cx="8569440" cy="165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ж- шатун. Он может не        Вот в таких норках спят ежи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пать зим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ежи зимой спят, и корма им не нужно. Но у них есть враги- это куницы, они могут выкопать ежа, которые находятся в спячке и съесть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350244"/>
          <p:cNvPicPr/>
          <p:nvPr/>
        </p:nvPicPr>
        <p:blipFill>
          <a:blip r:embed="rId1"/>
          <a:stretch/>
        </p:blipFill>
        <p:spPr>
          <a:xfrm>
            <a:off x="250920" y="1125360"/>
            <a:ext cx="3816360" cy="359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69696"/>
          <p:cNvPicPr/>
          <p:nvPr/>
        </p:nvPicPr>
        <p:blipFill>
          <a:blip r:embed="rId2"/>
          <a:stretch/>
        </p:blipFill>
        <p:spPr>
          <a:xfrm>
            <a:off x="4284720" y="981000"/>
            <a:ext cx="43909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-819360"/>
            <a:ext cx="8229600" cy="24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КУНИЦА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4941720"/>
            <a:ext cx="822960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очень гибкий зверек. Зимой куница имеет буровато- дымчатый пушистый мех. Она быстро передвигается по глубокому снегу, так как лапки хорошо опушены и она на проваливается в снег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ой куница отыскивает под снегом ягоды :брусники, черники, а рябину обрывает прямо с вето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440" y="-1080"/>
            <a:ext cx="58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440" y="4906440"/>
            <a:ext cx="58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Picture 9" descr="i4cba0456ec033"/>
          <p:cNvPicPr/>
          <p:nvPr/>
        </p:nvPicPr>
        <p:blipFill>
          <a:blip r:embed="rId1"/>
          <a:stretch/>
        </p:blipFill>
        <p:spPr>
          <a:xfrm>
            <a:off x="395280" y="692280"/>
            <a:ext cx="7129440" cy="42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тицы зим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знакомить детей с жизнью  лесных птиц зимой. Им холодно и голодно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ногие птицы зимой прилетают поближе к человеческому жилью:  вороны, синич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оспитывать желание оказывать помощь птицам зимой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40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-4446720" y="30780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-675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иница зим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95280" y="5634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ой синицы держатся стайками. Им не хватает в лесу пищи, поэтому они переселяются зимой поближе к человеку. Они питаются в лесу семенами и другой растительной пищей. Люди подкармливают их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Picture 16" descr="0b0eac4f8bbf3ef7ff5307f8a1834ae3"/>
          <p:cNvPicPr/>
          <p:nvPr/>
        </p:nvPicPr>
        <p:blipFill>
          <a:blip r:embed="rId1"/>
          <a:stretch/>
        </p:blipFill>
        <p:spPr>
          <a:xfrm>
            <a:off x="684360" y="1052640"/>
            <a:ext cx="77040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-31644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рона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5013360"/>
            <a:ext cx="822960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ороны зимой собираются в группы и используют грачиные гнезда. Зимой они питаются всякими отбросами, залетают к людям. Ворона храбрая птица, она оказывает сопротивление более хищным птица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ерые вороны частично на зиму улетают на юг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12" descr="photo02"/>
          <p:cNvPicPr/>
          <p:nvPr/>
        </p:nvPicPr>
        <p:blipFill>
          <a:blip r:embed="rId1"/>
          <a:stretch/>
        </p:blipFill>
        <p:spPr>
          <a:xfrm>
            <a:off x="684360" y="549360"/>
            <a:ext cx="73450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.Дятел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580000" y="1483920"/>
            <a:ext cx="326088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имой дятел забирается глубоко в дупл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ормится дятел зимой в основном семенами хвойных деревьев, а весной и летом животной пищ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445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10" descr="0_3a769_93a77d95_L"/>
          <p:cNvPicPr/>
          <p:nvPr/>
        </p:nvPicPr>
        <p:blipFill>
          <a:blip r:embed="rId1"/>
          <a:stretch/>
        </p:blipFill>
        <p:spPr>
          <a:xfrm>
            <a:off x="539640" y="981000"/>
            <a:ext cx="4969080" cy="56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1608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Клест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5013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ест- бойкая птичка размером чуть больше воробь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лесты гнездятся и летом и зимой. Зимой гнезда устраивают на елях и выводят потомство. Клесты питаются семенами хвойных раст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7" name="Picture 7" descr="c16f08f5d39a"/>
          <p:cNvPicPr/>
          <p:nvPr/>
        </p:nvPicPr>
        <p:blipFill>
          <a:blip r:embed="rId1"/>
          <a:stretch/>
        </p:blipFill>
        <p:spPr>
          <a:xfrm>
            <a:off x="755640" y="692280"/>
            <a:ext cx="7416720" cy="42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4590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Воробей зим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95280" y="5157720"/>
            <a:ext cx="822960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имой воробьи мало чирикают, а больше молчат, меньше двигаются, им тоскливо , голодно, холодно. Брюхо у воробья серовато-белое, клюв серый, а зимой он становится черны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се воробьи зимой кормятся тем, чем можно поживиться возле человека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400" y="4570920"/>
            <a:ext cx="113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r>
              <a:rPr b="0" lang="ru-RU" sz="1100" spc="-1" strike="noStrike">
                <a:solidFill>
                  <a:srgbClr val="ffffff"/>
                </a:solidFill>
                <a:latin typeface="Tahoma"/>
                <a:ea typeface="Calibri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Picture 7" descr="01f86284ccf901af7cff08abc350b5af_62b20aa8463a6a20f87ed42b1ee69edf"/>
          <p:cNvPicPr/>
          <p:nvPr/>
        </p:nvPicPr>
        <p:blipFill>
          <a:blip r:embed="rId1"/>
          <a:stretch/>
        </p:blipFill>
        <p:spPr>
          <a:xfrm>
            <a:off x="468360" y="476280"/>
            <a:ext cx="71517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Tahoma"/>
              </a:rPr>
              <a:t>Лес зимой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5" descr="8natsmall"/>
          <p:cNvPicPr/>
          <p:nvPr/>
        </p:nvPicPr>
        <p:blipFill>
          <a:blip r:embed="rId1"/>
          <a:stretch/>
        </p:blipFill>
        <p:spPr>
          <a:xfrm>
            <a:off x="250920" y="1341360"/>
            <a:ext cx="8569080" cy="453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8natsmall"/>
          <p:cNvPicPr/>
          <p:nvPr/>
        </p:nvPicPr>
        <p:blipFill>
          <a:blip r:embed="rId2"/>
          <a:stretch/>
        </p:blipFill>
        <p:spPr>
          <a:xfrm>
            <a:off x="2548080" y="1952640"/>
            <a:ext cx="4047840" cy="29527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602100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ой в лесу очень красиво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Picture 8" descr="8natsmall"/>
          <p:cNvPicPr/>
          <p:nvPr/>
        </p:nvPicPr>
        <p:blipFill>
          <a:blip r:embed="rId3"/>
          <a:stretch/>
        </p:blipFill>
        <p:spPr>
          <a:xfrm>
            <a:off x="2548080" y="1952640"/>
            <a:ext cx="4047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5"/>
          <p:cNvSpPr/>
          <p:nvPr/>
        </p:nvSpPr>
        <p:spPr>
          <a:xfrm>
            <a:off x="804960" y="2070720"/>
            <a:ext cx="7535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икие звери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точнить и расширить представления детей об образе жизни лесных зверей (белка, заяц, волк, медведь, лось, еж, куница) зимо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бобщить знания детей о типичных повадках зверей зимой, способах защиты от врагов, добывания пищ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звать желание у детей помогать животны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571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7" descr="belyak-02"/>
          <p:cNvPicPr/>
          <p:nvPr/>
        </p:nvPicPr>
        <p:blipFill>
          <a:blip r:embed="rId1"/>
          <a:stretch/>
        </p:blipFill>
        <p:spPr>
          <a:xfrm>
            <a:off x="250920" y="836640"/>
            <a:ext cx="8642160" cy="56167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387720"/>
            <a:ext cx="82296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леды животных на снег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11280" y="587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Зимой на снегу можно увидеть следы зай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4000" y="5445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айцу зимой голодно. Они едят ветки, кору деревьев. Живут они под кустами, елочкой. У них много врагов: волк, лиса. От холода зайчик прячется в ямке или под елью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-963720"/>
            <a:ext cx="8229600" cy="26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А вот и сам заяц- беляк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6" descr="radish1"/>
          <p:cNvPicPr/>
          <p:nvPr/>
        </p:nvPicPr>
        <p:blipFill>
          <a:blip r:embed="rId1"/>
          <a:stretch/>
        </p:blipFill>
        <p:spPr>
          <a:xfrm>
            <a:off x="468360" y="907920"/>
            <a:ext cx="82803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4572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98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963720"/>
            <a:ext cx="8229600" cy="264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Волк зимой в лес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5805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олк – это хищник. У него густая серая шерсть. Он может быстро бегать по снегу и ловить свою добычу: зайца, лису. Это  очень опасный и сильный зверь и приносит большой вред людя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10" descr="358-1024"/>
          <p:cNvPicPr/>
          <p:nvPr/>
        </p:nvPicPr>
        <p:blipFill>
          <a:blip r:embed="rId1"/>
          <a:stretch/>
        </p:blipFill>
        <p:spPr>
          <a:xfrm>
            <a:off x="611280" y="692280"/>
            <a:ext cx="7993080" cy="50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са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5734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Шерсть- оранжево- рыжая. Она хищница. Ноги у лисы сильные, а лапы маленькие их подошвы зимой покрыты шерстью, она может долго и быстро бегать за зайцем. Пушистый хвост при беге служит ей руле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9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828036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Медведь зимой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5013360"/>
            <a:ext cx="8964720" cy="10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lvl="1" marL="534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дведь- бурый хищник. Это большой и сильный зверь. Шерсть у него густая, теплая. На зиму медведь забирается в берлогу- яму выкопанную где- нибудь под корнями деревьев и спит до тепла. Если его потревожить, то он выходит из берлоги злой и голодный, в это время он очень опасен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Picture 8" descr="wolverineLG_2"/>
          <p:cNvPicPr/>
          <p:nvPr/>
        </p:nvPicPr>
        <p:blipFill>
          <a:blip r:embed="rId1"/>
          <a:stretch/>
        </p:blipFill>
        <p:spPr>
          <a:xfrm>
            <a:off x="684360" y="765000"/>
            <a:ext cx="755964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1440" y="4601520"/>
            <a:ext cx="587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Calibri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0644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-3160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ось в лесу зимой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5157360"/>
            <a:ext cx="8229600" cy="40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ось- самый большой зверь, живущий в наших лесах. Он больше коровы и выше лошади. Ноги большие, длинные, копыта широкие, он легко передвигается по снегу. Своими копытами он может убить волка. Волк- основной враг лося. Лось питается корой, веткам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10" descr="3583572_large"/>
          <p:cNvPicPr/>
          <p:nvPr/>
        </p:nvPicPr>
        <p:blipFill>
          <a:blip r:embed="rId1"/>
          <a:stretch/>
        </p:blipFill>
        <p:spPr>
          <a:xfrm>
            <a:off x="684360" y="765000"/>
            <a:ext cx="698328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5:34:35Z</dcterms:created>
  <dc:creator>Сергей</dc:creator>
  <dc:description/>
  <dc:language>en-US</dc:language>
  <cp:lastModifiedBy>Саенко</cp:lastModifiedBy>
  <dcterms:modified xsi:type="dcterms:W3CDTF">2019-01-12T19:45:47Z</dcterms:modified>
  <cp:revision>29</cp:revision>
  <dc:subject/>
  <dc:title>почва</dc:title>
</cp:coreProperties>
</file>