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5AA-78E3-4E9F-B2F7-C1E78DAC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88F-95C8-465E-B84E-2DA42D9F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B6F-4902-409E-9CDC-9667183A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0C0-00DA-4552-8293-AF20FCE5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BF0-7CEE-4E55-A23E-869EBAFF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BD7-C2E2-4B9C-A2FF-201AFE51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67E-2F8E-46B5-A893-A1AD680C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DD3-25B3-400F-B5AD-2A0D9A0F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FEB-1D51-4D8A-870B-019330C0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E4E-F747-43A5-8705-42F7E9BA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CEF-EF53-43F6-8752-E238881F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BB8-CC2C-47B1-979E-6E51EC9C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EEC6-7D9D-4EEE-B4FC-ADC1064CC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404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oadway"/>
              </a:rPr>
              <a:t>Welcome to Russi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43640" y="378936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43657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The work was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by 10th grad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Maria Boris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76500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places there are floods in the spring, but this rarely happ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0" descr="C:\Users\ULTRA\Desktop\67250-maxresdefault-1024x576.jpg"/>
          <p:cNvPicPr/>
          <p:nvPr/>
        </p:nvPicPr>
        <p:blipFill>
          <a:blip r:embed="rId1"/>
          <a:stretch/>
        </p:blipFill>
        <p:spPr>
          <a:xfrm>
            <a:off x="1187280" y="1844640"/>
            <a:ext cx="676764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404640"/>
            <a:ext cx="79930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and their cus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ople are very kind and hospitable in the Nizhegorodskaya region. They are always friendly to everyone, especially to foreig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1" descr="C:\Users\ULTRA\Desktop\trad_shelok.jpg"/>
          <p:cNvPicPr/>
          <p:nvPr/>
        </p:nvPicPr>
        <p:blipFill>
          <a:blip r:embed="rId1"/>
          <a:stretch/>
        </p:blipFill>
        <p:spPr>
          <a:xfrm>
            <a:off x="1042920" y="1773360"/>
            <a:ext cx="70563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69228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ssian people welcome guests with bread and salt, and treat their national dishes of Russian kit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2" descr="C:\Users\ULTRA\Desktop\i.jpeg"/>
          <p:cNvPicPr/>
          <p:nvPr/>
        </p:nvPicPr>
        <p:blipFill>
          <a:blip r:embed="rId1"/>
          <a:stretch/>
        </p:blipFill>
        <p:spPr>
          <a:xfrm>
            <a:off x="2050920" y="1557360"/>
            <a:ext cx="5256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20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76360" y="213372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 end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69228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836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native region is Nizhegorodskay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" descr="C:\Users\ULTRA\Desktop\80909.b.jpg"/>
          <p:cNvPicPr/>
          <p:nvPr/>
        </p:nvPicPr>
        <p:blipFill>
          <a:blip r:embed="rId1"/>
          <a:stretch/>
        </p:blipFill>
        <p:spPr>
          <a:xfrm>
            <a:off x="539640" y="148428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549360"/>
            <a:ext cx="8424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ical peculi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vers an area of about 75 thousand square kilomet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C:\Users\ULTRA\Desktop\i.jpeg"/>
          <p:cNvPicPr/>
          <p:nvPr/>
        </p:nvPicPr>
        <p:blipFill>
          <a:blip r:embed="rId1"/>
          <a:stretch/>
        </p:blipFill>
        <p:spPr>
          <a:xfrm>
            <a:off x="1979640" y="1890720"/>
            <a:ext cx="4967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836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plai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C:\Users\ULTRA\Desktop\i.jpeg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98100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uous and coniferous fores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C:\Users\ULTRA\Desktop\42390609.jpg"/>
          <p:cNvPicPr/>
          <p:nvPr/>
        </p:nvPicPr>
        <p:blipFill>
          <a:blip r:embed="rId1"/>
          <a:stretch/>
        </p:blipFill>
        <p:spPr>
          <a:xfrm>
            <a:off x="1042920" y="1557360"/>
            <a:ext cx="7128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90792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ly lies on both banks of the Great Russian River Volga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C:\Users\ULTRA\Desktop\14761.jpg"/>
          <p:cNvPicPr/>
          <p:nvPr/>
        </p:nvPicPr>
        <p:blipFill>
          <a:blip r:embed="rId1"/>
          <a:stretch/>
        </p:blipFill>
        <p:spPr>
          <a:xfrm>
            <a:off x="826920" y="1773360"/>
            <a:ext cx="734544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620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ritory of the region being at the junction of various natural zones is transitional features of nature, distinguished by significant landscape diver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i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6" descr="C:\Users\ULTRA\Desktop\09595917.jpg"/>
          <p:cNvPicPr/>
          <p:nvPr/>
        </p:nvPicPr>
        <p:blipFill>
          <a:blip r:embed="rId1"/>
          <a:stretch/>
        </p:blipFill>
        <p:spPr>
          <a:xfrm>
            <a:off x="900000" y="2133720"/>
            <a:ext cx="7417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47640" y="90792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C:\Users\ULTRA\Desktop\Nijegorodskay_oblast_8.jpg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333360"/>
            <a:ext cx="7993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conditions in Nizhegorodskay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the climate is moderately continental. Winters are long and very cold and frosty, and summers short but w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C:\Users\ULTRA\Desktop\67254-Serebryanye_Klyuchi_rannyaya_vesna_2.jpg"/>
          <p:cNvPicPr/>
          <p:nvPr/>
        </p:nvPicPr>
        <p:blipFill>
          <a:blip r:embed="rId1"/>
          <a:stretch/>
        </p:blipFill>
        <p:spPr>
          <a:xfrm>
            <a:off x="1403280" y="1844640"/>
            <a:ext cx="66247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20:09:36Z</dcterms:created>
  <dc:creator>Customer</dc:creator>
  <dc:description/>
  <dc:language>en-US</dc:language>
  <cp:lastModifiedBy>Customer</cp:lastModifiedBy>
  <dcterms:modified xsi:type="dcterms:W3CDTF">2017-10-10T20:28:12Z</dcterms:modified>
  <cp:revision>2</cp:revision>
  <dc:subject/>
  <dc:title>Слайд 1</dc:title>
</cp:coreProperties>
</file>