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000-233F-4178-9F23-CC718C30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C63-9ACF-4099-B7B4-E847E853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5FB-4414-4CDF-AC89-D284A54D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1233-BFC0-42CC-A35D-D66BC0A6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5F2-D47B-47B7-BD8C-9F72B433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AAD-93F0-427D-AD09-667CB3F1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8BE-D29F-49BE-BCE7-A7CD4344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C70-D324-4069-B78F-067C8686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E57F-63E9-4E32-BE33-29E62D9D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182-B8A1-4E8D-AC1D-C90F2752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3BB-1246-4766-95FB-AFB18DA5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A45-0E8E-4127-96A3-CDF0F4C2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0483-04CD-4FF5-AEAC-9B7AF192B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1268280"/>
            <a:ext cx="7848720" cy="468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усская</a:t>
            </a:r>
            <a:endParaRPr b="0" lang="en-US" sz="1800" spc="1" strike="noStrike">
              <a:ln w="507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вистулька</a:t>
            </a:r>
            <a:endParaRPr b="0" lang="en-US" sz="1800" spc="1" strike="noStrike">
              <a:ln w="507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Talcy-29_img_59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Семейство домовых."/>
          <p:cNvPicPr/>
          <p:nvPr/>
        </p:nvPicPr>
        <p:blipFill>
          <a:blip r:embed="rId1"/>
          <a:stretch/>
        </p:blipFill>
        <p:spPr>
          <a:xfrm>
            <a:off x="1042920" y="1268280"/>
            <a:ext cx="626436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нтазии народных мастеров (лепил, свистушечников) – допускают и лепку невероятных существ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"Птица-Сири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полуженщина-полуптица)"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4697"/>
          <p:cNvPicPr/>
          <p:nvPr/>
        </p:nvPicPr>
        <p:blipFill>
          <a:blip r:embed="rId1"/>
          <a:stretch/>
        </p:blipFill>
        <p:spPr>
          <a:xfrm>
            <a:off x="1403280" y="1413000"/>
            <a:ext cx="4570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2345"/>
          <p:cNvPicPr/>
          <p:nvPr/>
        </p:nvPicPr>
        <p:blipFill>
          <a:blip r:embed="rId1"/>
          <a:stretch/>
        </p:blipFill>
        <p:spPr>
          <a:xfrm>
            <a:off x="468360" y="333360"/>
            <a:ext cx="4762440" cy="350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223"/>
          <p:cNvPicPr/>
          <p:nvPr/>
        </p:nvPicPr>
        <p:blipFill>
          <a:blip r:embed="rId2"/>
          <a:stretch/>
        </p:blipFill>
        <p:spPr>
          <a:xfrm>
            <a:off x="4572000" y="3213000"/>
            <a:ext cx="446400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"Русал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полуженщина-полурыба)"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svist-rusalka01a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411280" y="1844640"/>
            <a:ext cx="2705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" Полкан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олумужчина-полуконь)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kentavr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92360" y="2133720"/>
            <a:ext cx="54007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матрёшка"/>
          <p:cNvPicPr/>
          <p:nvPr/>
        </p:nvPicPr>
        <p:blipFill>
          <a:blip r:embed="rId1"/>
          <a:stretch/>
        </p:blipFill>
        <p:spPr>
          <a:xfrm>
            <a:off x="0" y="260280"/>
            <a:ext cx="4681440" cy="2933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грибок"/>
          <p:cNvPicPr/>
          <p:nvPr/>
        </p:nvPicPr>
        <p:blipFill>
          <a:blip r:embed="rId2"/>
          <a:stretch/>
        </p:blipFill>
        <p:spPr>
          <a:xfrm>
            <a:off x="3635280" y="3149640"/>
            <a:ext cx="5040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вистит моя Свистуль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нним соловь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 толстая сосуль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удеет за окн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вистит-переливает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етит за трелью трель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снежник просыпает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учит в окно апр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истульки как самостоятельные изделия были известны еще в глубокой древности. Начиная с языческих времен их использовали как магические инструменты для вызывания в летнюю жару ветра и дожд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последствии свистульки утратили свое обрядовое значение, превратившись в детскую забаву. В последнее время они стали использоваться в народных ансамблях как своеобразные музыкальные инструме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ИСТУЛЬКА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 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гур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ядовое звуковое приспособление из обожжённой гл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овей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опел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в южных - степных областях России: к югу от русла реки О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ирестелка, свиристуль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в северной - лесной полосе России) 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увиль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окрест былинного града Чувиль, а ныне город Плёс на Верхней Волге, в Ивановской обла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струменты и приспособл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лужит для подрезания и отрезания материала, а так же для извлечения из полости свистка лишних кусочков гл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443320" y="1592640"/>
            <a:ext cx="399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астера используют для этих целей иглу от медицинского шприц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Инструменты и приспособления"/>
          <p:cNvPicPr/>
          <p:nvPr/>
        </p:nvPicPr>
        <p:blipFill>
          <a:blip r:embed="rId1"/>
          <a:stretch/>
        </p:blipFill>
        <p:spPr>
          <a:xfrm>
            <a:off x="1763640" y="2854440"/>
            <a:ext cx="51847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чуж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палочка из твердой породы древесины. Служит для протыкания канала в мундшту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ris_3b"/>
          <p:cNvPicPr/>
          <p:nvPr/>
        </p:nvPicPr>
        <p:blipFill>
          <a:blip r:embed="rId1"/>
          <a:stretch/>
        </p:blipFill>
        <p:spPr>
          <a:xfrm>
            <a:off x="826920" y="2276640"/>
            <a:ext cx="76201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б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жат для протыкания отверстий в полость свист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Инструменты и приспособления"/>
          <p:cNvPicPr/>
          <p:nvPr/>
        </p:nvPicPr>
        <p:blipFill>
          <a:blip r:embed="rId1"/>
          <a:stretch/>
        </p:blipFill>
        <p:spPr>
          <a:xfrm>
            <a:off x="395280" y="1916280"/>
            <a:ext cx="71294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тамп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лужат для декорирования методом вдавливания в сырую глин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ris_5b"/>
          <p:cNvPicPr/>
          <p:nvPr/>
        </p:nvPicPr>
        <p:blipFill>
          <a:blip r:embed="rId1"/>
          <a:stretch/>
        </p:blipFill>
        <p:spPr>
          <a:xfrm>
            <a:off x="762120" y="1833480"/>
            <a:ext cx="76197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чь для обжиг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Печь для обжига"/>
          <p:cNvPicPr/>
          <p:nvPr/>
        </p:nvPicPr>
        <p:blipFill>
          <a:blip r:embed="rId1"/>
          <a:stretch/>
        </p:blipFill>
        <p:spPr>
          <a:xfrm>
            <a:off x="611280" y="1052640"/>
            <a:ext cx="5329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намент всегда прос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тки, полоски, круги, точки, ромбики, зигзаги в разных сочет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эти простые геометрические узоры несут некую информац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няя волнистая полоса обозначает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611280" y="2781360"/>
            <a:ext cx="6983280" cy="828720"/>
          </a:xfrm>
          <a:custGeom>
            <a:avLst/>
            <a:gdLst>
              <a:gd name="textAreaLeft" fmla="*/ 0 w 6983280"/>
              <a:gd name="textAreaRight" fmla="*/ 6983640 w 6983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4399" h="522">
                <a:moveTo>
                  <a:pt x="0" y="235"/>
                </a:moveTo>
                <a:cubicBezTo>
                  <a:pt x="234" y="133"/>
                  <a:pt x="468" y="31"/>
                  <a:pt x="725" y="54"/>
                </a:cubicBezTo>
                <a:cubicBezTo>
                  <a:pt x="982" y="77"/>
                  <a:pt x="1300" y="379"/>
                  <a:pt x="1542" y="371"/>
                </a:cubicBezTo>
                <a:cubicBezTo>
                  <a:pt x="1784" y="363"/>
                  <a:pt x="1950" y="0"/>
                  <a:pt x="2177" y="8"/>
                </a:cubicBezTo>
                <a:cubicBezTo>
                  <a:pt x="2404" y="16"/>
                  <a:pt x="2661" y="417"/>
                  <a:pt x="2903" y="417"/>
                </a:cubicBezTo>
                <a:cubicBezTo>
                  <a:pt x="3145" y="417"/>
                  <a:pt x="3401" y="0"/>
                  <a:pt x="3628" y="8"/>
                </a:cubicBezTo>
                <a:cubicBezTo>
                  <a:pt x="3855" y="16"/>
                  <a:pt x="4135" y="402"/>
                  <a:pt x="4263" y="462"/>
                </a:cubicBezTo>
                <a:cubicBezTo>
                  <a:pt x="4391" y="522"/>
                  <a:pt x="4395" y="446"/>
                  <a:pt x="4399" y="371"/>
                </a:cubicBezTo>
              </a:path>
            </a:pathLst>
          </a:custGeom>
          <a:noFill/>
          <a:ln w="117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крещенные полоски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уб колод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2050920" y="2708280"/>
            <a:ext cx="0" cy="252108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3276720" y="2708280"/>
            <a:ext cx="0" cy="252108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547640" y="3284640"/>
            <a:ext cx="216072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1763640" y="4508640"/>
            <a:ext cx="1944720" cy="7128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уг с серединкой-звёздочкой – солнце и другие свети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1763640" y="2421000"/>
            <a:ext cx="3529080" cy="352908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3132000" y="3716280"/>
            <a:ext cx="7923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раз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лошадки, быки и бара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еловечк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из сосны"/>
          <p:cNvPicPr/>
          <p:nvPr/>
        </p:nvPicPr>
        <p:blipFill>
          <a:blip r:embed="rId1"/>
          <a:stretch/>
        </p:blipFill>
        <p:spPr>
          <a:xfrm>
            <a:off x="324000" y="115920"/>
            <a:ext cx="2925720" cy="3902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птичка на ножке"/>
          <p:cNvPicPr/>
          <p:nvPr/>
        </p:nvPicPr>
        <p:blipFill>
          <a:blip r:embed="rId2"/>
          <a:stretch/>
        </p:blipFill>
        <p:spPr>
          <a:xfrm>
            <a:off x="4381560" y="189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этнос"/>
          <p:cNvPicPr/>
          <p:nvPr/>
        </p:nvPicPr>
        <p:blipFill>
          <a:blip r:embed="rId3"/>
          <a:stretch/>
        </p:blipFill>
        <p:spPr>
          <a:xfrm>
            <a:off x="1619280" y="3549600"/>
            <a:ext cx="46814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птичка"/>
          <p:cNvPicPr/>
          <p:nvPr/>
        </p:nvPicPr>
        <p:blipFill>
          <a:blip r:embed="rId1"/>
          <a:stretch/>
        </p:blipFill>
        <p:spPr>
          <a:xfrm>
            <a:off x="395280" y="260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феникс"/>
          <p:cNvPicPr/>
          <p:nvPr/>
        </p:nvPicPr>
        <p:blipFill>
          <a:blip r:embed="rId2"/>
          <a:stretch/>
        </p:blipFill>
        <p:spPr>
          <a:xfrm>
            <a:off x="5435640" y="189000"/>
            <a:ext cx="3333600" cy="3009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птички"/>
          <p:cNvPicPr/>
          <p:nvPr/>
        </p:nvPicPr>
        <p:blipFill>
          <a:blip r:embed="rId3"/>
          <a:stretch/>
        </p:blipFill>
        <p:spPr>
          <a:xfrm>
            <a:off x="1979640" y="336564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этнические"/>
          <p:cNvPicPr/>
          <p:nvPr/>
        </p:nvPicPr>
        <p:blipFill>
          <a:blip r:embed="rId1"/>
          <a:stretch/>
        </p:blipFill>
        <p:spPr>
          <a:xfrm>
            <a:off x="250920" y="115920"/>
            <a:ext cx="5715000" cy="372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рыба"/>
          <p:cNvPicPr/>
          <p:nvPr/>
        </p:nvPicPr>
        <p:blipFill>
          <a:blip r:embed="rId2"/>
          <a:stretch/>
        </p:blipFill>
        <p:spPr>
          <a:xfrm>
            <a:off x="4500720" y="3357720"/>
            <a:ext cx="446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порросёнок"/>
          <p:cNvPicPr/>
          <p:nvPr/>
        </p:nvPicPr>
        <p:blipFill>
          <a:blip r:embed="rId1"/>
          <a:stretch/>
        </p:blipFill>
        <p:spPr>
          <a:xfrm>
            <a:off x="468360" y="26028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лошадь"/>
          <p:cNvPicPr/>
          <p:nvPr/>
        </p:nvPicPr>
        <p:blipFill>
          <a:blip r:embed="rId2"/>
          <a:stretch/>
        </p:blipFill>
        <p:spPr>
          <a:xfrm>
            <a:off x="4356000" y="2492280"/>
            <a:ext cx="442764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лошадка"/>
          <p:cNvPicPr/>
          <p:nvPr/>
        </p:nvPicPr>
        <p:blipFill>
          <a:blip r:embed="rId1"/>
          <a:stretch/>
        </p:blipFill>
        <p:spPr>
          <a:xfrm>
            <a:off x="395280" y="189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баран"/>
          <p:cNvPicPr/>
          <p:nvPr/>
        </p:nvPicPr>
        <p:blipFill>
          <a:blip r:embed="rId2"/>
          <a:stretch/>
        </p:blipFill>
        <p:spPr>
          <a:xfrm>
            <a:off x="4356000" y="3141720"/>
            <a:ext cx="46818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glinyanye_svistulki_2"/>
          <p:cNvPicPr/>
          <p:nvPr/>
        </p:nvPicPr>
        <p:blipFill>
          <a:blip r:embed="rId1"/>
          <a:stretch/>
        </p:blipFill>
        <p:spPr>
          <a:xfrm>
            <a:off x="3995640" y="189000"/>
            <a:ext cx="4681800" cy="293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барашек"/>
          <p:cNvPicPr/>
          <p:nvPr/>
        </p:nvPicPr>
        <p:blipFill>
          <a:blip r:embed="rId2"/>
          <a:stretch/>
        </p:blipFill>
        <p:spPr>
          <a:xfrm>
            <a:off x="179280" y="1773360"/>
            <a:ext cx="4060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7:41:09Z</dcterms:created>
  <dc:creator>ххх</dc:creator>
  <dc:description/>
  <dc:language>en-US</dc:language>
  <cp:lastModifiedBy>1</cp:lastModifiedBy>
  <dcterms:modified xsi:type="dcterms:W3CDTF">2019-01-12T10:55:41Z</dcterms:modified>
  <cp:revision>3</cp:revision>
  <dc:subject/>
  <dc:title>Слайд 1</dc:title>
</cp:coreProperties>
</file>