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2ACA8-4AE0-4CBF-AEE7-B1E7CE1A3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BAB31-242C-4A13-A568-66A300018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очинение по серии карти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усский язык 3 кла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73900-2AF7-41AE-A36B-6034A6C2F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1BB64-03AF-4EE1-995D-E160CBFC3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BA643-D86D-4928-BA58-67B6FE89E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44A64-C7C5-41F5-8893-894D01E4F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05CE8-B74D-4F54-9D55-0E7EF2779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5AA0C-CE66-4246-A908-0EAC12125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55688-2F68-41F5-BAB1-6D17CBA4E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51D36-8123-4B18-ADD2-658B25641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922EF-7495-46EC-B8D3-E9320277B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30C-32D5-4FDD-92D1-3B9DA7E5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3DD-89F5-45BB-A21E-3F11E38D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DD2-3556-430F-A0C4-5C96239A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C4D-5908-4557-97C5-175B3A2F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24C-928F-4073-A51E-3E86F2D1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A01-57A5-4505-A3E9-2F4DBE64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1BB-B9B1-4B27-BB66-DFD40F27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552-BD26-4C22-B8D8-CE81120D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727-F3B0-45A5-B783-6564F0ED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DBE-64A3-468E-AFBA-E18B027F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8F4-024E-4F48-AF5A-4399CB7A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C57-524F-46CB-9267-02C0A987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2EE0F9-A81D-41E5-9696-59816F30CE4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360" y="1530000"/>
            <a:ext cx="907092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6b0094"/>
                </a:solidFill>
                <a:latin typeface="Arial"/>
              </a:rPr>
              <a:t>Сочинение по серии картинок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6b0094"/>
                </a:solidFill>
                <a:latin typeface="Arial"/>
              </a:rPr>
              <a:t>3 класс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6b0094"/>
                </a:solidFill>
                <a:latin typeface="Arial"/>
              </a:rPr>
              <a:t>ДРУЖО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Какая важная тема раскрывается 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в вашем сочине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468520" y="1779480"/>
            <a:ext cx="4357800" cy="5357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25760" y="215640"/>
            <a:ext cx="5500800" cy="54925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Где и когда происходят события? </a:t>
            </a:r>
            <a:br>
              <a:rPr sz="3200"/>
            </a:b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Какая на улице погода? Кто изображён на переднем плане? </a:t>
            </a:r>
            <a:br>
              <a:rPr sz="3200"/>
            </a:b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Какое настроение у щенка? Почему?</a:t>
            </a:r>
            <a:br>
              <a:rPr sz="3200"/>
            </a:b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Как вы думаете, что будет дальш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636480"/>
            <a:ext cx="4140360" cy="65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8280" y="539280"/>
            <a:ext cx="5932440" cy="5954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6b0094"/>
                </a:solidFill>
                <a:latin typeface="Arial"/>
              </a:rPr>
              <a:t>Кто проходил мимо?</a:t>
            </a:r>
            <a:br>
              <a:rPr sz="3600"/>
            </a:br>
            <a:r>
              <a:rPr b="1" lang="en-US" sz="3600" spc="-1" strike="noStrike">
                <a:solidFill>
                  <a:srgbClr val="6b0094"/>
                </a:solidFill>
                <a:latin typeface="Arial"/>
              </a:rPr>
              <a:t> Как художник передал чувства подруг?</a:t>
            </a:r>
            <a:br>
              <a:rPr sz="3600"/>
            </a:br>
            <a:r>
              <a:rPr b="1" lang="en-US" sz="3600" spc="-1" strike="noStrike">
                <a:solidFill>
                  <a:srgbClr val="6b0094"/>
                </a:solidFill>
                <a:latin typeface="Arial"/>
              </a:rPr>
              <a:t>Как вы думаете, что будет дальше?</a:t>
            </a:r>
            <a:br>
              <a:rPr sz="3600"/>
            </a:br>
            <a:r>
              <a:rPr b="1" lang="en-US" sz="3600" spc="-1" strike="noStrike">
                <a:solidFill>
                  <a:srgbClr val="6b0094"/>
                </a:solidFill>
                <a:latin typeface="Arial"/>
              </a:rPr>
              <a:t> А что бы сделали вы?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82520" y="1636560"/>
            <a:ext cx="3822840" cy="48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25400" y="215640"/>
            <a:ext cx="5248440" cy="6421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Где продолжается история о брошенном щенке?</a:t>
            </a:r>
            <a:br>
              <a:rPr sz="3200"/>
            </a:b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 О чём думают подружки?</a:t>
            </a:r>
            <a:br>
              <a:rPr sz="3200"/>
            </a:b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 Что сделали подруги, когда принесли малыша домой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Почему он</a:t>
            </a:r>
            <a:r>
              <a:rPr b="1" lang="ru-RU" sz="3200" spc="-1" strike="noStrike">
                <a:solidFill>
                  <a:srgbClr val="6b0094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 решили назвать собачку Друж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4160" y="1922400"/>
            <a:ext cx="392904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25400" y="301320"/>
            <a:ext cx="524844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6b0094"/>
                </a:solidFill>
                <a:latin typeface="Arial"/>
              </a:rPr>
              <a:t>Чем закончился день для малыша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6b0094"/>
                </a:solidFill>
                <a:latin typeface="Arial"/>
              </a:rPr>
              <a:t> Какое настроение у девоче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6720" y="1708200"/>
            <a:ext cx="385776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284c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99284c"/>
                </a:solidFill>
                <a:latin typeface="Arial"/>
              </a:rPr>
              <a:t>осстановит</a:t>
            </a:r>
            <a:r>
              <a:rPr b="1" lang="ru-RU" sz="3200" spc="-1" strike="noStrike">
                <a:solidFill>
                  <a:srgbClr val="99284c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99284c"/>
                </a:solidFill>
                <a:latin typeface="Arial"/>
              </a:rPr>
              <a:t> последов</a:t>
            </a:r>
            <a:r>
              <a:rPr b="1" lang="ru-RU" sz="3200" spc="-1" strike="noStrike">
                <a:solidFill>
                  <a:srgbClr val="99284c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99284c"/>
                </a:solidFill>
                <a:latin typeface="Arial"/>
              </a:rPr>
              <a:t>тельность событий</a:t>
            </a:r>
            <a:br>
              <a:rPr sz="3200"/>
            </a:br>
            <a:r>
              <a:rPr b="1" lang="en-US" sz="3200" spc="-1" strike="noStrike">
                <a:solidFill>
                  <a:srgbClr val="99284c"/>
                </a:solidFill>
                <a:latin typeface="Arial"/>
              </a:rPr>
              <a:t> по серии карти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1708200"/>
            <a:ext cx="2571840" cy="27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611440" y="1994040"/>
            <a:ext cx="2643120" cy="27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754360" y="4565520"/>
            <a:ext cx="2643120" cy="2721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4"/>
          <a:stretch/>
        </p:blipFill>
        <p:spPr>
          <a:xfrm>
            <a:off x="254160" y="4637160"/>
            <a:ext cx="2457360" cy="257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5"/>
          <a:stretch/>
        </p:blipFill>
        <p:spPr>
          <a:xfrm>
            <a:off x="5040360" y="2065320"/>
            <a:ext cx="2428920" cy="2409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6"/>
          <a:stretch/>
        </p:blipFill>
        <p:spPr>
          <a:xfrm>
            <a:off x="7612200" y="2065320"/>
            <a:ext cx="2182680" cy="235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7"/>
          <a:stretch/>
        </p:blipFill>
        <p:spPr>
          <a:xfrm>
            <a:off x="5183280" y="4637160"/>
            <a:ext cx="2500200" cy="27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8"/>
          <a:stretch/>
        </p:blipFill>
        <p:spPr>
          <a:xfrm>
            <a:off x="7508880" y="4637160"/>
            <a:ext cx="2571840" cy="27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99284c"/>
                </a:solidFill>
                <a:latin typeface="Arial"/>
              </a:rPr>
              <a:t>Подбираем слова-синонимы. Зач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54200" y="1768320"/>
            <a:ext cx="3511440" cy="4940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9280" y="1768320"/>
            <a:ext cx="485928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ждлив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настн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жас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680000" y="4029120"/>
            <a:ext cx="485928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рустны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чальный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диноки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мокш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99284c"/>
                </a:solidFill>
                <a:latin typeface="Arial"/>
              </a:rPr>
              <a:t>Придумай подругам име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166760" y="1768320"/>
            <a:ext cx="3102120" cy="4384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3080" y="1689120"/>
            <a:ext cx="514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видели, заметили, пожалели, удивились, ахну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751280" y="4059360"/>
            <a:ext cx="496728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Щенка, маленькую собачку, малыша, бедолагу, пёсика, найдёныш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158840" y="1768320"/>
            <a:ext cx="3116160" cy="43848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достные, счастливые, довол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151600" y="4059360"/>
            <a:ext cx="442584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мыл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сушил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кормил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1</cp:lastModifiedBy>
  <dcterms:modified xsi:type="dcterms:W3CDTF">2019-01-12T09:45:18Z</dcterms:modified>
  <cp:revision>9</cp:revision>
  <dc:subject/>
  <dc:title>Сочинение по серии картинок  3 класс  ДРУЖОК </dc:title>
</cp:coreProperties>
</file>