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E922B-4AD5-44F2-9AA0-B4B23A1A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DFA8-61C6-44D2-BFE4-BE3F42A84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чинение по серии карти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усский язык 3 кла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F7D94-4A28-4CAE-A6C6-BBE4B7BA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B59C6-1999-4713-9C33-B2A499D08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9FB90-A708-496A-A390-C030B1148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BEB0-B2B8-4440-9923-369610A1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A5DE7-27B4-44CE-B473-3441A55A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771BB-5CE2-43DC-9B39-08D265F2A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C05C9-ED05-44CA-88D3-152EF811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1974-92AB-4874-A255-02E8F9DA8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D225-6815-4910-80D5-203C3213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C08-BDB8-4AEB-B392-FD5F3C5D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741-326F-4306-AA24-FE60EC6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DA-739A-4260-9AE8-A90967F2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9AB-434A-481F-A913-AFDC1CB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06E-572F-4A47-9668-16EECAB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AA3-C8D0-426F-89E2-0F27169D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2B1-2C63-4359-A292-D5BC8662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40B-2418-4E4A-AA89-3970457D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4A2-93BB-42C4-B38C-8F6BC93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40D-58D0-4A3B-AC86-2DBE879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320-4024-4D79-8A73-CE1F1872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A39-B555-4171-953E-B867663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B9CCFA-3108-4BCD-8D42-9520F86179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1530000"/>
            <a:ext cx="907092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Сочинение по серии картинок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3 класс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6b0094"/>
                </a:solidFill>
                <a:latin typeface="Arial"/>
              </a:rPr>
              <a:t>ДРУЖ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Какая важная тема раскрывается 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в вашем соч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468520" y="1779480"/>
            <a:ext cx="4357800" cy="5357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25760" y="215640"/>
            <a:ext cx="55008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Где и когда происходят события? 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ая на улице погода? Кто изображён на переднем плане? 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ое настроение у щенка? Почему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Как вы думаете, что будет да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636480"/>
            <a:ext cx="414036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8280" y="539280"/>
            <a:ext cx="5932440" cy="5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Кто проходил мимо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 Как художник передал чувства подруг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Как вы думаете, что будет дальше?</a:t>
            </a:r>
            <a:br>
              <a:rPr sz="3600"/>
            </a:br>
            <a:r>
              <a:rPr b="1" lang="en-US" sz="3600" spc="-1" strike="noStrike">
                <a:solidFill>
                  <a:srgbClr val="6b0094"/>
                </a:solidFill>
                <a:latin typeface="Arial"/>
              </a:rPr>
              <a:t> А что бы сделали вы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2520" y="1636560"/>
            <a:ext cx="3822840" cy="48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25400" y="215640"/>
            <a:ext cx="5248440" cy="6421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Где продолжается история о брошенном щенке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О чём думают подружки?</a:t>
            </a: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Что сделали подруги, когда принесли малыша домой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Почему он</a:t>
            </a:r>
            <a:r>
              <a:rPr b="1" lang="ru-RU" sz="3200" spc="-1" strike="noStrike">
                <a:solidFill>
                  <a:srgbClr val="6b0094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6b0094"/>
                </a:solidFill>
                <a:latin typeface="Arial"/>
              </a:rPr>
              <a:t> решили назвать собачку Друж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4160" y="1922400"/>
            <a:ext cx="39290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25400" y="301320"/>
            <a:ext cx="524844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6b0094"/>
                </a:solidFill>
                <a:latin typeface="Arial"/>
              </a:rPr>
              <a:t>Чем закончился день для малыша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b0094"/>
                </a:solidFill>
                <a:latin typeface="Arial"/>
              </a:rPr>
              <a:t> Какое настроение у девоч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6720" y="1708200"/>
            <a:ext cx="38577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осстановит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 последов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тельность событий</a:t>
            </a:r>
            <a:br>
              <a:rPr sz="3200"/>
            </a:br>
            <a:r>
              <a:rPr b="1" lang="en-US" sz="3200" spc="-1" strike="noStrike">
                <a:solidFill>
                  <a:srgbClr val="99284c"/>
                </a:solidFill>
                <a:latin typeface="Arial"/>
              </a:rPr>
              <a:t> по серии карт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708200"/>
            <a:ext cx="2571840" cy="27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611440" y="1994040"/>
            <a:ext cx="2643120" cy="27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754360" y="4565520"/>
            <a:ext cx="2643120" cy="272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254160" y="4637160"/>
            <a:ext cx="2457360" cy="257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5"/>
          <a:stretch/>
        </p:blipFill>
        <p:spPr>
          <a:xfrm>
            <a:off x="5040360" y="2065320"/>
            <a:ext cx="2428920" cy="24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6"/>
          <a:stretch/>
        </p:blipFill>
        <p:spPr>
          <a:xfrm>
            <a:off x="7612200" y="2065320"/>
            <a:ext cx="218268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5183280" y="4637160"/>
            <a:ext cx="250020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8"/>
          <a:stretch/>
        </p:blipFill>
        <p:spPr>
          <a:xfrm>
            <a:off x="7508880" y="4637160"/>
            <a:ext cx="25718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284c"/>
                </a:solidFill>
                <a:latin typeface="Arial"/>
              </a:rPr>
              <a:t>Подбираем слова-синонимы. За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4200" y="1768320"/>
            <a:ext cx="3511440" cy="4940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9280" y="1768320"/>
            <a:ext cx="48592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ждлив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настн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жас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0000" y="4029120"/>
            <a:ext cx="48592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устны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чальн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динок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мокш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284c"/>
                </a:solidFill>
                <a:latin typeface="Arial"/>
              </a:rPr>
              <a:t>Придумай подругам име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66760" y="1768320"/>
            <a:ext cx="3102120" cy="438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3080" y="1689120"/>
            <a:ext cx="514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видели, заметили, пожалели, удивились, ахну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751280" y="4059360"/>
            <a:ext cx="49672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Щенка, маленькую собачку, малыша, бедолагу, пёсика, найдёныш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58840" y="1768320"/>
            <a:ext cx="3116160" cy="438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достные, счастливые, дово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151600" y="4059360"/>
            <a:ext cx="44258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м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суш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рми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1</cp:lastModifiedBy>
  <dcterms:modified xsi:type="dcterms:W3CDTF">2019-01-12T09:45:18Z</dcterms:modified>
  <cp:revision>9</cp:revision>
  <dc:subject/>
  <dc:title>Сочинение по серии картинок  3 класс  ДРУЖОК </dc:title>
</cp:coreProperties>
</file>