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7F3-13B4-476E-A263-0E78DA83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B0A-801E-40D3-BBDE-4E4FA6F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3DE-4231-4DEC-8CA1-4B379672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6A5-53BF-4CE7-B7C9-E79E478B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C4B-7D96-4CA4-B83C-8FCD2D1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14B0-FE03-48C8-9E8C-04DB616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1A90-854B-47B2-AE27-18D9F08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B417-D154-45E0-B07C-AE4A9686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0A4-5905-4999-BAC1-C6D82C6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56B-F190-41E8-9908-BF42B42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2F80-5E73-4E02-AEBB-5923B8B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D09-486E-41C1-9C44-C2324360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3D5-BB9D-4601-ABDC-C802B81F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80C8-7FF6-4D7F-B6FC-0168217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81D9-2C03-46E6-8E3B-A1D5409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241-70C1-4E50-8E97-FE631BEB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0CD-AD08-4D41-8E2E-2197160F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53C2-8B72-44D1-84CA-D6614D89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7D8C-CF28-4D35-8C50-2747B67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DE56-3A07-4167-8A5E-380A0888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0485-1723-47ED-B843-67D5139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7B59-4A8B-4F76-B7BB-3613EAF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917-6FA5-48DA-9F59-C91AA42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157C-C176-4210-9246-71A562B4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264C-C197-4D67-BF84-3FD50896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69AD-DAE9-478E-9CBF-8D00D98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73F2-8AEE-415A-9C0B-0E150AFC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0B66-087A-45C9-9178-0335CA2F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95DF-91C2-468D-B4A1-FBE1D29E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D194-589F-4510-960C-B0C377E8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4635-2B09-4FCD-8FA0-EEF74742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60E9-3AB3-405C-B042-290B312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DC87-2C07-422D-85EA-524D74F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7E-6249-4B3E-820E-493EA492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B074-C98F-429B-98C8-3E44BFE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8B42-14F5-46BC-89D3-F6C5BB2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BE24-F9AF-4E8D-9031-80EC101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C1AD-E8D0-48AB-8FFE-24988C4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F71C1-26DB-4B5E-8DB1-6369F50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D065-E487-404C-8E20-EB29A35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1259-BE5E-449A-8929-341ED48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E2FE-B464-4EFD-A85D-B368B0E5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2F53-2D2C-4AF0-A9FD-C4D6EF43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9EC-C902-4059-837C-5B95504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E90-659A-4B8F-A2FD-3C07EFA5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316-5348-4518-BCEB-A9B9FF7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18B-7A53-4C9F-99B6-1CB1528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708-7671-45FF-8E74-AC10E93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AA783-8280-4E44-9D56-5E3E74C576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1BD58-78D7-4D1B-949A-4F0C2829F4A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131E8-DC71-4A12-BB63-87E7A42A1D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D05EF-8410-4DE5-887C-48ED2844A9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947880" y="17128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Знание солнеч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1152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Скругленный прямоугольник 5"/>
          <p:cNvSpPr/>
          <p:nvPr/>
        </p:nvSpPr>
        <p:spPr>
          <a:xfrm>
            <a:off x="3438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Скругленный прямоугольник 6"/>
          <p:cNvSpPr/>
          <p:nvPr/>
        </p:nvSpPr>
        <p:spPr>
          <a:xfrm>
            <a:off x="5724360" y="4149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1938240" y="3073320"/>
            <a:ext cx="3000600" cy="7146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Исправьте фраз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Результат те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Ошибки: 8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Arial"/>
                <a:ea typeface="Arial"/>
              </a:rPr>
              <a:t>Отметка: 2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9 се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планета является самой крупной в солнечной систем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364320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Третья планета от Солнц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Скругленный прямоугольник 3"/>
          <p:cNvSpPr/>
          <p:nvPr/>
        </p:nvSpPr>
        <p:spPr>
          <a:xfrm>
            <a:off x="364320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9680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Между какими планетами находится пояс астероидов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Скругленный прямоугольник 12"/>
          <p:cNvSpPr/>
          <p:nvPr/>
        </p:nvSpPr>
        <p:spPr>
          <a:xfrm>
            <a:off x="3643200" y="394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Скругленный прямоугольник 14"/>
          <p:cNvSpPr/>
          <p:nvPr/>
        </p:nvSpPr>
        <p:spPr>
          <a:xfrm>
            <a:off x="928800" y="394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самая дальняя планета Солнечной систем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665964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38564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Выберите планеты-гиган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а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1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единственным правильным ответом. Какая планета имеет кольца вокруг своей ос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3608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Вопрос 2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 (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уровень 3</a:t>
            </a:r>
            <a:r>
              <a:rPr b="0" lang="en-US" sz="3600" spc="-1" strike="noStrike">
                <a:solidFill>
                  <a:srgbClr val="90c226"/>
                </a:solidFill>
                <a:latin typeface="Arial"/>
                <a:ea typeface="Arial"/>
              </a:rPr>
              <a:t>)</a:t>
            </a:r>
            <a:r>
              <a:rPr b="0" lang="ru-RU" sz="3600" spc="-1" strike="noStrike">
                <a:solidFill>
                  <a:srgbClr val="90c22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31436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Выберете планеты, которые находятся внутри пояса астероид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уто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c3c43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Оля</cp:lastModifiedBy>
  <cp:lastPrinted>2019-01-07T17:36:23Z</cp:lastPrinted>
  <dcterms:modified xsi:type="dcterms:W3CDTF">2019-01-11T21:43:08Z</dcterms:modified>
  <cp:revision>722</cp:revision>
  <dc:subject/>
  <dc:title>Слайд 1</dc:title>
</cp:coreProperties>
</file>