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FAA-5045-4959-A174-033F04ED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BFC-9AE7-4441-B31F-E8035C11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B0F-02DD-40DA-8827-7AF8B11F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3B7-25B9-49F1-BE24-059E5173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231B-AD29-434C-9B53-4008B569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279A-D24E-4781-8278-815361A0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AE92-9035-472F-94FD-B133A746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C7E4-F673-4295-B366-F28027C1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3B6A-7857-4E70-A510-9C752B01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F8FB-C546-43C9-83CD-F9AF868E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1C7B-BA26-41B0-802C-5493BA70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C7C-FC33-4DF9-A66F-EEF8B780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5DC8-59EA-429B-B7DD-8F5055DE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275F-C4A6-440B-ACBF-E700DB42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3AC1-02A8-4406-91B6-F493AB31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1740-C9C2-46F4-ABA2-803FAAF4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CEC7-EDF6-40B6-8730-DC00A4DD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1A30-5F66-4B0E-9501-089BDFD3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72E1-2DF0-421F-89F3-F2C00FCF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8BD7A-C6D9-46CB-8BB8-BF82AA5A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3A18-BCAE-4679-9F60-1CD0099E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7D6B-428B-4A5D-8A4D-39581247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607-1654-430B-8A0A-EA3A4BF6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25B5-6A88-46EC-8D88-D0FDB82D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AED7-82F3-4193-8621-6294D227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DA2A-9DFA-4715-B12F-259539C0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4FE8-0E1C-47BD-A29E-86915AD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47B2-A4BD-491D-B7CA-F1F95305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E24A6-72A3-4236-B5C4-17D6EC9D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D85C6-19AE-4C0F-8009-339EBF46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5B9D9-6B5C-47F8-B7AD-267CDFD9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A7F9-81B4-4BB6-8EF5-F4B8EA98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0811F-7C4F-4092-A3F2-8F96F547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B2D-1CC3-4116-BF27-88219BEE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F6B3D-6522-4760-BB80-FFE28A05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0571B-0642-404B-8C5A-6729E7FE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FFB0C-9943-4B1B-82A6-5B976B98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9D2FE-30B8-4B8D-AE93-BCACFF9E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2ED4-E524-45C0-B950-A2E72431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C99B4-4762-405F-803C-CF5DCE0F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283E1-9985-4FE3-9483-19EB0DF8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FB41D-DED2-450C-8436-BCDDD9DD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B025-3A61-44AA-A3E3-C725D02A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E38-C6F5-4B7E-84EB-012E1E71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C1C-4ED0-40B6-9B2D-F1E8D07C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89C-EB62-4BCA-99CC-04269FE5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D8A-CE16-4939-BFDF-35EBE9F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832-446B-43E8-B366-EE2A35FD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28B86-42A6-4C65-B245-63B0A4EB1AD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D28F5-085C-4E92-AC52-9ED691916AC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C58F1-BA6F-406F-8AD3-80474D80B3B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CEA12-541D-4B46-8073-4E7F7B399C7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947880" y="17128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Знание солнечной систем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Скругленный прямоугольник 3"/>
          <p:cNvSpPr/>
          <p:nvPr/>
        </p:nvSpPr>
        <p:spPr>
          <a:xfrm>
            <a:off x="1152360" y="41497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Скругленный прямоугольник 5"/>
          <p:cNvSpPr/>
          <p:nvPr/>
        </p:nvSpPr>
        <p:spPr>
          <a:xfrm>
            <a:off x="3438360" y="41497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Скругленный прямоугольник 6"/>
          <p:cNvSpPr/>
          <p:nvPr/>
        </p:nvSpPr>
        <p:spPr>
          <a:xfrm>
            <a:off x="5724360" y="41497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Скругленный прямоугольник 7"/>
          <p:cNvSpPr/>
          <p:nvPr/>
        </p:nvSpPr>
        <p:spPr>
          <a:xfrm>
            <a:off x="1938240" y="3073320"/>
            <a:ext cx="3000600" cy="7146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Исправьте фразу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Результат тес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Arial"/>
                <a:ea typeface="Arial"/>
              </a:rPr>
              <a:t>Ошибки: 8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Arial"/>
                <a:ea typeface="Arial"/>
              </a:rPr>
              <a:t>Отметка: 2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19 сек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1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1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единственным правильным ответом. Какая планета является самой крупной в солнечной системе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Скругленный прямоугольник 3"/>
          <p:cNvSpPr/>
          <p:nvPr/>
        </p:nvSpPr>
        <p:spPr>
          <a:xfrm>
            <a:off x="364320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уто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2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1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единственным правильным ответом. Третья планета от Солнц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Скругленный прямоугольник 3"/>
          <p:cNvSpPr/>
          <p:nvPr/>
        </p:nvSpPr>
        <p:spPr>
          <a:xfrm>
            <a:off x="364320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ркур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3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1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96800"/>
            <a:ext cx="82296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Между какими планетами находится пояс астероидов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Скругленный прямоугольник 12"/>
          <p:cNvSpPr/>
          <p:nvPr/>
        </p:nvSpPr>
        <p:spPr>
          <a:xfrm>
            <a:off x="3643200" y="394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Скругленный прямоугольник 14"/>
          <p:cNvSpPr/>
          <p:nvPr/>
        </p:nvSpPr>
        <p:spPr>
          <a:xfrm>
            <a:off x="928800" y="394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уто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1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2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единственным правильным ответом. Какая самая дальняя планета Солнечной системы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Скругленный прямоугольник 3"/>
          <p:cNvSpPr/>
          <p:nvPr/>
        </p:nvSpPr>
        <p:spPr>
          <a:xfrm>
            <a:off x="665964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уто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а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Скругленный прямоугольник 5"/>
          <p:cNvSpPr/>
          <p:nvPr/>
        </p:nvSpPr>
        <p:spPr>
          <a:xfrm>
            <a:off x="35719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пту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2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2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385640"/>
            <a:ext cx="82296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Выберите планеты-гиган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а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уто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пту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1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3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единственным правильным ответом. Какая планета имеет кольца вокруг своей ос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Скругленный прямоугольник 3"/>
          <p:cNvSpPr/>
          <p:nvPr/>
        </p:nvSpPr>
        <p:spPr>
          <a:xfrm>
            <a:off x="360828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пту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2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3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31436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Выберете планеты, которые находятся внутри пояса астероид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ркур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уто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Оля</cp:lastModifiedBy>
  <cp:lastPrinted>2019-01-07T17:36:23Z</cp:lastPrinted>
  <dcterms:modified xsi:type="dcterms:W3CDTF">2019-01-11T21:43:08Z</dcterms:modified>
  <cp:revision>722</cp:revision>
  <dc:subject/>
  <dc:title>Слайд 1</dc:title>
</cp:coreProperties>
</file>