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1F9-B118-4C75-9522-6113097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CAC-0E88-4044-AA6C-0540D6B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01F-8B11-4EB9-8815-ACFD223E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1EC-ABA8-4237-BCBF-B6587DF9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79A6-F0A2-4BF1-93D3-C09E8432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E399-12B7-46A0-88B4-18D5F25F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0DC3-0E53-44D8-94FF-10BAD48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FE70-E556-4E0C-BBD9-A21C8A5F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7787-7799-4E2C-B38C-DD330D1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4734-29B8-4A3E-99E7-71EA01A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5289-D3E7-4847-B5E4-42B652F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C36-F5EB-41F6-A89C-049ABF2D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E324-24C0-424B-83C6-9095790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8024-1834-4289-917B-C2331BF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91D2-AE8E-41E3-BF99-E8A46804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3034-4C15-4B7A-B69D-CAE0A181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C801-AF69-44A7-A831-6EE572AC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1A4-9EFB-4564-9D9F-B3884E6E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65B-6DEC-4EBB-B8E8-DAE44B01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01B-E1B5-4965-B62E-E261D0A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9A0-5F26-47B1-902F-150B737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191-83E5-4B44-BE90-6FF2526B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8C4-DC6F-40F9-806F-2B909B2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D7B-6171-4AEF-80D8-B529CC8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B22-82E8-4954-BD99-D3AF45E717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8D54-AC0A-4047-B986-C7129905C3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523880" y="106668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ж полон зал. Вот-вот начало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дет костюм, наложен грим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ты готов, к восторгу зал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 нему прийти совсем уже други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ваций шум и крики "Браво!"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ятны, что уж там таить?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 всё же главное - не слав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огда выходишь ты на сцену жить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нем женщины, мужчины – все актер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 них свои есть  выходы, уход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каждый не одну играет роль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альное представл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рвые поэт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50496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зовите части теат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правь ошиб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ы с наслаждением и интересом следили за мимикой и жестами актеров, наблюдали за тем, как, обувшись в легкие сандалии, на орхестре танцует хор. Большой поклонницей театра была Аспасия - жена первого стратега Афин Перикла, которая, будучи актрисой, целыми днями пропадала в театре, репетируя и играя различные роли. Сегодня ей даже довелось сыграть роль Антигоны в одноименной комедии Аристофа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осков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аганрог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халин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15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ить презентацию о театре А.П.Чехова (на выбор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усский язы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ить публичное выступ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тему «Что я знаю о лексик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 39 прочитать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Составить рассказ от лица посетившего древнегреческий теат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 и жизн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68440" y="1600200"/>
            <a:ext cx="62056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юменский драматический теат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5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ревнегречески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315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временный теат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 в Древней Гре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формулируйте цель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0" y="28335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-36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ОБЩЕГО МЕЖД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ВРЕМЕННЫМ  И  ДРЕВНЕГРЕЧЕСКИ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АТРАМИ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Театр в Древней Гре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7880" y="1600200"/>
            <a:ext cx="3595680" cy="453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3T16:32:16Z</dcterms:created>
  <dc:creator>user</dc:creator>
  <dc:description/>
  <dc:language>en-US</dc:language>
  <cp:lastModifiedBy>admin</cp:lastModifiedBy>
  <dcterms:modified xsi:type="dcterms:W3CDTF">2018-02-28T05:36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