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855-7B75-4C9E-8A7B-2A2976A3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627-73E3-44A6-80B8-5E81E9B6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D139-92E8-4151-82D0-8B341BE8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593-EADA-4EA4-BB3F-53208C12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C417-B25F-488A-B726-1BFC8C28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AFD5-1332-42C7-830A-0AEBF570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E99D-D147-45CD-831C-562295BF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17D3-3B8C-48BC-8522-6307803A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C126-AEF4-434F-959D-5E22FC44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509E-A3DE-4813-AD50-5D157EA8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413E-7247-4F9A-8EDE-F8EDF045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928-7A9A-4AB8-8339-F8F21BD5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6B64-D151-4D81-9050-4A71D6C8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0F9B-344C-46F8-A73F-A9586F79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30C7-209B-454D-AE3A-B9DD5AAD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A3E8-36F7-43EE-ACB5-DAA74877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4CF2-91BA-46F5-A56E-6DB6A976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80D-415A-47BB-BC82-B1D42BA8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9EF-31E8-42CD-9F6E-C0C5E259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F17A-2B7E-4CB6-8732-1A531567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B5C-CF35-442C-880E-1D083977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6FE-E8AF-430F-AFD8-4A416BB8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981-C145-4A78-9B05-03ADFF78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545B-A9B7-4474-8BB9-8871C61C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BC90-D345-4049-B930-E1F32020CBA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2726-C5F6-481F-BF8E-580B550E936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523880" y="106668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ж полон зал. Вот-вот начало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дет костюм, наложен грим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ты готов, к восторгу зала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 нему прийти совсем уже другим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ваций шум и крики "Браво!"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иятны, что уж там таить?!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о всё же главное - не слава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огда выходишь ты на сцену жить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нем женщины, мужчины – все актер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 них свои есть  выходы, уходы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каждый не одну играет роль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Театральное представл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495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486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ервые поэт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504960" cy="4800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3886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Назовите части теат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153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Исправь ошибк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ы с наслаждением и интересом следили за мимикой и жестами актеров, наблюдали за тем, как, обувшись в легкие сандалии, на орхестре танцует хор. Большой поклонницей театра была Аспасия - жена первого стратега Афин Перикла, которая, будучи актрисой, целыми днями пропадала в театре, репетируя и играя различные роли. Сегодня ей даже довелось сыграть роль Антигоны в одноименной комедии Аристофа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724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Московский театр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Таганрогский театр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01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ахалинский театр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315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дготовить презентацию о театре А.П.Чехова (на выбор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усский язы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дготовить публичное выступл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 тему «Что я знаю о лексике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 39 прочитать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Составить рассказ от лица посетившего древнегреческий театр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Театр и жизнь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68440" y="1600200"/>
            <a:ext cx="62056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Тюменский драматический театр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57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ревнегреческий театр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315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овременный театр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Театр в Древней Грец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82296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формулируйте цель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86000" y="28335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-360"/>
            <a:ext cx="8229600" cy="59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ОБЩЕГО МЕЖД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ОВРЕМЕННЫМ  И  ДРЕВНЕГРЕЧЕСКИ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ЕАТРАМИ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Театр в Древней Грец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77880" y="1600200"/>
            <a:ext cx="3595680" cy="4530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3T16:32:16Z</dcterms:created>
  <dc:creator>user</dc:creator>
  <dc:description/>
  <dc:language>en-US</dc:language>
  <cp:lastModifiedBy>admin</cp:lastModifiedBy>
  <dcterms:modified xsi:type="dcterms:W3CDTF">2018-02-28T05:36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