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7FE1-6549-4EF5-84F3-2C666925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BBF9-824D-42E2-8408-9C08187E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9220-F93B-46DF-9F63-997F4E15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DC0A-826E-4EF3-912C-F7C7A45E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27A1-0C5A-436D-921E-1FE9723C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576-BA57-4958-94C8-46DB4142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1091-7CD3-42C2-8F91-1E250708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47E1-A789-4536-AA1A-6CE0244F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8E6A-CD91-407B-B163-51EE918D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9039-91D1-4C08-8719-5F8F159B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48F0-022E-4D12-B610-418B07D8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41D9-CEA0-4BAB-937E-CB27A869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2F66-B30C-486C-9EA1-9066CF5D5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414360" y="706320"/>
            <a:ext cx="8369280" cy="4157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85840" y="428760"/>
          <a:ext cx="8358120" cy="6221160"/>
        </p:xfrm>
        <a:graphic>
          <a:graphicData uri="http://schemas.openxmlformats.org/drawingml/2006/table">
            <a:tbl>
              <a:tblPr/>
              <a:tblGrid>
                <a:gridCol w="1428840"/>
                <a:gridCol w="2207880"/>
                <a:gridCol w="1792440"/>
                <a:gridCol w="2928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дии (фаз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ятельность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можные приемы и мет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1f4"/>
                    </a:solidFill>
                  </a:tcPr>
                </a:tc>
              </a:tr>
              <a:tr h="45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лек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нуть учащихся к первоначальным записям – предположениям; ввести изменения, дополнения; дать творческие, исследовательские или практические задания на основе изучен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тносят «новую» информацию со «старой», используя знания, полученные на стадии осмысления содерж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олнение кластеров, таблиц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ановление причинно-следственных связей между блоками информации. Возврат к ключевым словам, верным и неверным утверждениям. Ответы на поставленные вопросы. Написание творческих работ. Организация  дискуссий, устных и письменных круглых столов 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3f6"/>
                    </a:solidFill>
                  </a:tcPr>
                </a:tc>
              </a:tr>
              <a:tr h="1008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Осуществляется анализ, творческая переработка, интерпретация изученной информации. Работа ведется индивидуально, в парах или группа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379bb"/>
                      </a:solidFill>
                    </a:lnL>
                    <a:lnR w="5760">
                      <a:solidFill>
                        <a:srgbClr val="a379bb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79bb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2"/>
          <a:stretch/>
        </p:blipFill>
        <p:spPr>
          <a:xfrm>
            <a:off x="255600" y="176040"/>
            <a:ext cx="8997840" cy="1433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85840" y="1500120"/>
          <a:ext cx="8429400" cy="5023080"/>
        </p:xfrm>
        <a:graphic>
          <a:graphicData uri="http://schemas.openxmlformats.org/drawingml/2006/table">
            <a:tbl>
              <a:tblPr/>
              <a:tblGrid>
                <a:gridCol w="1643040"/>
                <a:gridCol w="6786360"/>
              </a:tblGrid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д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тивационная (побуждение к работе с новой информацией. Стимулирование интереса к тем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ая (вызов «на поверхность» имеющихся знаний по тем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икационная (бесконфликтный обмен мнениям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мысление содерж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ая (получение новой информации по тем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атизационная (классификация полученной информации по категориям знания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тивационная (сохранение интереса к изучаемой тем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лекс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икационная (обмен мнениями о новой информаци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ая (приобретение нового знания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тивационная (побуждение к дальнейшему расширению информационного поля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очная (соотнесение новой информации и имеющихся знаний, выработка собственной позиции, оценка процесса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Заголовок 1" descr=""/>
          <p:cNvPicPr/>
          <p:nvPr/>
        </p:nvPicPr>
        <p:blipFill>
          <a:blip r:embed="rId2"/>
          <a:stretch/>
        </p:blipFill>
        <p:spPr>
          <a:xfrm>
            <a:off x="450720" y="189000"/>
            <a:ext cx="8242560" cy="1042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500040" y="1428840"/>
            <a:ext cx="8229600" cy="4951440"/>
          </a:xfrm>
          <a:prstGeom prst="rect">
            <a:avLst/>
          </a:prstGeom>
          <a:gradFill rotWithShape="0">
            <a:gsLst>
              <a:gs pos="0">
                <a:srgbClr val="a3bbff"/>
              </a:gs>
              <a:gs pos="100000">
                <a:srgbClr val="e5ebff"/>
              </a:gs>
            </a:gsLst>
            <a:lin ang="16200000"/>
          </a:gradFill>
          <a:ln w="9360">
            <a:solidFill>
              <a:srgbClr val="6081c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ластеры («гроздь»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выделение смысловых единиц текста и графическое их оформление в определенном поряд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Овал 5"/>
          <p:cNvSpPr/>
          <p:nvPr/>
        </p:nvSpPr>
        <p:spPr>
          <a:xfrm>
            <a:off x="3714840" y="4214880"/>
            <a:ext cx="1571400" cy="92880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6"/>
          <p:cNvSpPr/>
          <p:nvPr/>
        </p:nvSpPr>
        <p:spPr>
          <a:xfrm>
            <a:off x="5572080" y="3643200"/>
            <a:ext cx="1071720" cy="57168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8"/>
          <p:cNvSpPr/>
          <p:nvPr/>
        </p:nvSpPr>
        <p:spPr>
          <a:xfrm>
            <a:off x="2143080" y="3571920"/>
            <a:ext cx="1071720" cy="57132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9"/>
          <p:cNvSpPr/>
          <p:nvPr/>
        </p:nvSpPr>
        <p:spPr>
          <a:xfrm>
            <a:off x="5786280" y="5286240"/>
            <a:ext cx="1071720" cy="57168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12"/>
          <p:cNvSpPr/>
          <p:nvPr/>
        </p:nvSpPr>
        <p:spPr>
          <a:xfrm>
            <a:off x="2214720" y="5357880"/>
            <a:ext cx="1071360" cy="57132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15"/>
          <p:cNvSpPr/>
          <p:nvPr/>
        </p:nvSpPr>
        <p:spPr>
          <a:xfrm>
            <a:off x="928800" y="2928960"/>
            <a:ext cx="1071360" cy="57132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16"/>
          <p:cNvSpPr/>
          <p:nvPr/>
        </p:nvSpPr>
        <p:spPr>
          <a:xfrm>
            <a:off x="785880" y="4000680"/>
            <a:ext cx="1071360" cy="57132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17"/>
          <p:cNvSpPr/>
          <p:nvPr/>
        </p:nvSpPr>
        <p:spPr>
          <a:xfrm>
            <a:off x="785880" y="4929120"/>
            <a:ext cx="1071360" cy="57168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8"/>
          <p:cNvSpPr/>
          <p:nvPr/>
        </p:nvSpPr>
        <p:spPr>
          <a:xfrm>
            <a:off x="785880" y="5715000"/>
            <a:ext cx="1071360" cy="57168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19"/>
          <p:cNvSpPr/>
          <p:nvPr/>
        </p:nvSpPr>
        <p:spPr>
          <a:xfrm>
            <a:off x="6929280" y="3143160"/>
            <a:ext cx="1071720" cy="57168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20"/>
          <p:cNvSpPr/>
          <p:nvPr/>
        </p:nvSpPr>
        <p:spPr>
          <a:xfrm>
            <a:off x="7072200" y="4071960"/>
            <a:ext cx="1071720" cy="57132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Прямая со стрелкой 23"/>
          <p:cNvCxnSpPr/>
          <p:nvPr/>
        </p:nvCxnSpPr>
        <p:spPr>
          <a:xfrm flipV="1">
            <a:off x="5143680" y="4142880"/>
            <a:ext cx="429120" cy="28656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85" name="Прямая со стрелкой 25"/>
          <p:cNvCxnSpPr/>
          <p:nvPr/>
        </p:nvCxnSpPr>
        <p:spPr>
          <a:xfrm flipV="1">
            <a:off x="6643440" y="3642480"/>
            <a:ext cx="286200" cy="7236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86" name="Прямая со стрелкой 27"/>
          <p:cNvCxnSpPr/>
          <p:nvPr/>
        </p:nvCxnSpPr>
        <p:spPr>
          <a:xfrm>
            <a:off x="6572160" y="4142880"/>
            <a:ext cx="357840" cy="14364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87" name="Прямая со стрелкой 29"/>
          <p:cNvCxnSpPr/>
          <p:nvPr/>
        </p:nvCxnSpPr>
        <p:spPr>
          <a:xfrm>
            <a:off x="5143320" y="4928760"/>
            <a:ext cx="643320" cy="42948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88" name="Прямая со стрелкой 31"/>
          <p:cNvCxnSpPr/>
          <p:nvPr/>
        </p:nvCxnSpPr>
        <p:spPr>
          <a:xfrm flipH="1" flipV="1">
            <a:off x="3214080" y="4071600"/>
            <a:ext cx="572040" cy="35784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89" name="Прямая со стрелкой 37"/>
          <p:cNvCxnSpPr/>
          <p:nvPr/>
        </p:nvCxnSpPr>
        <p:spPr>
          <a:xfrm flipH="1">
            <a:off x="3214080" y="4928040"/>
            <a:ext cx="572040" cy="42948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90" name="Прямая со стрелкой 41"/>
          <p:cNvCxnSpPr/>
          <p:nvPr/>
        </p:nvCxnSpPr>
        <p:spPr>
          <a:xfrm flipH="1">
            <a:off x="1856880" y="4070880"/>
            <a:ext cx="286560" cy="14364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91" name="Прямая со стрелкой 43"/>
          <p:cNvCxnSpPr/>
          <p:nvPr/>
        </p:nvCxnSpPr>
        <p:spPr>
          <a:xfrm flipH="1" flipV="1">
            <a:off x="1999800" y="3357000"/>
            <a:ext cx="357840" cy="21492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92" name="Прямая со стрелкой 45"/>
          <p:cNvCxnSpPr/>
          <p:nvPr/>
        </p:nvCxnSpPr>
        <p:spPr>
          <a:xfrm flipH="1">
            <a:off x="1856520" y="5857920"/>
            <a:ext cx="358200" cy="7200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93" name="Прямая со стрелкой 47"/>
          <p:cNvCxnSpPr/>
          <p:nvPr/>
        </p:nvCxnSpPr>
        <p:spPr>
          <a:xfrm flipH="1" flipV="1">
            <a:off x="1928520" y="5357520"/>
            <a:ext cx="286560" cy="7200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94" name="Овал 48"/>
          <p:cNvSpPr/>
          <p:nvPr/>
        </p:nvSpPr>
        <p:spPr>
          <a:xfrm>
            <a:off x="3357720" y="2857680"/>
            <a:ext cx="1071360" cy="57132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Прямая со стрелкой 52"/>
          <p:cNvCxnSpPr/>
          <p:nvPr/>
        </p:nvCxnSpPr>
        <p:spPr>
          <a:xfrm flipV="1">
            <a:off x="3071880" y="3357000"/>
            <a:ext cx="286560" cy="21492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eb966"/>
                </a:solidFill>
                <a:latin typeface="Arial"/>
              </a:rPr>
              <a:t>Таблица «З-Х-У» (Д.Огл)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1600200"/>
          <a:ext cx="7715160" cy="1571760"/>
        </p:xfrm>
        <a:graphic>
          <a:graphicData uri="http://schemas.openxmlformats.org/drawingml/2006/table">
            <a:tbl>
              <a:tblPr/>
              <a:tblGrid>
                <a:gridCol w="2332080"/>
                <a:gridCol w="2330280"/>
                <a:gridCol w="305280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чу 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340000" y="3933720"/>
          <a:ext cx="4896000" cy="2195640"/>
        </p:xfrm>
        <a:graphic>
          <a:graphicData uri="http://schemas.openxmlformats.org/drawingml/2006/table">
            <a:tbl>
              <a:tblPr/>
              <a:tblGrid>
                <a:gridCol w="2448000"/>
                <a:gridCol w="244800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и информ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чник информ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ceb966"/>
                </a:solidFill>
                <a:latin typeface="Arial"/>
              </a:rPr>
              <a:t>Инсерт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–interactiv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интерактив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– notin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размечающ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– syste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сист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– effectiv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для эффектив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 – reading an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чтения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– thinkin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размышления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24000" y="3789360"/>
          <a:ext cx="8496000" cy="2516040"/>
        </p:xfrm>
        <a:graphic>
          <a:graphicData uri="http://schemas.openxmlformats.org/drawingml/2006/table">
            <a:tbl>
              <a:tblPr/>
              <a:tblGrid>
                <a:gridCol w="2050920"/>
                <a:gridCol w="2050920"/>
                <a:gridCol w="2048040"/>
                <a:gridCol w="23461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+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-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, что вы читаете, соответствует тому, что вы знаете или думали, что знае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, что вы читаете является, для вас нов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, что вы читаете, противоречит тому, что вы уже знали или думали, что зн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, что вы читаете, не- понятно или вы хотели бы получить более подробные с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692360" y="260280"/>
            <a:ext cx="59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b966"/>
                </a:solidFill>
                <a:latin typeface="Monotype Corsiva"/>
              </a:rPr>
              <a:t>Синквейн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50920" y="1125360"/>
            <a:ext cx="8569080" cy="68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1 строка – существи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2 строка – 2 прилагатель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3 строка – 3 глаг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4 строка – фраза относительно 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5 строка – 1 слово (синоним или метафор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1547640" y="476280"/>
            <a:ext cx="69850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3168720"/>
          </a:xfrm>
          <a:prstGeom prst="rect">
            <a:avLst/>
          </a:prstGeom>
          <a:gradFill rotWithShape="0">
            <a:gsLst>
              <a:gs pos="0">
                <a:srgbClr val="d0e54f"/>
              </a:gs>
              <a:gs pos="100000">
                <a:srgbClr val="66ff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0033"/>
                </a:solidFill>
                <a:latin typeface="Arial"/>
              </a:rPr>
              <a:t>«Почётное млекопитающее» мира пернатых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eb966"/>
                </a:solidFill>
                <a:latin typeface="Arial"/>
              </a:rPr>
              <a:t>Таблица «З-Х-У» (Д.Огл)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2276640"/>
          <a:ext cx="7715160" cy="1571400"/>
        </p:xfrm>
        <a:graphic>
          <a:graphicData uri="http://schemas.openxmlformats.org/drawingml/2006/table">
            <a:tbl>
              <a:tblPr/>
              <a:tblGrid>
                <a:gridCol w="2332080"/>
                <a:gridCol w="2330280"/>
                <a:gridCol w="3052800"/>
              </a:tblGrid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чу 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4708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214200" y="1785960"/>
            <a:ext cx="8929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Ключевые слов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660033"/>
                </a:solidFill>
                <a:latin typeface="Monotype Corsiva"/>
              </a:rPr>
              <a:t>анализ ДНК, национальный символ, мех млекопитающих, усы-вибриссы, 5-6 лет, «дом киви», четверть веса птицы, Красная кни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50920" y="1341360"/>
            <a:ext cx="88930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6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8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714240" y="214200"/>
            <a:ext cx="7500960" cy="67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Предполо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Monotype Corsiva"/>
              </a:rPr>
              <a:t>1.Киви – довольно мелкие пт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Monotype Corsiva"/>
              </a:rPr>
              <a:t>2.Крылья практически не развиты , их длина составляет 5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Monotype Corsiva"/>
              </a:rPr>
              <a:t>3.Температура тела как у других пт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Monotype Corsiva"/>
              </a:rPr>
              <a:t>4.Одна пара киви может занимать территорию до 40 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Monotype Corsiva"/>
              </a:rPr>
              <a:t>5.Самка сама высиживает яйца и заботится о птенц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Monotype Corsiva"/>
              </a:rPr>
              <a:t>6.Не нужно кормить птенца в течение недели после вылуп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Monotype Corsiva"/>
              </a:rPr>
              <a:t>7.Зрение у этих птиц хорош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Виды памяти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33"/>
                </a:solidFill>
                <a:latin typeface="Arial"/>
              </a:rPr>
              <a:t>Слухов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33"/>
                </a:solidFill>
                <a:latin typeface="Arial"/>
              </a:rPr>
              <a:t>Зрительн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33"/>
                </a:solidFill>
                <a:latin typeface="Arial"/>
              </a:rPr>
              <a:t>Моторн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33"/>
                </a:solidFill>
                <a:latin typeface="Arial"/>
              </a:rPr>
              <a:t>Комбинированн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971640" y="0"/>
          <a:ext cx="6648480" cy="2212920"/>
        </p:xfrm>
        <a:graphic>
          <a:graphicData uri="http://schemas.openxmlformats.org/drawingml/2006/table">
            <a:tbl>
              <a:tblPr/>
              <a:tblGrid>
                <a:gridCol w="950760"/>
                <a:gridCol w="947880"/>
                <a:gridCol w="950760"/>
                <a:gridCol w="949320"/>
                <a:gridCol w="951120"/>
                <a:gridCol w="947520"/>
                <a:gridCol w="951120"/>
              </a:tblGrid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-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+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-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+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-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+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4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-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36"/>
          <p:cNvSpPr/>
          <p:nvPr/>
        </p:nvSpPr>
        <p:spPr>
          <a:xfrm>
            <a:off x="0" y="242100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1.Киви – довольно мелкие пт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2.Крылья практически не развиты , их длина составляет 5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3.Температура тела как у других п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4.Одна пара киви может занимать территорию до 40 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5.Самка сама высиживает яйца и заботится о птен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6.Не нужно кормить птенца в течение недели после вылуп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7.Зрение у этих птиц хорош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3240360" cy="4105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8360" y="1557360"/>
            <a:ext cx="3622680" cy="4103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2771640" y="333360"/>
            <a:ext cx="360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ив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395280" y="692280"/>
            <a:ext cx="849780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Monotype Corsiva"/>
              </a:rPr>
              <a:t>Пт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Monotype Corsiva"/>
              </a:rPr>
              <a:t>Крупная, бесхвост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Monotype Corsiva"/>
              </a:rPr>
              <a:t>Питается, размножается, не лета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Monotype Corsiva"/>
              </a:rPr>
              <a:t>Обладает признаками млекопитающ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Monotype Corsiva"/>
              </a:rPr>
              <a:t>Киви – символ Новой Зеланд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1692360" y="260280"/>
            <a:ext cx="59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b966"/>
                </a:solidFill>
                <a:latin typeface="Monotype Corsiva"/>
              </a:rPr>
              <a:t>Синквейн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50920" y="1125360"/>
            <a:ext cx="8569080" cy="68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1 строка – существи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2 строка – 2 прилагатель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3 строка – 3 глаг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4 строка – фраза относительно 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5 строка – 1 слово (синоним или метафор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59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чен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юбимые и раз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ерзают, думают, шаля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ез них не хватает чего-т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удьба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9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8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68360" y="2708280"/>
            <a:ext cx="48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95640" y="270828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само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270828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гру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87640" y="278136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ру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16360" y="2781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з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16360" y="27082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ве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00360" y="270828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п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2781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ор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2781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ков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2781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у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87640" y="278136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мол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ж.А.Браус и Д.Вуд определяют его как разумное рефлексивное мышление, сфокусированное на решении того, во что верить и что дела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.Халперн: это - направленное мышление, оно отличается взвешенностью, логичностью и целенаправленностью, его отличает использование таких когнитивных навыков и стратегий, которые увеличивают вероятность получения желательного результа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2"/>
          <a:stretch/>
        </p:blipFill>
        <p:spPr>
          <a:xfrm>
            <a:off x="281160" y="-49320"/>
            <a:ext cx="8661240" cy="174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1928880"/>
            <a:ext cx="82296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отовность к планиров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ибк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стойчив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отовность исправлять свои ошиб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созн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иск компромиссных реш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571680"/>
            <a:ext cx="8229600" cy="57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мериканский психолог К.Роджерс на одной из лекций для учителей сказал, что никакие их усилия не имеют смысла, поскольку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знанием становится только та часть информации, которая принята ребенко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Учителю необходимо выработать систему новых установок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ткрытость своим мыслям и переживаниям, способность их адекватно выражать в общении с другим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инятие ученика как личности, уверенность в его творческом потенциале, педагогический оптимизм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Эмпатическое понимание, т.е. видение педагогом внутреннего мира ученика (глазами ученика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2"/>
          <a:stretch/>
        </p:blipFill>
        <p:spPr>
          <a:xfrm>
            <a:off x="450720" y="244440"/>
            <a:ext cx="8242560" cy="1182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57200" y="1600200"/>
          <a:ext cx="8229600" cy="4297320"/>
        </p:xfrm>
        <a:graphic>
          <a:graphicData uri="http://schemas.openxmlformats.org/drawingml/2006/table">
            <a:tbl>
              <a:tblPr/>
              <a:tblGrid>
                <a:gridCol w="2743200"/>
                <a:gridCol w="2800440"/>
                <a:gridCol w="2685960"/>
              </a:tblGrid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хнологические эта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зов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туализация имеющихся знани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буждение интереса к получению новой информаци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ановка учеником собственных целей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мысление содержания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новой информаци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тировка учеником поставленных целей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лексия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мышление, рождение нового зн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ановка учеником новых целей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199720" cy="159084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3" descr=""/>
          <p:cNvPicPr/>
          <p:nvPr/>
        </p:nvPicPr>
        <p:blipFill>
          <a:blip r:embed="rId3"/>
          <a:stretch/>
        </p:blipFill>
        <p:spPr>
          <a:xfrm>
            <a:off x="426960" y="1285920"/>
            <a:ext cx="8431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Таблица 7" descr=""/>
          <p:cNvPicPr/>
          <p:nvPr/>
        </p:nvPicPr>
        <p:blipFill>
          <a:blip r:embed="rId2"/>
          <a:stretch/>
        </p:blipFill>
        <p:spPr>
          <a:xfrm>
            <a:off x="426960" y="285840"/>
            <a:ext cx="850428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8:47:24Z</dcterms:created>
  <dc:creator>алена</dc:creator>
  <dc:description/>
  <dc:language>en-US</dc:language>
  <cp:lastModifiedBy>User</cp:lastModifiedBy>
  <dcterms:modified xsi:type="dcterms:W3CDTF">2010-03-24T05:09:12Z</dcterms:modified>
  <cp:revision>79</cp:revision>
  <dc:subject/>
  <dc:title>Технология критического мышления</dc:title>
</cp:coreProperties>
</file>