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03C-C56C-4EB9-92F3-BEF45E72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D43-81A3-4492-A170-9B455D3C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867-53F2-4A75-A95D-DB2CBE30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9BE-7D29-44A3-A318-8AFB1771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6AC-C90B-4D25-9E8F-D9CA0A07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1E1-C8CD-4CD0-9644-87AC6272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0C6-D7B7-48B3-9AB5-3F4101B4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D6E-6849-4530-84AB-CA2AA023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615-BBB5-47C2-AD50-C993312D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575-4304-4E6D-8CCF-821C33E3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85A-B127-4BEC-910C-E8419686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8CE-3E66-48F2-80A8-D6548D2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7040-F411-4D9F-A3D0-86268787E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14360" y="706320"/>
            <a:ext cx="8369280" cy="415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85840" y="428760"/>
          <a:ext cx="8358120" cy="6221160"/>
        </p:xfrm>
        <a:graphic>
          <a:graphicData uri="http://schemas.openxmlformats.org/drawingml/2006/table">
            <a:tbl>
              <a:tblPr/>
              <a:tblGrid>
                <a:gridCol w="1428840"/>
                <a:gridCol w="2207880"/>
                <a:gridCol w="179244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дии (фаз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ые приемы и 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1f4"/>
                    </a:solidFill>
                  </a:tcPr>
                </a:tc>
              </a:tr>
              <a:tr h="45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нуть учащихся к первоначальным записям – предположениям; ввести изменения, дополнения; дать творческие, исследовательские или практические задания на основе изучен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сят «новую» информацию со «старой», используя знания, полученные на стадии осмысления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лнение кластеров, табли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причинно-следственных связей между блоками информации. Возврат к ключевым словам, верным и неверным утверждениям. Ответы на поставленные вопросы. Написание творческих работ. Организация  дискуссий, устных и письменных круглых столов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3f6"/>
                    </a:solidFill>
                  </a:tcPr>
                </a:tc>
              </a:tr>
              <a:tr h="100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Осуществляется анализ, творческая переработка, интерпретация изученной информации. Работа ведется индивидуально, в парах или группа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379bb"/>
                      </a:solidFill>
                    </a:lnL>
                    <a:lnR w="5760">
                      <a:solidFill>
                        <a:srgbClr val="a379bb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2"/>
          <a:stretch/>
        </p:blipFill>
        <p:spPr>
          <a:xfrm>
            <a:off x="255600" y="176040"/>
            <a:ext cx="8997840" cy="1433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5840" y="1500120"/>
          <a:ext cx="8429400" cy="5023080"/>
        </p:xfrm>
        <a:graphic>
          <a:graphicData uri="http://schemas.openxmlformats.org/drawingml/2006/table">
            <a:tbl>
              <a:tblPr/>
              <a:tblGrid>
                <a:gridCol w="1643040"/>
                <a:gridCol w="678636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д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ивационная (побуждение к работе с новой информацией. Стимулирование интереса к тем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(вызов «на поверхность» имеющихся знаний по тем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онная (бесконфликтный обмен мнениям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ысление содерж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(получение новой информации по тем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зационная (классификация полученной информации по категориям зна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ивационная (сохранение интереса к изучаемой тем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онная (обмен мнениями о новой информа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(приобретение нового зна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ивационная (побуждение к дальнейшему расширению информационного пол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очная (соотнесение новой информации и имеющихся знаний, выработка собственной позиции, оценка процесс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00040" y="1428840"/>
            <a:ext cx="8229600" cy="4951440"/>
          </a:xfrm>
          <a:prstGeom prst="rect">
            <a:avLst/>
          </a:prstGeom>
          <a:gradFill rotWithShape="0">
            <a:gsLst>
              <a:gs pos="0">
                <a:srgbClr val="a3bbff"/>
              </a:gs>
              <a:gs pos="100000">
                <a:srgbClr val="e5ebff"/>
              </a:gs>
            </a:gsLst>
            <a:lin ang="16200000"/>
          </a:gradFill>
          <a:ln w="9360">
            <a:solidFill>
              <a:srgbClr val="6081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астеры («гроздь»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выделение смысловых единиц текста и графическое их оформление в определенном поряд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Овал 5"/>
          <p:cNvSpPr/>
          <p:nvPr/>
        </p:nvSpPr>
        <p:spPr>
          <a:xfrm>
            <a:off x="3714840" y="4214880"/>
            <a:ext cx="1571400" cy="92880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6"/>
          <p:cNvSpPr/>
          <p:nvPr/>
        </p:nvSpPr>
        <p:spPr>
          <a:xfrm>
            <a:off x="5572080" y="3643200"/>
            <a:ext cx="107172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8"/>
          <p:cNvSpPr/>
          <p:nvPr/>
        </p:nvSpPr>
        <p:spPr>
          <a:xfrm>
            <a:off x="2143080" y="3571920"/>
            <a:ext cx="107172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9"/>
          <p:cNvSpPr/>
          <p:nvPr/>
        </p:nvSpPr>
        <p:spPr>
          <a:xfrm>
            <a:off x="5786280" y="5286240"/>
            <a:ext cx="107172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2214720" y="5357880"/>
            <a:ext cx="107136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5"/>
          <p:cNvSpPr/>
          <p:nvPr/>
        </p:nvSpPr>
        <p:spPr>
          <a:xfrm>
            <a:off x="928800" y="2928960"/>
            <a:ext cx="107136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6"/>
          <p:cNvSpPr/>
          <p:nvPr/>
        </p:nvSpPr>
        <p:spPr>
          <a:xfrm>
            <a:off x="785880" y="4000680"/>
            <a:ext cx="107136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7"/>
          <p:cNvSpPr/>
          <p:nvPr/>
        </p:nvSpPr>
        <p:spPr>
          <a:xfrm>
            <a:off x="785880" y="4929120"/>
            <a:ext cx="107136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8"/>
          <p:cNvSpPr/>
          <p:nvPr/>
        </p:nvSpPr>
        <p:spPr>
          <a:xfrm>
            <a:off x="785880" y="5715000"/>
            <a:ext cx="107136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9"/>
          <p:cNvSpPr/>
          <p:nvPr/>
        </p:nvSpPr>
        <p:spPr>
          <a:xfrm>
            <a:off x="6929280" y="3143160"/>
            <a:ext cx="107172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0"/>
          <p:cNvSpPr/>
          <p:nvPr/>
        </p:nvSpPr>
        <p:spPr>
          <a:xfrm>
            <a:off x="7072200" y="4071960"/>
            <a:ext cx="107172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23"/>
          <p:cNvCxnSpPr/>
          <p:nvPr/>
        </p:nvCxnSpPr>
        <p:spPr>
          <a:xfrm flipV="1">
            <a:off x="5143680" y="4142880"/>
            <a:ext cx="429120" cy="2865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5" name="Прямая со стрелкой 25"/>
          <p:cNvCxnSpPr/>
          <p:nvPr/>
        </p:nvCxnSpPr>
        <p:spPr>
          <a:xfrm flipV="1">
            <a:off x="6643440" y="3642480"/>
            <a:ext cx="286200" cy="723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6" name="Прямая со стрелкой 27"/>
          <p:cNvCxnSpPr/>
          <p:nvPr/>
        </p:nvCxnSpPr>
        <p:spPr>
          <a:xfrm>
            <a:off x="6572160" y="4142880"/>
            <a:ext cx="357840" cy="14364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7" name="Прямая со стрелкой 29"/>
          <p:cNvCxnSpPr/>
          <p:nvPr/>
        </p:nvCxnSpPr>
        <p:spPr>
          <a:xfrm>
            <a:off x="5143320" y="4928760"/>
            <a:ext cx="643320" cy="42948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8" name="Прямая со стрелкой 31"/>
          <p:cNvCxnSpPr/>
          <p:nvPr/>
        </p:nvCxnSpPr>
        <p:spPr>
          <a:xfrm flipH="1" flipV="1">
            <a:off x="3214080" y="4071600"/>
            <a:ext cx="572040" cy="35784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3214080" y="4928040"/>
            <a:ext cx="572040" cy="42948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0" name="Прямая со стрелкой 41"/>
          <p:cNvCxnSpPr/>
          <p:nvPr/>
        </p:nvCxnSpPr>
        <p:spPr>
          <a:xfrm flipH="1">
            <a:off x="1856880" y="4070880"/>
            <a:ext cx="286560" cy="14364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1" name="Прямая со стрелкой 43"/>
          <p:cNvCxnSpPr/>
          <p:nvPr/>
        </p:nvCxnSpPr>
        <p:spPr>
          <a:xfrm flipH="1" flipV="1">
            <a:off x="1999800" y="3357000"/>
            <a:ext cx="357840" cy="2149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H="1">
            <a:off x="1856520" y="5857920"/>
            <a:ext cx="358200" cy="720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/>
          <p:nvPr/>
        </p:nvCxnSpPr>
        <p:spPr>
          <a:xfrm flipH="1" flipV="1">
            <a:off x="1928520" y="5357520"/>
            <a:ext cx="286560" cy="720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94" name="Овал 48"/>
          <p:cNvSpPr/>
          <p:nvPr/>
        </p:nvSpPr>
        <p:spPr>
          <a:xfrm>
            <a:off x="3357720" y="2857680"/>
            <a:ext cx="107136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52"/>
          <p:cNvCxnSpPr/>
          <p:nvPr/>
        </p:nvCxnSpPr>
        <p:spPr>
          <a:xfrm flipV="1">
            <a:off x="3071880" y="3357000"/>
            <a:ext cx="286560" cy="2149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eb966"/>
                </a:solidFill>
                <a:latin typeface="Arial"/>
              </a:rPr>
              <a:t>Таблица «З-Х-У» (Д.Огл)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00200"/>
          <a:ext cx="7715160" cy="1571760"/>
        </p:xfrm>
        <a:graphic>
          <a:graphicData uri="http://schemas.openxmlformats.org/drawingml/2006/table">
            <a:tbl>
              <a:tblPr/>
              <a:tblGrid>
                <a:gridCol w="2332080"/>
                <a:gridCol w="2330280"/>
                <a:gridCol w="30528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340000" y="3933720"/>
          <a:ext cx="4896000" cy="219564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eb966"/>
                </a:solidFill>
                <a:latin typeface="Arial"/>
              </a:rPr>
              <a:t>Инсерт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–interacti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интера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– not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размеча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– syste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сис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– effecti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для эффектив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– reading a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чтения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– think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размышлени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3789360"/>
          <a:ext cx="8496000" cy="2516040"/>
        </p:xfrm>
        <a:graphic>
          <a:graphicData uri="http://schemas.openxmlformats.org/drawingml/2006/table">
            <a:tbl>
              <a:tblPr/>
              <a:tblGrid>
                <a:gridCol w="2050920"/>
                <a:gridCol w="2050920"/>
                <a:gridCol w="2048040"/>
                <a:gridCol w="23461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, что вы читаете, соответствует тому, что вы знаете или думали, что зна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, что вы читаете является, для вас нов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, что вы читаете, противоречит тому, что вы уже знали или думали, что 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, что вы читаете, не- понятно или вы хотели бы получить более подробные с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692360" y="26028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b966"/>
                </a:solidFill>
                <a:latin typeface="Monotype Corsiva"/>
              </a:rPr>
              <a:t>Синквейн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1125360"/>
            <a:ext cx="85690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 строка –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 строка – 2 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3 строка – 3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4 строка – фраза относительно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 строка – 1 слово (синоним или метафор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547640" y="476280"/>
            <a:ext cx="69850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3168720"/>
          </a:xfrm>
          <a:prstGeom prst="rect">
            <a:avLst/>
          </a:prstGeom>
          <a:gradFill rotWithShape="0">
            <a:gsLst>
              <a:gs pos="0">
                <a:srgbClr val="d0e54f"/>
              </a:gs>
              <a:gs pos="100000">
                <a:srgbClr val="66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33"/>
                </a:solidFill>
                <a:latin typeface="Arial"/>
              </a:rPr>
              <a:t>«Почётное млекопитающее» мира пернатых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eb966"/>
                </a:solidFill>
                <a:latin typeface="Arial"/>
              </a:rPr>
              <a:t>Таблица «З-Х-У» (Д.Огл)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2276640"/>
          <a:ext cx="7715160" cy="1571400"/>
        </p:xfrm>
        <a:graphic>
          <a:graphicData uri="http://schemas.openxmlformats.org/drawingml/2006/table">
            <a:tbl>
              <a:tblPr/>
              <a:tblGrid>
                <a:gridCol w="2332080"/>
                <a:gridCol w="2330280"/>
                <a:gridCol w="305280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708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14200" y="1785960"/>
            <a:ext cx="8929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Ключевые слов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анализ ДНК, национальный символ, мех млекопитающих, усы-вибриссы, 5-6 лет, «дом киви», четверть веса птицы, Красная кни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50920" y="1341360"/>
            <a:ext cx="8893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714240" y="214200"/>
            <a:ext cx="7500960" cy="67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редпо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1.Киви – довольно мелкие п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2.Крылья практически не развиты , их длина составляет 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3.Температура тела как у других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4.Одна пара киви может занимать территорию до 40 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5.Самка сама высиживает яйца и заботится о птенц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6.Не нужно кормить птенца в течение недели после выл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7.Зрение у этих птиц хорош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Виды памяти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Слухов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Зритель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Мотор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Комбинирован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971640" y="0"/>
          <a:ext cx="6648480" cy="2212920"/>
        </p:xfrm>
        <a:graphic>
          <a:graphicData uri="http://schemas.openxmlformats.org/drawingml/2006/table">
            <a:tbl>
              <a:tblPr/>
              <a:tblGrid>
                <a:gridCol w="950760"/>
                <a:gridCol w="947880"/>
                <a:gridCol w="950760"/>
                <a:gridCol w="949320"/>
                <a:gridCol w="951120"/>
                <a:gridCol w="947520"/>
                <a:gridCol w="95112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6"/>
          <p:cNvSpPr/>
          <p:nvPr/>
        </p:nvSpPr>
        <p:spPr>
          <a:xfrm>
            <a:off x="0" y="24210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1.Киви – довольно мелкие пт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2.Крылья практически не развиты , их длина составляет 5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3.Температура тела как у других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4.Одна пара киви может занимать территорию до 40 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5.Самка сама высиживает яйца и заботится о пте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6.Не нужно кормить птенца в течение недели после выл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7.Зрение у этих птиц хорош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40360" cy="410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3622680" cy="4103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771640" y="333360"/>
            <a:ext cx="36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ив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95280" y="692280"/>
            <a:ext cx="84978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Пт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Крупная, бесхвос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Питается, размножается, не лет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Обладает признаками млекопитающ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Киви – символ Новой Зеланд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692360" y="26028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b966"/>
                </a:solidFill>
                <a:latin typeface="Monotype Corsiva"/>
              </a:rPr>
              <a:t>Синквейн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0920" y="1125360"/>
            <a:ext cx="85690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 строка –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 строка – 2 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3 строка – 3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4 строка – фраза относительно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 строка – 1 слово (синоним или метафор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е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юбимые и раз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рзают, думают, шаля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з них не хватает чего-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удьба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68360" y="2708280"/>
            <a:ext cx="48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2708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амо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2708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р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2781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2781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708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в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2708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81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278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ков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781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2781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ж.А.Браус и Д.Вуд определяют его как разумное рефлексивное мышление, сфокусированное на решении того, во что верить и что дел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.Халперн: это - направленное мышление, оно отличается взвешенностью, логичностью и целенаправленностью, его отличает использование таких когнитивных навыков и стратегий, которые увеличивают вероятность получения желательного результ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281160" y="-49320"/>
            <a:ext cx="8661240" cy="174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92888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товность к планиро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стой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товность исправлять свои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озн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иск компромиссных ре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мериканский психолог К.Роджерс на одной из лекций для учителей сказал, что никакие их усилия не имеют смысла, поскольку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знанием становится только та часть информации, которая принята ребенк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ителю необходимо выработать систему новых установок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ткрытость своим мыслям и переживаниям, способность их адекватно выражать в общении с други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нятие ученика как личности, уверенность в его творческом потенциале, педагогический оптимиз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Эмпатическое понимание, т.е. видение педагогом внутреннего мира ученика (глазами ученика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57200" y="1600200"/>
          <a:ext cx="8229600" cy="4297320"/>
        </p:xfrm>
        <a:graphic>
          <a:graphicData uri="http://schemas.openxmlformats.org/drawingml/2006/table">
            <a:tbl>
              <a:tblPr/>
              <a:tblGrid>
                <a:gridCol w="2743200"/>
                <a:gridCol w="2800440"/>
                <a:gridCol w="26859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хнологические эта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уждение интереса к получению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ановка учеником собственных целей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ысление содержа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 учеником поставленных целей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ановка учеником новых целей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199720" cy="159084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"/>
          <p:cNvPicPr/>
          <p:nvPr/>
        </p:nvPicPr>
        <p:blipFill>
          <a:blip r:embed="rId3"/>
          <a:stretch/>
        </p:blipFill>
        <p:spPr>
          <a:xfrm>
            <a:off x="426960" y="1285920"/>
            <a:ext cx="8431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Таблица 7" descr=""/>
          <p:cNvPicPr/>
          <p:nvPr/>
        </p:nvPicPr>
        <p:blipFill>
          <a:blip r:embed="rId2"/>
          <a:stretch/>
        </p:blipFill>
        <p:spPr>
          <a:xfrm>
            <a:off x="426960" y="285840"/>
            <a:ext cx="85042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47:24Z</dcterms:created>
  <dc:creator>алена</dc:creator>
  <dc:description/>
  <dc:language>en-US</dc:language>
  <cp:lastModifiedBy>User</cp:lastModifiedBy>
  <dcterms:modified xsi:type="dcterms:W3CDTF">2010-03-24T05:09:12Z</dcterms:modified>
  <cp:revision>79</cp:revision>
  <dc:subject/>
  <dc:title>Технология критического мышления</dc:title>
</cp:coreProperties>
</file>