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%D0%9B%D1%83%D0%BD%D0%BD%D1%8B%D0%B9%20%D0%B7%D0%B0%D0%B9%D1%87%D0%B8%D0%BA%203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3CF-FD46-4A8B-8389-5C02A4B0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811-0C56-4AD7-9311-2E0A44E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E75-3075-42DE-886A-6ACC42DE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935-3285-4DDD-9B9D-6A77132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0BF-5574-4C4C-A2E1-7ED131E1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E64-0949-44F8-AE8B-37C6A9C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8DD-F7E7-4B46-9ACD-ED63013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76C-8390-4977-A582-EA865F8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DDC-8A7C-4E67-AF89-498EEC8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EFC-E42F-4BCD-9EC2-C36A932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5A2-AA70-47BB-8B47-80EC52E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739-BFCD-494C-8CA5-575F912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5AE-53EB-44EB-9130-E547C58E3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&#1051;&#1091;&#1085;&#1085;&#1099;&#1081;%20&#1079;&#1072;&#1081;&#1095;&#1080;&#1082;%203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9576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762280" y="16002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Таблич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2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3" descr=""/>
          <p:cNvPicPr/>
          <p:nvPr/>
        </p:nvPicPr>
        <p:blipFill>
          <a:blip r:embed="rId3"/>
          <a:stretch/>
        </p:blipFill>
        <p:spPr>
          <a:xfrm>
            <a:off x="3733920" y="58672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89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38" name="Rectangle 90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WordArt 91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0" name="Group 9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41" name="Rectangle 9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WordArt 9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9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44" name="Rectangle 9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WordArt 97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9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47" name="Rectangle 9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WordArt 10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9" name="Group 10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50" name="Rectangle 10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WordArt 10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2" name="Group 10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653" name="Rectangle 10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WordArt 10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5" name="Group 107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56" name="Rectangle 108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109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8" name="Group 11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59" name="Rectangle 11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WordArt 11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1" name="Group 6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2" name="Rectangle 6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WordArt 6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4" name="Group 8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5" name="Rectangle 8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WordArt 85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7" name="Group 5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68" name="Rectangle 5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WordArt 5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71" name="Rectangle 72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73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3" name="Group 6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4" name="Rectangle 6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WordArt 6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6" name="Group 8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7" name="Rectangle 8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WordArt 8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9" name="Group 56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0" name="Rectangle 57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WordArt 58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2" name="Group 77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3" name="Rectangle 78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WordArt 79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5" name="Group 4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6" name="Rectangle 4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WordArt 49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8" name="Group 6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9" name="Rectangle 6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WordArt 7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1" name="Group 53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2" name="Rectangle 54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WordArt 55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4" name="Group 7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5" name="Rectangle 7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WordArt 76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7" name="Group 5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98" name="Rectangle 6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WordArt 6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0" name="Group 8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701" name="Rectangle 8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WordArt 8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3" name="Group 4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704" name="Rectangle 4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WordArt 4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6" name="AutoShape 113"/>
          <p:cNvSpPr/>
          <p:nvPr/>
        </p:nvSpPr>
        <p:spPr>
          <a:xfrm>
            <a:off x="4572000" y="58341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14"/>
          <p:cNvSpPr/>
          <p:nvPr/>
        </p:nvSpPr>
        <p:spPr>
          <a:xfrm>
            <a:off x="4572000" y="58672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22" dur="indefinite" restart="never" nodeType="tmRoot">
          <p:childTnLst>
            <p:seq>
              <p:cTn id="2123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124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7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2150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2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163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189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2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202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5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2215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8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9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0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6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237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0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2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8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249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2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3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4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2261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4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5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6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2273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6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7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8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89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0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6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2297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1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2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309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2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13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4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32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5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6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6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7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8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8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9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0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1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2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369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4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0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81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4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5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6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93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6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7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8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405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08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409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1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5">
            <a:hlinkClick r:id="rId2" action="ppaction://hlinksldjump"/>
          </p:cNvPr>
          <p:cNvSpPr/>
          <p:nvPr/>
        </p:nvSpPr>
        <p:spPr>
          <a:xfrm>
            <a:off x="4224240" y="124776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9">
            <a:hlinkClick r:id="rId3" action="ppaction://hlinksldjump"/>
          </p:cNvPr>
          <p:cNvSpPr/>
          <p:nvPr/>
        </p:nvSpPr>
        <p:spPr>
          <a:xfrm>
            <a:off x="5410080" y="175248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0">
            <a:hlinkClick r:id="rId4" action="ppaction://hlinksldjump"/>
          </p:cNvPr>
          <p:cNvSpPr/>
          <p:nvPr/>
        </p:nvSpPr>
        <p:spPr>
          <a:xfrm>
            <a:off x="594360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1">
            <a:hlinkClick r:id="rId5" action="ppaction://hlinksldjump"/>
          </p:cNvPr>
          <p:cNvSpPr/>
          <p:nvPr/>
        </p:nvSpPr>
        <p:spPr>
          <a:xfrm>
            <a:off x="5410080" y="419112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>
            <a:hlinkClick r:id="rId6" action="ppaction://hlinksldjump"/>
          </p:cNvPr>
          <p:cNvSpPr/>
          <p:nvPr/>
        </p:nvSpPr>
        <p:spPr>
          <a:xfrm>
            <a:off x="4224240" y="482904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>
            <a:hlinkClick r:id="rId7" action="ppaction://hlinksldjump"/>
          </p:cNvPr>
          <p:cNvSpPr/>
          <p:nvPr/>
        </p:nvSpPr>
        <p:spPr>
          <a:xfrm>
            <a:off x="3048120" y="42670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4">
            <a:hlinkClick r:id="rId8" action="ppaction://hlinksldjump"/>
          </p:cNvPr>
          <p:cNvSpPr/>
          <p:nvPr/>
        </p:nvSpPr>
        <p:spPr>
          <a:xfrm>
            <a:off x="259092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5">
            <a:hlinkClick r:id="rId9" action="ppaction://hlinksldjump"/>
          </p:cNvPr>
          <p:cNvSpPr/>
          <p:nvPr/>
        </p:nvSpPr>
        <p:spPr>
          <a:xfrm>
            <a:off x="3048120" y="17524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3" descr=""/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9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4" name="Rectangle 70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71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68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7" name="Rectangle 2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66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14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70" name="Rectangle 115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116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7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73" name="Rectangle 118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119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5" name="Group 120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76" name="Rectangle 121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122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" name="Group 123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79" name="Rectangle 124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125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126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82" name="Rectangle 127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128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9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85" name="Rectangle 130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WordArt 131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35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88" name="Rectangle 136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137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" name="Group 73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1" name="Rectangle 54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7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" name="Group 90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4" name="Rectangle 91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9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83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97" name="Rectangle 53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82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" name="Group 99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00" name="Rectangle 100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101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Group 87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3" name="Rectangle 55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86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5" name="Group 105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6" name="Rectangle 106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107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8" name="Group 78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09" name="Rectangle 5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7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" name="Group 93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12" name="Rectangle 94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95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4" name="Group 85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5" name="Rectangle 52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84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108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8" name="Rectangle 109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WordArt 110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81"/>
          <p:cNvGrpSpPr/>
          <p:nvPr/>
        </p:nvGrpSpPr>
        <p:grpSpPr>
          <a:xfrm>
            <a:off x="7772400" y="4113360"/>
            <a:ext cx="917640" cy="834840"/>
            <a:chOff x="7772400" y="4113360"/>
            <a:chExt cx="917640" cy="834840"/>
          </a:xfrm>
        </p:grpSpPr>
        <p:sp>
          <p:nvSpPr>
            <p:cNvPr id="121" name="Rectangle 56"/>
            <p:cNvSpPr/>
            <p:nvPr/>
          </p:nvSpPr>
          <p:spPr>
            <a:xfrm>
              <a:off x="777240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80"/>
            <p:cNvSpPr txBox="1"/>
            <p:nvPr/>
          </p:nvSpPr>
          <p:spPr>
            <a:xfrm>
              <a:off x="796788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3" name="Group 96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24" name="Rectangle 97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98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6" name="Group 8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27" name="Rectangle 58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88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9" name="Group 111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30" name="Rectangle 112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113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2" name="AutoShape 139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0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5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/>
          <p:cNvPicPr/>
          <p:nvPr/>
        </p:nvPicPr>
        <p:blipFill>
          <a:blip r:embed="rId3"/>
          <a:stretch/>
        </p:blipFill>
        <p:spPr>
          <a:xfrm>
            <a:off x="5715000" y="5943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9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46" name="Rectangle 9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0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01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49" name="Rectangle 102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03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52" name="Rectangle 105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WordArt 106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55" name="Rectangle 108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WordArt 109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11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58" name="Rectangle 11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1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13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61" name="Rectangle 114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15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116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64" name="Rectangle 117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118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" name="Group 119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67" name="Rectangle 120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21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9" name="Group 62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0" name="Rectangle 63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64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83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3" name="Rectangle 8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85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6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6" name="Rectangle 6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7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89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9" name="Rectangle 90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91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56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2" name="Rectangle 57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58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77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5" name="Rectangle 78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79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71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88" name="Rectangle 72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WordArt 73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92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91" name="Rectangle 93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94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65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4" name="Rectangle 66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6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86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7" name="Rectangle 8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88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200" name="Rectangle 54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55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74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3" name="Rectangle 75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6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5" name="Group 95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6" name="Rectangle 96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7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8" name="Group 5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09" name="Rectangle 60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61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12" name="Rectangle 8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8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4" name="AutoShape 122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3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2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5" descr=""/>
          <p:cNvPicPr/>
          <p:nvPr/>
        </p:nvPicPr>
        <p:blipFill>
          <a:blip r:embed="rId3"/>
          <a:stretch/>
        </p:blipFill>
        <p:spPr>
          <a:xfrm>
            <a:off x="685800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28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9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31" name="Rectangle 9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9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97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34" name="Rectangle 98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99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37" name="Rectangle 10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WordArt 10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40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2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243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5" name="Group 10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46" name="Rectangle 11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1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49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2" name="Rectangle 5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5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4" name="Group 7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5" name="Rectangle 7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7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58" name="Rectangle 5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6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61" name="Rectangle 80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WordArt 81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4" name="Rectangle 6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6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6" name="Group 8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7" name="Rectangle 8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8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55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0" name="Rectangle 56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57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2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3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6" name="Rectangle 5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WordArt 54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9" name="Rectangle 7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WordArt 7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1" name="Group 6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2" name="Rectangle 6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WordArt 6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4" name="Group 88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5" name="Rectangle 89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90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7" name="Group 46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88" name="Rectangle 47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WordArt 48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1" name="Rectangle 65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66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3" name="Group 85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4" name="Rectangle 86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87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6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3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4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3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7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8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9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4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9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10" name="Rectangle 9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WordArt 9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Group 93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13" name="Rectangle 94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WordArt 95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Group 9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16" name="Rectangle 9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9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Group 9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19" name="Rectangle 10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WordArt 10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Group 10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22" name="Rectangle 10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10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Group 10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25" name="Rectangle 10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WordArt 10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Group 10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28" name="Rectangle 10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WordArt 11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0" name="Group 111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31" name="Rectangle 112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WordArt 113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3" name="Group 6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4" name="Rectangle 6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WordArt 6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6" name="Group 8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7" name="Rectangle 8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WordArt 8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9" name="Group 6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0" name="Rectangle 6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6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2" name="Group 8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3" name="Rectangle 8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5" name="Group 5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6" name="Rectangle 5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5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8" name="Group 7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9" name="Rectangle 7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WordArt 7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6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2" name="Rectangle 6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6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87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5" name="Rectangle 88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89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58" name="Rectangle 5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5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7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61" name="Rectangle 7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8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4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4" name="Rectangle 4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WordArt 50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69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7" name="Rectangle 70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WordArt 71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5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0" name="Rectangle 5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WordArt 5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2" name="Group 7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3" name="Rectangle 7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WordArt 7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5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76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WordArt 47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8" name="AutoShape 11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38" dur="indefinite" restart="never" nodeType="tmRoot">
          <p:childTnLst>
            <p:seq>
              <p:cTn id="93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69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0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2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3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7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5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7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2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6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4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92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94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95" name="Rectangle 95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WordArt 96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9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98" name="Rectangle 9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WordArt 9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100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01" name="Rectangle 101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WordArt 102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3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04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6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07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Group 10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10" name="Rectangle 11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11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13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Group 5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6" name="Rectangle 5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WordArt 5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9" name="Rectangle 7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WordArt 75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Group 6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2" name="Rectangle 6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6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8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5" name="Rectangle 8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WordArt 8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Group 5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28" name="Rectangle 5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6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79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31" name="Rectangle 80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81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4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34" name="Rectangle 4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WordArt 4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6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37" name="Rectangle 6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WordArt 6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8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40" name="Rectangle 8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WordArt 9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3" name="Rectangle 62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WordArt 63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8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6" name="Rectangle 8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8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8" name="Group 5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49" name="Rectangle 5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5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1" name="Group 7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52" name="Rectangle 7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WordArt 7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4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5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WordArt 5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8" name="Rectangle 7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7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60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34" dur="indefinite" restart="never" nodeType="tmRoot">
          <p:childTnLst>
            <p:seq>
              <p:cTn id="1235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8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9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0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397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1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2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3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4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5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6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7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8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0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5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2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3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4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0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9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0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52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"/>
          <p:cNvPicPr/>
          <p:nvPr/>
        </p:nvPicPr>
        <p:blipFill>
          <a:blip r:embed="rId3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00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74" name="Rectangle 101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WordArt 102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10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77" name="Rectangle 10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10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9" name="Group 106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80" name="Rectangle 107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WordArt 108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2" name="Group 109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83" name="Rectangle 110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111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5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86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8" name="Group 11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89" name="Rectangle 11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WordArt 11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1" name="Group 11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92" name="Rectangle 11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12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121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95" name="Rectangle 122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WordArt 123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7" name="Group 46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98" name="Rectangle 47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WordArt 48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0" name="Group 7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01" name="Rectangle 8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WordArt 8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3" name="Group 67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4" name="Rectangle 68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WordArt 69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8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7" name="Rectangle 8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WordArt 9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0" name="Rectangle 74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WordArt 75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94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3" name="Rectangle 95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96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43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516" name="Rectangle 44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WordArt 45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7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19" name="Rectangle 7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7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91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22" name="Rectangle 92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WordArt 93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4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5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7" name="Group 9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8" name="Rectangle 9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WordArt 99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0" name="Group 6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1" name="Rectangle 6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WordArt 6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3" name="Group 8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4" name="Rectangle 8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WordArt 8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37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WordArt 51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9" name="Group 8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40" name="Rectangle 8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84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2" name="AutoShape 12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30" dur="indefinite" restart="never" nodeType="tmRoot">
          <p:childTnLst>
            <p:seq>
              <p:cTn id="15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53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558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571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597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62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0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71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2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3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75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777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2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9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4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5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6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81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817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4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90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56" name="Rectangle 91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WordArt 92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8" name="Group 9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59" name="Rectangle 9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WordArt 95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1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62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47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4" name="Group 9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65" name="Rectangle 9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9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7" name="Group 9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568" name="Rectangle 10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WordArt 10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0" name="Group 102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71" name="Rectangle 103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WordArt 104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3" name="Group 105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574" name="Rectangle 106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WordArt 107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6" name="Group 108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77" name="Rectangle 109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WordArt 110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9" name="Group 11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80" name="Rectangle 11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WordArt 11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6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3" name="Rectangle 6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6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8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6" name="Rectangle 8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WordArt 8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57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89" name="Rectangle 58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WordArt 59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78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92" name="Rectangle 79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WordArt 80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54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5" name="Rectangle 55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WordArt 56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75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8" name="Rectangle 76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WordArt 77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0" name="Group 5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1" name="Rectangle 5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WordArt 5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3" name="Group 7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4" name="Rectangle 7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WordArt 7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6" name="Group 60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07" name="Rectangle 61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2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9" name="Group 8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10" name="Rectangle 8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WordArt 8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2" name="Group 63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3" name="Rectangle 64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WordArt 65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5" name="Group 84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6" name="Rectangle 85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WordArt 86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8" name="Group 48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19" name="Rectangle 49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50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1" name="Group 6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22" name="Rectangle 7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4" name="AutoShape 114"/>
          <p:cNvSpPr/>
          <p:nvPr/>
        </p:nvSpPr>
        <p:spPr>
          <a:xfrm>
            <a:off x="6705720" y="49197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15"/>
          <p:cNvSpPr/>
          <p:nvPr/>
        </p:nvSpPr>
        <p:spPr>
          <a:xfrm>
            <a:off x="6705720" y="49528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26" dur="indefinite" restart="never" nodeType="tmRoot">
          <p:childTnLst>
            <p:seq>
              <p:cTn id="18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82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1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0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841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4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0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3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929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2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953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6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7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8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96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9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0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977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01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6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7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8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025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0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2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3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06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4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8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08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9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0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2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210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11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уряк мария Викторовна</dc:creator>
  <dc:description/>
  <cp:keywords>Тренажёр</cp:keywords>
  <dc:language>en-US</dc:language>
  <cp:lastModifiedBy>игорь</cp:lastModifiedBy>
  <dcterms:modified xsi:type="dcterms:W3CDTF">2011-12-16T11:06:56Z</dcterms:modified>
  <cp:revision>91</cp:revision>
  <dc:subject>Тренажёр</dc:subject>
  <dc:title>В сказочном лес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