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06A-3AA6-4BF5-ACCD-87484ED9B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0AE2-D62F-41A8-BF33-C7539BAB1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3D2-6234-499B-A832-AF010417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932-B0EF-4147-A210-ACE9249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1EF-CA8D-40BE-8BA5-E2C3CCC8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560-03C2-4B11-9E13-63443C35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85D-D4AB-410B-9BE7-14DB4824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762-E7F3-4B0D-A135-601239F8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182-E17A-445D-B634-1F173062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1A5-09B5-4313-8537-6284A7FC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DEC-E351-44B8-BF7E-47D01495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1FE-BC9B-41B1-9EC1-DADB649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F09-130D-47BA-A62A-46B3199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0E9-9C60-4148-A7B9-462DD79D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093-51D7-4426-AADE-03716CDD3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0889-C48C-498A-96D4-9137E537B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_AlbionicB&amp;W"/>
              </a:rPr>
              <a:t>Трудные случаи таблицы умножения и дел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0E23-1E5B-4423-8B57-373C0A738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AA1A-3CC6-467E-B19A-1863764F3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44FF-216B-4B61-B2E0-87FD9089C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903-E82B-4422-8A87-EFEB92797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2546-5829-4FB4-A1F9-E39943750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3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20A-D121-4A0B-9F22-FECDFAA27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D0C-727F-45D9-B649-5CF7D6681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E26D-632E-4F7E-B076-33EB98834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2: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CE70-BD87-4379-BD41-1D8C0E4AC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2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08D6-F8FB-40D6-B1EA-9EF1727CA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4: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4E60-D51D-4534-8D55-9399BE65E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_AlbionicB&amp;W"/>
              </a:rPr>
              <a:t>Приношу свои извинения, но придётся начать заново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7E87-3179-4872-88F4-B9C922405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3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FB6C-002B-4425-B887-D83D7E961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8: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C81C-3D05-4F97-BE3D-E35E44F51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7:3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35D-E3C9-4032-A072-B45430A18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6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2D7D-68C8-47F2-9BB6-5BCC17898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16:4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8F38-9BA0-4F1F-A76D-9E27316CB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18: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75D4-9EB0-4C63-8345-FF616AF47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6: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8C63-B578-4885-9020-A74E9F264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1: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FE94-F15F-4DA5-AD0E-5B79B09EA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0:3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D97-AF0A-4D13-855F-382C13090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18:3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D9BB-AAC3-4A53-BB6E-734288458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19A5-E665-4302-BE6C-94B60EAC6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56: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4630-2439-483A-9C50-F20454901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28:7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>
            <a:hlinkClick r:id="rId2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>
            <a:hlinkClick r:id="rId3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rId4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A57-8D4A-4A8D-A549-C5AAD47A8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72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">
            <a:hlinkClick r:id="rId2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>
            <a:hlinkClick r:id="rId3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">
            <a:hlinkClick r:id="rId4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44E-07DA-472C-8F62-CF44173E4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_AlbionicB&amp;W"/>
              </a:rPr>
              <a:t>Поздравляю, вы запомнили таблицу умножения и деления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D55-28EB-4722-B8C2-677C51204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1: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B51-236F-475E-9711-33CC44CF1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DC61-BA43-4AE9-A078-BBDC3E240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0181-9386-4D78-B533-B54B1FC57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42: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>
            <a:hlinkClick r:id="rId4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D68A-8780-43B3-9242-880F9B3F4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2" action="ppaction://hlinksldjump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>
            <a:hlinkClick r:id="rId3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F7C9-71AD-47FB-BC63-05A3EC24D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523880"/>
            <a:ext cx="4572000" cy="3429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32: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943600" y="20574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>
            <a:hlinkClick r:id="rId2" action="ppaction://hlinksldjump"/>
          </p:cNvPr>
          <p:cNvSpPr/>
          <p:nvPr/>
        </p:nvSpPr>
        <p:spPr>
          <a:xfrm>
            <a:off x="5943600" y="685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>
            <a:hlinkClick r:id="rId3" action="ppaction://hlinksldjump"/>
          </p:cNvPr>
          <p:cNvSpPr/>
          <p:nvPr/>
        </p:nvSpPr>
        <p:spPr>
          <a:xfrm>
            <a:off x="594360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rId4" action="ppaction://hlinksldjump"/>
          </p:cNvPr>
          <p:cNvSpPr/>
          <p:nvPr/>
        </p:nvSpPr>
        <p:spPr>
          <a:xfrm>
            <a:off x="5943600" y="4800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игорь</cp:lastModifiedBy>
  <dcterms:modified xsi:type="dcterms:W3CDTF">2011-12-16T11:09:1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