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8ABB-6BD7-410D-8C49-4277C28BB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6AC7-32F3-430C-BE38-0A5C1A66DF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5F6-AAB5-4A46-ABA0-2ABBA5E3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E29-B6CA-42BD-9D0C-DEA2836C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A26-939D-445C-88E9-E0E56D0A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E7D-8B72-4AEF-9890-8A7EA434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67D-CEB9-4533-9891-049531BC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132-6008-40A8-8B7F-6749FBAF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CEA-810B-4C48-99D9-3FC576FF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F4D-3DB2-4F07-A7C7-04A7F1BB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37E-96C7-4EC8-8E56-3F55E22F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97A-FEFF-4E5C-B469-1C3DB0EC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05E-1620-49A0-A0E3-0AD0A7BC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25B-E1A5-42D1-A93B-CF988B84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4FA4-5516-46BD-A146-58AFAB727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7224-CCF0-4E1B-B208-587591FAB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_AlbionicB&amp;W"/>
              </a:rPr>
              <a:t>Трудные случаи таблицы умножения и дел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0B85-9003-4958-A6FF-3D57DDC2E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F68C-E693-4301-849F-F285264E7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6990-C5BE-49A4-89F6-87D225CA5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95C8-748C-41ED-A34F-787A90D49E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DBB6-7320-4645-9D2A-F7BBB2ADB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63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7447-5499-4378-8363-5D3B75BAD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B503-C992-4065-8E0D-899D3F9E9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27CE-B755-42E3-801F-179F2BD1C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32:4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0390-FAD3-49B6-9291-20FFD170C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2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CF49-EC8F-4B86-9072-6F01428B9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54: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351B-4207-4467-86B2-7E627A781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_AlbionicB&amp;W"/>
              </a:rPr>
              <a:t>Приношу свои извинения, но придётся начать заново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AA62-5E13-4B29-B53B-B1C77CCBA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63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EBBA-D87B-4954-A34E-B25F10956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28:4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BD33-7B73-4414-9812-51CB091C2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27:3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55D6-8188-4A39-88C6-D371B6DE6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36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791D-3583-40E9-9B87-8D15FCE40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16:4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48BB-3164-49E1-8F4E-1D2BD1AC9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18: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A441-EFF5-4547-9590-C9180C008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56: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C7DD-718F-4D30-8489-A14EAE185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21:7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1C28-6750-44D2-A59B-7415DE46B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30:3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6521-7851-4E51-8913-FF7E41F0A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18:3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52B2-5DC5-4D0A-AB73-72DC262B0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A299-3C6F-4517-9C7D-92F937D57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56:7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0C1B-CEF7-4943-9477-355226905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28:7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>
            <a:hlinkClick r:id="rId2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>
            <a:hlinkClick r:id="rId3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>
            <a:hlinkClick r:id="rId4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E8E0-7946-4F36-922D-563BDDFB8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2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">
            <a:hlinkClick r:id="rId2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">
            <a:hlinkClick r:id="rId3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">
            <a:hlinkClick r:id="rId4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5BEE-55F5-403E-BD69-34684ED1CE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_AlbionicB&amp;W"/>
              </a:rPr>
              <a:t>Поздравляю, вы запомнили таблицу умножения и деления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1085-5773-43BF-A265-259D4D2D6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1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1C87-8359-4D38-8709-62607C7AC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D30B-1BEC-4BAD-9D9A-46ECEB80C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25FB-3D59-4479-917F-754CD7F3A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42: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18B1-899B-418A-BD8D-8796D037E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3A4D-FCD3-468A-BD83-E9E5C6423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32: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игорь</cp:lastModifiedBy>
  <dcterms:modified xsi:type="dcterms:W3CDTF">2011-12-16T11:09:1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