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1853-554F-493E-A945-A654552A2A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ваы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D980-BB64-458B-B826-265F8BB2D23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Calibri"/>
              </a:rPr>
              <a:t>ф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4C4A6-9DBD-4F26-9107-BDE8D9427DF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яж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13F9-1272-41EC-9BD7-3C4B3E0B49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ба районы. Сатыш авы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E7A4-4E12-4412-912A-685172E616F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дол районы, Кульбаш  авы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65D-E094-416B-B437-781AB4B0A1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Calibri"/>
              </a:rPr>
              <a:t>Түбән ус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F522F-CEEC-453E-8000-C89BF3F0C4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юшский район дер. Болышая Турма, р. Турш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852B-0CB3-4913-A69C-F279F59833B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52C5-8D19-482F-9D1D-BD2812BF1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C0D6-51DD-4064-8434-D5B05F0B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78F474-9BAE-4795-AE5E-88033282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2A9AA0-B85D-4A48-A1EA-08044CE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4B443C-BC33-462E-A6B8-D95D6D662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EE4DD-DE80-4993-BB2D-BA2509E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3361E2-6F72-4C44-92C3-D089E0B04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649DA1-B334-4A97-9F7A-C7A7CDE2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F7C8AA7-0D33-4917-81DE-D9B62151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8EB832-80F3-4998-92AD-42572A284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A61E2A-804A-4D7C-9B50-31707B15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420715-7239-4747-BF3F-6CA1EC25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92BB-5328-4891-A1F6-F79C59AE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035B8-5C38-4A7D-8FC6-CDAC24F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08063F-914B-4D4A-B43D-C4A24786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ACCC6-1015-4155-868F-5E12292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D0C43-769D-4757-A4BB-D45A36E3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483C5-0A43-4332-A8AA-C42F5BD5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5AB522-4A60-48EA-8F9D-9FC0B1D9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44E4C-B8C8-43C4-B6B0-F6D4BA4A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F5EEF-5EAA-47B4-BC92-72DFB934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26ACF-A771-4FB5-9E60-63D6C1DB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A79591-BFA7-4E25-A49B-440A2D93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0ED5-A7D6-41CF-A99E-8CA217F3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F0CF7-D49F-4F1F-A51F-D9C1228A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5FD0F-B303-4665-8D5E-C82B6198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FA4C-68EA-4906-AF68-9EE14B53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4449-347A-4810-9669-959F121E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B5FB-93C2-4537-A4BC-1C43015F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434-5A02-40A9-B88D-DB19AAD0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1EFB-467D-427B-967D-75AF455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3AE2-63EB-4AFB-926A-57FF82E9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305-F77F-4F8F-8B88-53B50349E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73555-14A2-425C-B579-6D2F7051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4433-F32E-4F65-A822-EBF02407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7B186-AE28-4176-83E9-F9E5A706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009C-5576-45C7-908C-16EB4A0A0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1025-56BF-4DBB-BCB5-40CBF9155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E4CA-700C-4AEA-9CAA-89D6EB2F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4354B-9C0B-4CA6-B03D-C3AE158C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D3E21-7377-4ACD-9D6E-03932DBB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1C83D-2574-45DB-BAD1-5D597517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0CA63-6870-4125-AD2E-CB4EF48B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2924-E15C-4424-8AB5-7E8EC43C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B4735-2A77-445C-AB5A-46616D949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EE79E8-6F30-4EE9-811A-7FA7657A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933C1-4F2D-4ACE-8534-B22E4EF5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39B54-F54B-45A4-A4A9-E85D9EE6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70A45-DC5C-4764-980A-86289D5F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F7B1-DF9B-41BC-A929-5FE922FD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CC9EA-59B1-412B-85C1-711DBBD5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806D-5827-48B8-A8CE-E382282C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569AD-5877-4D96-AAD8-440E52F7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6DD0E-D398-4755-984B-8219DC36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2D4-3546-4403-BF02-DBD0CF80B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E1783-7C80-4863-BB78-C66EA0BC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56201-40CA-4BD5-8D64-AADEFC69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F16CF-B31A-4E3B-9936-34684833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E5DF3-AD5A-4533-93AB-6719986E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1D51E-7553-4B22-B370-370CD1050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26D61-DFB7-4F7C-8028-DE1B49BF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D3C51-0C7C-45F8-B2A4-2651C8355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5A66C-FAE1-4F25-92DF-2C9159CA5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9E69E-37CF-4A53-975C-41A6C275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7CF13-56DD-4F5F-A71C-428DA25A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5D47-56C2-4483-B157-8D44CF456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4CAF6-C643-4218-A776-532C5006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E51C5-EA28-4C09-AB7E-2BCD9DD5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20F720-AC81-484F-885B-62D8789D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5FF89-0344-45C4-95D7-D1BAFB60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68CB0-A04F-4016-B397-844DCB5D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453E8D-7FB4-49EE-863D-A7BD5901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A0DEC-4FE9-4BC6-98EA-559EB5A1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EF40B-6835-4EAC-971F-7A53E30E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0A25B-2141-4645-960B-A02E9C5D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4381C-2A51-4A2B-A289-FF58745F8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CAF-F310-4375-8DDC-E22DC8FA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396F83-7F13-4701-B918-756D8F0EB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8F225D-57DD-4654-AC18-266799AFB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F5ED1-FC8E-473B-B687-933E9935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B43C5-7871-426F-9A49-00E131CA0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C0DA1-B7E5-4AF6-A6D5-28F14F8E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3CBC3-DFBA-4B89-87A8-C86432A2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88F61-D781-4213-80E9-6BD01C4F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B9FA1-50C9-4955-8F66-2047B43E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0560C-A087-4489-BB43-FD8834DA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F1E6B-14CB-44B7-B526-B0A06A84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4E7-7F8B-4731-9AFA-7EF14FC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72D70-1256-4292-B8BA-5EB42422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D4615-6683-4446-AE20-D4640E36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C4715-0A49-4BA3-8285-582108AF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C7E29-553B-463B-8B08-654BA614C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0C5BE-33B3-4F90-BFF0-D923F313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8AFA5-77F5-4249-AD3E-4BE36EFB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555A3-1B1B-4C33-8230-183F505B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1816A-72D4-4569-8F5B-DAEC42FE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C29E6-AC29-44D4-AFBE-D660C50F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0DED0-B9C5-4663-A038-C719CB95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17B1-8DCF-4A9A-ADF0-4625C01F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A9D4F-D24C-41E7-AC30-07EE1AA8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99105D-AEBC-469A-95CB-75964C7B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F211-D569-4A72-9875-480034EA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8ABC2-E447-4370-89E5-E2B864279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5F24B-EC3A-4A52-8286-EE195C7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D4D70-FE2A-4A66-956F-89879DCE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7CC86-15A2-4BD1-8BC4-AC4993C9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0C657-15A0-4A04-81DE-488BD2A3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22DAF-EEFA-4688-BC33-1EDCA838F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5DE25-D7FC-4647-92EA-5F46A48A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D9C2-830D-4A9D-AC46-6B2FF21A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8C6B4-2761-4690-9D82-FDA84B79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46C152-6F48-4CAD-AF73-33E150B5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3B76C-EB06-405B-8538-2207583D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7BA3C-83AB-4726-A42F-C3CE4A04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82956-5037-4C64-93CF-D6FD60D8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DC18F-B16A-4DCA-976F-9B64B2FA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C5999-3E0F-4766-8216-F3D223AE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4319F86-0142-4590-B79C-89052314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C99C1E-D263-4629-8CFF-5C6784DE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917E70-2396-4C74-8DCB-E34C4287A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1FD24-C62E-411E-995E-24E3842D3C6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3189-E9B9-46EE-A38A-595CFFA7C52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BB92-6B54-4CF2-AD53-F37D5D2CB6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39C2-F0FD-428A-93A4-D7FB0B6AF4DB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1E54-F38C-408A-9B01-3A6EF0EEB1C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6F55-316B-40AF-B564-82DA3962AFE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8C91-F7E5-4D3A-9ADA-A01643F98C5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30EDD-A865-4A2B-A9A9-E0F699CD456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BB11-CDC7-462F-B135-667C3081C93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96E0-6FFF-4376-AB13-8F19EC3775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6" descr="C:\Documents and Settings\яыф\Рабочий стол\сканер\сканирование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"/>
          <p:cNvSpPr/>
          <p:nvPr/>
        </p:nvSpPr>
        <p:spPr>
          <a:xfrm>
            <a:off x="428760" y="100008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40"/>
                </a:solidFill>
                <a:latin typeface="Arial"/>
              </a:rPr>
              <a:t>«Туган илем – Туган җирем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8" descr="C:\Documents and Settings\яыф\Рабочий стол\сканер\сканирование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2"/>
          <p:cNvSpPr/>
          <p:nvPr/>
        </p:nvSpPr>
        <p:spPr>
          <a:xfrm>
            <a:off x="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Тәтеш районы, Зур Турма авылы, Туршинка елг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9" descr="C:\Documents and Settings\яыф\Рабочий стол\сканер\сканирование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2"/>
          <p:cNvSpPr/>
          <p:nvPr/>
        </p:nvSpPr>
        <p:spPr>
          <a:xfrm>
            <a:off x="-720" y="59292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укмара районы.  Туркаш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0" descr="C:\Documents and Settings\яыф\Рабочий стол\сканер\сканирование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оугольник 2"/>
          <p:cNvSpPr/>
          <p:nvPr/>
        </p:nvSpPr>
        <p:spPr>
          <a:xfrm>
            <a:off x="360" y="59292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Арча районы, Мәмсә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11" descr="C:\Documents and Settings\яыф\Рабочий стол\сканер\сканирование0011.jpg"/>
          <p:cNvPicPr/>
          <p:nvPr/>
        </p:nvPicPr>
        <p:blipFill>
          <a:blip r:embed="rId1"/>
          <a:srcRect l="1562" t="2596" r="2343" b="3898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2"/>
          <p:cNvSpPr/>
          <p:nvPr/>
        </p:nvSpPr>
        <p:spPr>
          <a:xfrm>
            <a:off x="-1080" y="585792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Биектау районы, Өлә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9400" y="307800"/>
            <a:ext cx="8173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Күге астында яшәгән, һаваларын иснәп, суларын эчкән вә икмәкләрен ашаган ватаныгызны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зияд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сөегез, моның исемен бөек итү өчен тырышыгыз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Р. Фәхредд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2"/>
          <p:cNvSpPr/>
          <p:nvPr/>
        </p:nvSpPr>
        <p:spPr>
          <a:xfrm>
            <a:off x="642960" y="500040"/>
            <a:ext cx="832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Ризаэддин Фәхреддин кузаллаганча шәкертләр (уккучылар) кыска гыйле вакыт эчендә иман, арифметика, геометрия, алгебра, география, хикмәт, (фәлсәдә), кимия (химия), һәйәт (астрономия), тыбб (меди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ина), гый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хайванат (зоология),  гый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нәбатат (ботаника), тарих, механика, гы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хокук һәм башка фәннәрне тирән итеп үзләштерергә тиешләр.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" descr="C:\Documents and Settings\яыф\Рабочий стол\сканер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2"/>
          <p:cNvSpPr/>
          <p:nvPr/>
        </p:nvSpPr>
        <p:spPr>
          <a:xfrm>
            <a:off x="6084720" y="5857920"/>
            <a:ext cx="277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Аккош күл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2" descr="C:\Documents and Settings\яыф\Рабочий стол\сканер\сканирование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2"/>
          <p:cNvSpPr/>
          <p:nvPr/>
        </p:nvSpPr>
        <p:spPr>
          <a:xfrm>
            <a:off x="25920" y="571500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Саба районы. Сатыш авы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3" descr="C:\Documents and Settings\яыф\Рабочий стол\сканер\сканирование0003.jpg"/>
          <p:cNvPicPr/>
          <p:nvPr/>
        </p:nvPicPr>
        <p:blipFill>
          <a:blip r:embed="rId1"/>
          <a:srcRect l="0" t="3754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-360" y="592920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Яшел үзән районы, Күлбаш 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4" descr="C:\Documents and Settings\яыф\Рабочий стол\сканер\сканирование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2"/>
          <p:cNvSpPr/>
          <p:nvPr/>
        </p:nvSpPr>
        <p:spPr>
          <a:xfrm>
            <a:off x="285840" y="59292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92d050"/>
                </a:solidFill>
                <a:latin typeface="Arial"/>
              </a:rPr>
              <a:t>Түбән Усл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5" descr="C:\Documents and Settings\яыф\Рабочий стол\сканер\сканирование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-720" y="60721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Яшел </a:t>
            </a:r>
            <a:r>
              <a:rPr b="0" lang="tt-RU" sz="2400" spc="-1" strike="noStrike">
                <a:solidFill>
                  <a:srgbClr val="ffc000"/>
                </a:solidFill>
                <a:latin typeface="Arial"/>
              </a:rPr>
              <a:t>үзән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районы, Усаклы ку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2"/>
          <p:cNvSpPr/>
          <p:nvPr/>
        </p:nvSpPr>
        <p:spPr>
          <a:xfrm>
            <a:off x="0" y="5929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Тәтеш районы, Зур Турма авылы, Туршинка елга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7" descr="C:\Documents and Settings\яыф\Рабочий стол\сканер\сканирование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4:16:29Z</dcterms:created>
  <dc:creator>дш</dc:creator>
  <dc:description/>
  <dc:language>en-US</dc:language>
  <cp:lastModifiedBy>Эндже</cp:lastModifiedBy>
  <dcterms:modified xsi:type="dcterms:W3CDTF">2019-01-12T16:51:17Z</dcterms:modified>
  <cp:revision>5</cp:revision>
  <dc:subject/>
  <dc:title>Слайд 1</dc:title>
</cp:coreProperties>
</file>