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6FA5-58F8-474E-86B4-74E25FA2EF3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ваы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DA75-942F-4D3B-98E9-68EC847B501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Calibri"/>
              </a:rPr>
              <a:t>фы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88458-DE1E-40AF-8370-43B646BBCC4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бяж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8B9FD-9459-4DA2-8D66-F52366C04C1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ба районы. Сатыш авы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10E7-7423-432F-83C7-AF0F3D78867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одол районы, Кульбаш  авы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E8FB-41F0-49D0-9B6C-4B842FE3C9E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1200" spc="-1" strike="noStrike">
                <a:solidFill>
                  <a:srgbClr val="000000"/>
                </a:solidFill>
                <a:latin typeface="Calibri"/>
              </a:rPr>
              <a:t>Түбән ус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C35A-9602-4C86-BA26-6C95F2D5D16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тюшский район дер. Болышая Турма, р. Турш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72F8-9F6C-49CC-BA19-2363CB2CE09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A1C-FB5F-438A-8198-D311DF9C9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4B78-7337-4313-A101-3FA98EAB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CA3551-A246-4061-A42B-F0654DF55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D44A7CC-A08B-43B3-B5C6-108A2D0C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F0098A-33C0-44AE-BB15-03CDF73C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123857-48C9-4D2A-82EE-A45FABB83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18235E-EC18-46CD-8F0C-D72B5A24E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F0BCEC0-CDEE-4FF6-BC23-FC93AEB5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E68A70-4F8B-4294-AF7E-2AF4798D9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265C79-8FC6-424A-9533-2399F02E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3DE2D20-EA77-40E3-B3ED-4D9914A51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2DB8B-E93B-4D57-A514-DA5AFD6C1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CFA-9B56-4D0A-B993-01D5722E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7053FE-1FA3-4F60-9CBE-F9BDEB99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6AFAF-AFA0-4A07-B7C8-5E9793AC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B685BE-6868-48DD-994D-80BD184B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C55D5A-0A98-47AC-9226-1C70E0464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EB3B6-77BD-4148-BC15-3BC841D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4C59E-E735-4798-B66D-0809341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2BBB77-CC46-4903-8880-A3FF7637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1F56A-593F-4EDF-8021-45C49E41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4AA788-44B5-4F7B-9BBD-6324BD8A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6C8F64-FCA3-49C9-89B8-5A448BB4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E3F-E390-49B2-8C81-18C56D8F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C0910-E10C-432C-BE89-69A517E3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BE3F0-D994-4FFE-822B-5C1E52961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0255-CC65-4467-B548-183A3C742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D01C-9BDE-4C33-8787-39FACDD7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EDB7-705B-4A74-9061-D7619B14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747B2-E7D2-40DD-9C26-D3099C6C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7F0A8-3403-4D5A-BE18-AA26A1C7D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096D-17A8-4689-BA7A-654ACEAC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57DD-92D9-46F7-9977-D54DE83A1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01E8E-B32B-4ECF-BA52-77B5EEC6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4F79-6AFE-4E36-9D05-CD4FD4FB0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23A4-126D-4694-AE98-46C7B823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1F17-CEB4-4CE7-B9D0-33A2BD65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BEF1-7A36-47C8-82C2-67481ADF5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B16C-2EC7-4A44-AD5E-BCEB016EC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35CA4-A606-4524-96A5-37DFD94E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4D07-4807-483C-A8D2-C077677B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FEA17-3259-4FBF-A483-93CBF496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F506-D1B5-47C9-9E85-BAA88E42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396-BD57-4213-BA22-376935CE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F6D03-F416-4ED8-BF78-DD3F210C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47142-E80E-4039-BED2-1BD075F65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7B367-9A40-408C-BEF7-4F1432F49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083BB-9FD3-465C-837E-C2A026D5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44041-DC19-4BC1-8D3E-941F5C32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6E8E2-DFD3-45D7-A1B2-74E893709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64B5-139E-491C-A6BB-ECDF437E6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F2DDD-C6B4-4D68-ADCD-CCE7778AA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E9313-EAE8-4CF3-B71E-DF93C75C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2D72B-E43E-44FB-8A0B-B5CFB385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4B6-E12F-4857-9C25-1634494F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D009E-A94E-4073-A170-29D8D550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20113-39A2-4BEF-A63A-7A3B1644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C5272-372F-49E3-93D3-62AEC954C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13C12-F877-4965-A5DB-25C554ED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B08EB-AA7A-4CC8-8A4D-85DB77ED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801BF-7443-415C-9340-743BEEE0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979F-3D76-4BDC-B1C8-A9F4A21D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F765A5-E8D4-46AE-A86C-7388A1B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F8955-3C79-4B4B-BA5C-59DCAA67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A33F5-73DE-451C-B706-4F25F4958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80A8-1974-4193-8752-10F7FD32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D3E96-576F-4243-BF6B-5CF8C7D4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ABCEB-3DE8-4E18-9B74-ABE9899B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16312-AEC1-423A-9BE1-1F966C38A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0F66D-C434-4F89-B0E0-42DF923AA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EB88B-F68A-4180-8B8D-48AD49B4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6A716-8643-4D17-90F9-18163358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057A3-1652-4B56-B6F3-5956F21E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06569-E9C1-48FA-9574-799D0CC80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9ED53-5148-4904-A73A-20D50FF9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A4E47-7B30-4A90-B478-ABF812DA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EB58-B5EC-4CD6-B948-AFDDBE0F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5EE77-0018-4C10-ABDD-35FCF281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055E4-B943-41EF-A355-2338879C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E5ACA4-707F-463D-B096-140C2131F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28F04-39AF-4E22-8856-21FB9465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A94A5-384F-4C30-BF90-9847DA22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A24CA-4B1E-42A6-971A-A28A8D041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FFD7E-9D85-456A-9A2E-A06F11E68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40FBB-FDFD-45FE-9F95-84E59D0B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56170-DD81-4B25-936F-C764E77A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12126-E4FB-4B12-9244-BE67779E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8140-D368-4751-8CF4-271AF101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EDC8A4-6B27-4031-B4AA-AE3E9DC3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2D180A-55E3-420A-8518-B5E064CF5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69A29-6FF0-4D3D-8796-D90F939B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DFE5BC-292F-4E06-AC67-B3B4D327A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A37EF4-2380-432C-8FDB-D1EDDDA2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5871A-CD10-494E-9CB7-9819374CF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BE60FF-72D8-4D02-854E-E2AF91F0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B6812-49C0-4E48-AA19-D9DE60C4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573AF-4529-4909-AEED-32FE41A4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7A9B9-F221-4B9B-9C27-89EB30A3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3A3-ECF9-4064-912D-927C9AA7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725F3-3A8C-4AC6-8623-B432F06E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D1105-C83D-455D-BF6E-7B3055B0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ABB3A-FF55-46BB-B95E-92095C57C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542FF-3EC0-443F-9BF2-5806D050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9817B-2399-4B58-A3E8-4350ED626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DC63AD-7554-4B7A-8B6A-57EA54FB6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01973C-7215-4775-889F-9ABDF0A4A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05EFA-EA90-4B22-B480-924DB0D27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76023-D129-4B81-81E1-204AE875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EFCAA-C17A-4CC9-BD6E-508B66CF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D7B2-9987-4414-B080-D5D55620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05D18-2889-49D0-AF88-250B7A12A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E1F3F8-5F3D-418B-97CD-A3838BFE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368B6E-541C-492D-88E3-B8203290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72393-DDB7-4E83-A8B7-E281B7B2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FDD79D-8EC7-4704-BB9C-CD39C4C6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DB2F4-6613-4033-864C-D09DAAEE7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C263FC-7A6A-401D-AD02-5B475A37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B048EC1-B304-433C-85E2-90EF63CFC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C1F7F1-7387-4E5A-A6CB-060C73C4C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341CB0-E6A5-420D-A874-17D6DCAD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F021-9106-4B74-87C3-A9E89385684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5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6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9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0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3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4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5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0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9BECA-5A4D-4FDD-BC53-A801E3E23EFF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C850-5A1C-4E39-B110-4DC5B1DF48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85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89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14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0628-0965-4CAD-88ED-06CD25063B67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810AA-2408-468D-A5E3-BF395687A29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407C0-116C-4B73-BCA3-B6D9D41DF06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D8DE-2278-4848-876B-B9483915A4B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E031-7A96-48DF-863E-E64FDE8E84F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4AA00-1410-4C61-A3F2-46D19F39977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6559-EC20-4031-94B4-12D837A2DD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0" name="Рисунок 6" descr="C:\Documents and Settings\яыф\Рабочий стол\сканер\сканирование000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1" name="Прямоугольник 1"/>
          <p:cNvSpPr/>
          <p:nvPr/>
        </p:nvSpPr>
        <p:spPr>
          <a:xfrm>
            <a:off x="428760" y="1000080"/>
            <a:ext cx="45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e40"/>
                </a:solidFill>
                <a:latin typeface="Arial"/>
              </a:rPr>
              <a:t>«Туган илем – Туган җирем»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Рисунок 8" descr="C:\Documents and Settings\яыф\Рабочий стол\сканер\сканирование000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2"/>
          <p:cNvSpPr/>
          <p:nvPr/>
        </p:nvSpPr>
        <p:spPr>
          <a:xfrm>
            <a:off x="0" y="5857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2d050"/>
                </a:solidFill>
                <a:latin typeface="Arial"/>
              </a:rPr>
              <a:t>Тәтеш районы, Зур Турма авылы, Туршинка елга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Рисунок 9" descr="C:\Documents and Settings\яыф\Рабочий стол\сканер\сканирование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2"/>
          <p:cNvSpPr/>
          <p:nvPr/>
        </p:nvSpPr>
        <p:spPr>
          <a:xfrm>
            <a:off x="-720" y="5929200"/>
            <a:ext cx="49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Кукмара районы.  Туркаш авы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0" descr="C:\Documents and Settings\яыф\Рабочий стол\сканер\сканирование0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522" name="Прямоугольник 2"/>
          <p:cNvSpPr/>
          <p:nvPr/>
        </p:nvSpPr>
        <p:spPr>
          <a:xfrm>
            <a:off x="360" y="5929200"/>
            <a:ext cx="427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Арча районы, Мәмсә авы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Рисунок 11" descr="C:\Documents and Settings\яыф\Рабочий стол\сканер\сканирование0011.jpg"/>
          <p:cNvPicPr/>
          <p:nvPr/>
        </p:nvPicPr>
        <p:blipFill>
          <a:blip r:embed="rId1"/>
          <a:srcRect l="1562" t="2596" r="2343" b="3898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24" name="Прямоугольник 2"/>
          <p:cNvSpPr/>
          <p:nvPr/>
        </p:nvSpPr>
        <p:spPr>
          <a:xfrm>
            <a:off x="-1080" y="585792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2d050"/>
                </a:solidFill>
                <a:latin typeface="Arial"/>
              </a:rPr>
              <a:t>Биектау районы, Өлә авы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9400" y="307800"/>
            <a:ext cx="8173800" cy="13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746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Күге астында яшәгән, һаваларын иснәп, суларын эчкән вә икмәкләрен ашаган ватаныгызны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{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зиядә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 сөегез, моның исемен бөек итү өчен тырышыгыз.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                                  </a:t>
            </a:r>
            <a:r>
              <a:rPr b="1" lang="tt-RU" sz="3200" spc="-1" strike="noStrike">
                <a:solidFill>
                  <a:srgbClr val="ffffff"/>
                </a:solidFill>
                <a:latin typeface="Tahoma"/>
              </a:rPr>
              <a:t>Р. Фәхредд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2"/>
          <p:cNvSpPr/>
          <p:nvPr/>
        </p:nvSpPr>
        <p:spPr>
          <a:xfrm>
            <a:off x="642960" y="500040"/>
            <a:ext cx="832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“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Ризаэддин Фәхреддин кузаллаганча шәкертләр (уккучылар) кыска гыйле вакыт эчендә иман, арифметика, геометрия, алгебра, география, хикмәт, (фәлсәдә), кимия (химия), һәйәт (астрономия), тыбб (меди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ц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ина), гый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ме хайванат (зоология),  гый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ме нәбатат (ботаника), тарих, механика, гыл</a:t>
            </a:r>
            <a:r>
              <a:rPr b="0" lang="ru-RU" sz="3200" spc="-1" strike="noStrike">
                <a:solidFill>
                  <a:srgbClr val="92d050"/>
                </a:solidFill>
                <a:latin typeface="Arial"/>
              </a:rPr>
              <a:t>ь</a:t>
            </a:r>
            <a:r>
              <a:rPr b="0" lang="tt-RU" sz="3200" spc="-1" strike="noStrike">
                <a:solidFill>
                  <a:srgbClr val="92d050"/>
                </a:solidFill>
                <a:latin typeface="Arial"/>
              </a:rPr>
              <a:t>ме хокук һәм башка фәннәрне тирән итеп үзләштерергә тиешләр..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Рисунок 1" descr="C:\Documents and Settings\яыф\Рабочий стол\сканер\сканирование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78628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2"/>
          <p:cNvSpPr/>
          <p:nvPr/>
        </p:nvSpPr>
        <p:spPr>
          <a:xfrm>
            <a:off x="6084720" y="5857920"/>
            <a:ext cx="27734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92d050"/>
                </a:solidFill>
                <a:latin typeface="Arial"/>
              </a:rPr>
              <a:t>Аккош күле.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Рисунок 2" descr="C:\Documents and Settings\яыф\Рабочий стол\сканер\сканирование00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2"/>
          <p:cNvSpPr/>
          <p:nvPr/>
        </p:nvSpPr>
        <p:spPr>
          <a:xfrm>
            <a:off x="25920" y="5715000"/>
            <a:ext cx="503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Arial"/>
              </a:rPr>
              <a:t>Саба районы. Сатыш авыл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Рисунок 3" descr="C:\Documents and Settings\яыф\Рабочий стол\сканер\сканирование0003.jpg"/>
          <p:cNvPicPr/>
          <p:nvPr/>
        </p:nvPicPr>
        <p:blipFill>
          <a:blip r:embed="rId1"/>
          <a:srcRect l="0" t="3754" r="0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10" name="Прямоугольник 2"/>
          <p:cNvSpPr/>
          <p:nvPr/>
        </p:nvSpPr>
        <p:spPr>
          <a:xfrm>
            <a:off x="-360" y="5929200"/>
            <a:ext cx="53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Arial"/>
              </a:rPr>
              <a:t>Яшел үзән районы, Күлбаш  авы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Рисунок 4" descr="C:\Documents and Settings\яыф\Рабочий стол\сканер\сканирование00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2"/>
          <p:cNvSpPr/>
          <p:nvPr/>
        </p:nvSpPr>
        <p:spPr>
          <a:xfrm>
            <a:off x="285840" y="592920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t-RU" sz="2800" spc="-1" strike="noStrike">
                <a:solidFill>
                  <a:srgbClr val="92d050"/>
                </a:solidFill>
                <a:latin typeface="Arial"/>
              </a:rPr>
              <a:t>Түбән Усл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5" descr="C:\Documents and Settings\яыф\Рабочий стол\сканер\сканирование000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29200"/>
          </a:xfrm>
          <a:prstGeom prst="rect">
            <a:avLst/>
          </a:prstGeom>
          <a:ln w="0">
            <a:noFill/>
          </a:ln>
        </p:spPr>
      </p:pic>
      <p:sp>
        <p:nvSpPr>
          <p:cNvPr id="514" name="Прямоугольник 2"/>
          <p:cNvSpPr/>
          <p:nvPr/>
        </p:nvSpPr>
        <p:spPr>
          <a:xfrm>
            <a:off x="-720" y="6072120"/>
            <a:ext cx="49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Яшел </a:t>
            </a:r>
            <a:r>
              <a:rPr b="0" lang="tt-RU" sz="2400" spc="-1" strike="noStrike">
                <a:solidFill>
                  <a:srgbClr val="ffc000"/>
                </a:solidFill>
                <a:latin typeface="Arial"/>
              </a:rPr>
              <a:t>үзән</a:t>
            </a:r>
            <a:r>
              <a:rPr b="0" lang="ru-RU" sz="2400" spc="-1" strike="noStrike">
                <a:solidFill>
                  <a:srgbClr val="ffc000"/>
                </a:solidFill>
                <a:latin typeface="Arial"/>
              </a:rPr>
              <a:t>  районы, Усаклы кул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2"/>
          <p:cNvSpPr/>
          <p:nvPr/>
        </p:nvSpPr>
        <p:spPr>
          <a:xfrm>
            <a:off x="0" y="5929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2d050"/>
                </a:solidFill>
                <a:latin typeface="Arial"/>
              </a:rPr>
              <a:t>Тәтеш районы, Зур Турма авылы, Туршинка елгас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Рисунок 7" descr="C:\Documents and Settings\яыф\Рабочий стол\сканер\сканирование000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7T04:16:29Z</dcterms:created>
  <dc:creator>дш</dc:creator>
  <dc:description/>
  <dc:language>en-US</dc:language>
  <cp:lastModifiedBy>Эндже</cp:lastModifiedBy>
  <dcterms:modified xsi:type="dcterms:W3CDTF">2019-01-12T16:51:17Z</dcterms:modified>
  <cp:revision>5</cp:revision>
  <dc:subject/>
  <dc:title>Слайд 1</dc:title>
</cp:coreProperties>
</file>