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587-634D-4EFD-B200-85E94B59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354-9FFC-4906-9E29-B0404D27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4AE-B8C4-473B-AEE5-2FD736A4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562-A32F-4E42-9727-098B4A20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C531-FAA6-4CAE-B670-68CDAFB2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2945-7924-4028-BD58-4845F41E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C3D9-A0BB-4975-8546-C33F4EB5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C482-C76B-4BA1-AC42-09F7A171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6734-26E8-46EA-AECB-868F149E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846D-6E6F-450D-81D2-54942DAC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C615-EE56-4B00-9EE5-D51E1365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40C1-4308-452D-9C98-79212DC4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38C1-8695-4DDC-B866-20341B0F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A3DE-D604-4D79-A231-A2140090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6F7E-EB09-4AB1-9D2C-3E886B24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72E5-E45E-4036-B2F1-DFF5A3FD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217C-2195-41DB-8FD2-773D7050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7A53-5639-4EBC-99C6-6A8551BC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C54-15AF-4DF2-90AB-C5BC4F1F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6982-A223-40C2-A366-5CAF257A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178-1113-4613-97A5-E82C8362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574-8B04-48C9-AABA-BE20DF5F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9F11-C894-408D-84E0-A323E97C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837-A2AD-42A6-BD7C-58A26D45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268B-75C5-4082-BD52-076D8DE1936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5F50-17E7-4E13-858F-52D6E7B18E2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Назовите термин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Живое существо, обладающее даром мышления и речи, способностью создавать орудия и пользоваться ими в процессе труда – это………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ормативно-правовой акт, обладающий высшей юридической силой, принятый в строго определенном, особом порядке органом законодательной власти или референдумом и регулирующий наиболее важные общественные отношения – эт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Волк дунул, плюнул и домик Наф-Нафа развалилс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54380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Статья 40</a:t>
            </a:r>
            <a:br>
              <a:rPr sz="5400"/>
            </a:b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Право на неприкосновенность жилища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Папа Карло подарил Буратино азбуку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96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Статья 43</a:t>
            </a:r>
            <a:br>
              <a:rPr sz="5400"/>
            </a:b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Право на получение бесплатного образования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Его били и щипали за то, что он был не такой как вс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848720" cy="41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Статья 21</a:t>
            </a:r>
            <a:br>
              <a:rPr sz="5400"/>
            </a:b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Право на достоинство личности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Черница угостила царевну отравленным яблоком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772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Статья 20</a:t>
            </a:r>
            <a:br>
              <a:rPr sz="5400"/>
            </a:b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Право на жизнь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Знатоки раскрытых преступлений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Тайно проник в школьную раздевалку и забрал чужую куртк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Ночью, снял колеса, с машины стоящей в соседнем двор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Взял взаймы 1000 рублей и пообещал вернуть через месяц, но так и не верну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 Схватил шапку с головы прохожего и скрыл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Выходя из автобуса, выхватил сумку у женщины и скрыл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. Вовлек в азартную игру и обыграл путем обма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451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Кто стоит на страже закон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Работники этого правоохранительного органа обеспечивают правопорядок на улицах, дорогах, вокзалах и других общественных места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Мачеха послала сироту в декабрьскую стужу за подснежникам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791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Полиция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сновная функция данного органа следить за тем, правильно ли исполняются законы, не нарушаются ли права и интересы граждан государств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Прокуратур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этом органе государственной власти осуществляется правосудие, т.е. на заседаниях этого органа решается, кто прав в правовых вопросах, а кто виноват и восстанавливается справедливость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Суд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Федеральный правоохранительный орган, являющийся составной частью сил обеспечения экономической безопасности РФ, выполняющий функцию по предупреждению, выявлению, пресечению и расследованию нарушений законодательства о налогах и сборах, являющихся преступлениями или административными правонарушениям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Налоговая полици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Лицо, помогающее составлять различные документы, удостоверяют завещания и сделки с недвижимостью, свидетельствуют верность подписей и копий документов, выписок из ни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Нотариу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сновной задачей этого специалиста является оказание юридической помощи физическим лицам (гражданам, лицам без гражданства) и юридическим лицам (организациям), в том числе защита их интересов и прав в суд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Статья 38 </a:t>
            </a:r>
            <a:br>
              <a:rPr sz="5400"/>
            </a:b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Право на заботу</a:t>
            </a:r>
            <a:br>
              <a:rPr sz="5400"/>
            </a:b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Адвока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Юридическая консульта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Ребенком в РФ считается человек в возрасте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)до 16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Б)до 18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до 14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Г)до 20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Юридическая консульта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Гражданин РФ обладает основными правами и свободами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)с 7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с 16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с 18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Г)с рожд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Юридическая консульта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При совершении особо тяжких преступлений уголовная ответственность наступает в возрасте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А)14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18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16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Г)20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Юридическая консульта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 Юридическая ответственность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а) наступает за нарушение законов;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 касается только взрослых трудоспособных люд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 устанавливается государством;     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г) имеет основную цель – устрашение насел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Юридическая консульта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Презумпция невиновности означает, чт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А)вина обвиняемого (подсудимого) не доказана в судебном порядке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преступником не рождаются, а становятс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преступление совершено нечаянно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Г)преступление совершено по небреж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Домашнее задани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Прочитать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п 7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2. Составить кроссворд используя термины п 7,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Создать памятку «Учимся уважать закон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Лиса попросила его сесть на нос спеть песенку и съела колобк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848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Статья 20</a:t>
            </a:r>
            <a:br>
              <a:rPr sz="5400"/>
            </a:b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Право на жизнь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Карабас-Барабас держал кукол в рабстве и заставлял работать на себ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7696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Статья 37</a:t>
            </a:r>
            <a:br>
              <a:rPr sz="5400"/>
            </a:b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Право на свободу и свободный труд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Мачеха запретила ей поехать на бал, а заставила ее переделать много дел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Статья 37</a:t>
            </a:r>
            <a:br>
              <a:rPr sz="5400"/>
            </a:b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Право на отдых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17:03:20Z</dcterms:created>
  <dc:creator>user</dc:creator>
  <dc:description/>
  <dc:language>en-US</dc:language>
  <cp:lastModifiedBy>admin</cp:lastModifiedBy>
  <dcterms:modified xsi:type="dcterms:W3CDTF">2017-12-07T18:58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