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A91-B1B5-4CCC-B04C-AEA3A731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B86-8E31-4C88-9AEC-76A63197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BC6-DD63-4E0D-B712-0430D76F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D85-2BB6-4125-AA1E-57227E2D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C18D-9079-4E6D-8010-F913B844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E84-DDB5-4D45-8D35-FBE8D899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0EBB-BE89-40A6-B8EB-4C467BB2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F217-E9C0-404B-B843-9C8045BA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6288-3721-4D62-806F-D94455EC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5245-B51C-4020-8FA9-31D9F106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6D86-31B5-4B99-ACCA-4840E4E9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A23-DAD0-443D-847D-4A8B85F7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04DD-5E66-42D0-80AB-1C7514C5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F911-6058-44BC-A56C-9B6762C0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74D1-4704-4EA0-ADF4-32A78ADB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A2C4-0096-4193-A341-56BA739D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5273-F959-4B38-B6AB-76DA3CE2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729-2752-4CE4-97A8-3FAE42C1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3E1-1C18-4721-B18B-5C34BDC1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F2F-3A67-4C5C-81ED-B0C507F7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455-3E90-4789-978E-CEE47A0C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B76-1297-40F0-AA11-5027D56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378-DD6B-4089-9553-40E926D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1E5-1847-40BE-AF8D-30E33B4A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5E97-B07D-4D96-93CB-E261565CDA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18E-715F-4CF6-A2ED-FC88B1BECA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азовите термин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Живое существо, обладающее даром мышления и речи, способностью создавать орудия и пользоваться ими в процессе труда – это………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 – эт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олк дунул, плюнул и домик Наф-Нафа развалилс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40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неприкосновенность жилищ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апа Карло подарил Буратино азбу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43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получение бесплатного образования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Его били и щипали за то, что он был не такой как вс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872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21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достоинство личност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Черница угостила царевну отравленным яблоком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20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жизнь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натоки раскрытых преступлени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Тайно проник в школьную раздевалку и забрал чужую курт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Ночью, снял колеса, с машины стоящей в соседнем двор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Взял взаймы 1000 рублей и пообещал вернуть через месяц, но так и не верну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Схватил шапку с головы прохожего и скрыл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Выходя из автобуса, выхватил сумку у женщины и скрыл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Вовлек в азартную игру и обыграл путем обма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45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то стоит на страже зако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Работники этого правоохранительного органа обеспечивают правопорядок на улицах, дорогах, вокзалах и других общественных мест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Мачеха послала сироту в декабрьскую стужу за подснежникам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Полиция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сновная функция данного органа следить за тем, правильно ли исполняются законы, не нарушаются ли права и интересы граждан государств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Прокуратур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этом органе государственной власти осуществляется правосудие, т.е. на заседаниях этого органа решается, кто прав в правовых вопросах, а кто виноват и восстанавливается справедливость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Су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Федеральный правоохранительный орган, являющийся составной частью сил обеспечения экономической безопасности РФ, выполняющий функцию по предупреждению, выявлению, пресечению и расследованию нарушений законодательства о налогах и сборах, являющихся преступлениями или административными правонарушения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Налоговая полиц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Лицо, помогающее составлять различные документы, удостоверяют завещания и сделки с недвижимостью, свидетельствуют верность подписей и копий документов, выписок из ни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Нотариу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сновной задачей этого специалиста является оказание юридической помощи физическим лицам (гражданам, лицам без гражданства) и юридическим лицам (организациям), в том числе защита их интересов и прав в суд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38 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заботу</a:t>
            </a:r>
            <a:br>
              <a:rPr sz="5400"/>
            </a:b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Адвока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Ребенком в РФ считается человек в возраст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до 16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Б)до 18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до 14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)до 20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Гражданин РФ обладает основными правами и свободами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с 7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с 16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с 18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Г)с рожд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При совершении особо тяжких преступлений уголовная ответственность наступает в возраст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А)14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18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16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)20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Юридическая ответственност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а) наступает за нарушение законов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касается только взрослых трудоспособных люд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устанавливается государством;     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) имеет основную цель – устрашение насел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Презумпция невиновности означает, ч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А)вина обвиняемого (подсудимого) не доказана в судебном порядк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преступником не рождаются, а становятс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преступление совершено нечаянн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)преступление совершено по небреж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Прочитать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п 7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. Составить кроссворд используя термины п 7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оздать памятку «Учимся уважать закон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Лиса попросила его сесть на нос спеть песенку и съела колобк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848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20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жизнь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арабас-Барабас держал кукол в рабстве и заставлял работать на себ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696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37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свободу и свободный труд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Мачеха запретила ей поехать на бал, а заставила ее переделать много де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37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отдых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7:03:20Z</dcterms:created>
  <dc:creator>user</dc:creator>
  <dc:description/>
  <dc:language>en-US</dc:language>
  <cp:lastModifiedBy>admin</cp:lastModifiedBy>
  <dcterms:modified xsi:type="dcterms:W3CDTF">2017-12-07T18:58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