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CDC6-D8E5-4081-B4D7-9EA2E5B60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BD47-43E5-49C9-909B-6B613604C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99F8-1D71-4FB5-B073-5A719E51C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1D73-9CAB-4D63-A861-C25311196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01D7-2D96-4073-BD53-A99788ED4C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4264-993C-4CF9-8C7F-B2DCDBEF5A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1F2B-090A-47C0-93BA-33879A6827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12E4-EFA5-4376-88D7-5AD70F7548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0194-6926-451F-A3F8-8E80E83B07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D761-0180-4BE6-8924-046F5E6128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84780-10E6-4D8A-982F-3C88637EAE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8B51-ADD1-4E00-8B39-1A17EF946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8A72-B709-43CD-B2F5-EBB0CB2B71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B9D1C-8940-4E5A-871E-362DE3508E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4879-8EB9-4A24-A4BA-5507125B21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5B7A-C971-4C8C-BE37-24AAE799B2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797C-5490-4040-8812-06378E6FB4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B49C-4F84-41BC-9035-B1E497C94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1932-F1FA-40D3-B068-001B73EB6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6C20-F432-429F-868A-4553ECB92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BF91-4F4A-47AA-9989-F0E52F8CE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67F7-0796-478B-B16C-C3B8306B8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644C-C5D2-4112-B43B-32FAAEB1C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8D3E-3A9F-4899-A5C8-135900D56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0760" cy="1977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0760" cy="487368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5480" cy="853920"/>
            <a:chOff x="0" y="6019920"/>
            <a:chExt cx="7845480" cy="85392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0080" cy="8474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898800" cy="853920"/>
              <a:chOff x="3946680" y="6019920"/>
              <a:chExt cx="3898800" cy="85392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77880" cy="8427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1960" cy="623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597240" cy="4269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3000" cy="114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3360" cy="1252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08640" cy="84600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1520" cy="846000"/>
            <a:chOff x="627120" y="6021360"/>
            <a:chExt cx="5681520" cy="84600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6360" cy="4586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4160" cy="7887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09440" cy="93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2360" cy="2574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0720" cy="936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5560" cy="3254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25A4F-1B38-4072-A3D6-472D5A44464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1120" cy="6855120"/>
            <a:chOff x="-6480" y="20520"/>
            <a:chExt cx="9141120" cy="685512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1120" cy="197820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1120" cy="487368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0440" cy="847800"/>
            <a:chOff x="-1440" y="6033960"/>
            <a:chExt cx="7840440" cy="84780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0440" cy="84780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4120" cy="847800"/>
              <a:chOff x="3944880" y="6033960"/>
              <a:chExt cx="3894120" cy="847800"/>
            </a:xfrm>
          </p:grpSpPr>
          <p:sp>
            <p:nvSpPr>
              <p:cNvPr id="68" name=""/>
              <p:cNvSpPr/>
              <p:nvPr/>
            </p:nvSpPr>
            <p:spPr>
              <a:xfrm>
                <a:off x="6264360" y="6045120"/>
                <a:ext cx="1574640" cy="83664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8000" y="6033960"/>
                <a:ext cx="292320" cy="623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520" y="6194520"/>
                <a:ext cx="596880" cy="4269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151680"/>
                <a:ext cx="243000" cy="114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3720" cy="1252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08640" cy="84636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1520" cy="846000"/>
            <a:chOff x="627120" y="6021360"/>
            <a:chExt cx="5681520" cy="84600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6360" cy="4586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4160" cy="7887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09440" cy="93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2360" cy="2574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0720" cy="936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5560" cy="3254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30CE90-E14E-4227-B652-1AEFE21A54D8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доровый   образ  жизни   школь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2409840" cy="1514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522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 для   мышц  голеней  и  ст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положение:  лежа  на  сп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732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  Поочередно   и   одновременно   приподнять   пятки  от   оп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38600" cy="1733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280" y="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 для   мышц  голеней  и  ст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положение:  лежа  на  сп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0" t="0" r="22410" b="3306"/>
          <a:stretch/>
        </p:blipFill>
        <p:spPr>
          <a:xfrm>
            <a:off x="4724280" y="18288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72517" t="0" r="0" b="0"/>
          <a:stretch/>
        </p:blipFill>
        <p:spPr>
          <a:xfrm>
            <a:off x="6858000" y="1752480"/>
            <a:ext cx="781200" cy="1733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7767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 Ноги   согнуты   в   коленях,  бедра   разведены,  стопы соприкасаются  друг  с  другом  подошвенными поверхностями.  Отвести  и  привести  пятки  с  упором  на  пальцы  сто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 Проделать  скользящие  движения  стопой  одной  ноги по   голени   другой.  То  же   движение   стопой   другой  н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-92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для   мышц   голеней  и  ст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 положение:  сид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38720"/>
            <a:ext cx="8991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Ноги   согнуть  в  коленях,  стопы  параллельны -  приподнять пятки   вместе   и   попеременно.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 Ноги   выпрямить   в   коленях,  сгибать   и  разгибать   ст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оложив  ногу   на   колено   другой  ноги,  провести  круговые движения   стопы   в  обе   стороны.  То  же - другой  ногой.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 Захватить  пальцами   стопы  мелкие  предметы  и переложить их  на  другую  сторону. То же - пальцами  стопы  другой  но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010040" cy="2762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1708200" cy="2409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400800" y="838080"/>
            <a:ext cx="6858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15764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   Стопы  параллельны, на  расстоянии  ширины  ступни, руки  на  поясе. Приподнять  пальцы  стоп  с  опорой  на  пятки  вместе  и  попеременно, перекат  с  пяток  на  носок  и   обрат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   Полуприседания   и   приседания   на   носках  -  руки   в   стороны,   вверх,  впере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  Стопы   параллельны,  перейти   в   положение   стоя   на   наружных   краях   стоп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   Носки    вместе,   пятки    врозь   -   полуприседания    и   приседания   в   сочетании  с   движениями  ру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.  Стопы   параллельны,   руки    на    поясе  -  поочередное   поднимание    пяток,   не отрывая   пальцев   стоп   от   пола,  затем  –  ходьба   на   мес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 положение: сто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1190880" cy="2952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3338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езно  перед   началом   занятий    в   школ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ршить   прогулку   в   течение   20 - 30  мин,   эт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ает    умственную   работоспособность   и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спечивает   продуктивность   усвоения   учеб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  возвращении  из   школы   следует   пообедат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отдохнуть.    Послеобеденный   отдых   желате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одить   на   свежем   воздух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-693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 обучении   в   1-ю   смену   приступать   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ению   домашних   заданий   рекомендуется  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нее   16   часов,  так   как   именно   в   это    врем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инается   второй   пик   повышения    суточ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оспособ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  пик   ее   повышения   приходится   на   11-1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ов,  после   чего   она   снижается   и   внов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ается  в   период   между   1 6   и   1 8    час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учебных   занятий   дома   должно    б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оянное   рабочее   место,   соответствующее    рос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кольника   и   хорошо    освещен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   время   приготовления   уроков   должны   б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ранены   все   помехи,  особенно    источн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омкого   ш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мя подготовки   домашних заданий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физиологически обоснованные    нормы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600200"/>
          <a:ext cx="5792400" cy="4717800"/>
        </p:xfrm>
        <a:graphic>
          <a:graphicData uri="http://schemas.openxmlformats.org/drawingml/2006/table">
            <a:tbl>
              <a:tblPr/>
              <a:tblGrid>
                <a:gridCol w="1529280"/>
                <a:gridCol w="4263120"/>
              </a:tblGrid>
              <a:tr h="746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80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ча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84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 4 кл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ча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84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 6 кл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 ча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6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 11 кл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ча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ное   время   может    быть   отдано  заняти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ртом,  чтению,  прогулк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,  очень   часто   выбирается   телевизо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781600" cy="308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3886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симальное   время   продолжи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смотра   телевизионных   передач   в   течение   дн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ляет   для   младших   школьников   1   ча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школьников   10 - 14   лет  -  1,5  час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подростков   -  2  ча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жим  д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блюдение   раци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ьного   режима    дня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гает   справляться   с   многочислен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грузка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рошо   составленный   и    четко    соблюдаем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жим   повышает    работоспособность,   успеваем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циплинирует   школьника,   способству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рмальному   росту   и   развит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визор   должен   находиться   от   зрителей  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иже   двух   и   не   дальше   пяти-шести   мет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комнате   желательно   иметь   дополните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  света   небольшой   мощности,  который   б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ранял   резкий   контраст   между    освещен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раном   и   окружающей   темнот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зя   допускать   просмотр   передач   с   нечетки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локонтрастным   изображением.   Это    вызы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ительное   напряжение   зрения   и   приводит  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строму   утомл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3886200"/>
            <a:ext cx="914400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ые  игры,  интернет  очень   заниматель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привлекательны, но  они   совсем   не    безобидн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резмерное   увлечение   подобными   формами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уга,   приобретающего   болезненные   черты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шает   учебным   занятиям,   отнимает   время   от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ыха   и    с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жнейшим   элементом   здорового   образа   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   удовлетворение   потребности  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движ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бенок   или   подросток   нормально   развив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лько   при   условии  необходимой   для   его   возра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гательной   актив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им   упражнениям   разного   характе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уроки    физкультуры,   зарядка,   а   также    занят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ртом,  танцы,   физический   труд    дом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вочки   должны   посвящать   5  - 12   часов   в  недел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льчики   -    7 -  1 5   часов   в   недел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уемый  возраст   для   начал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ртивных  заня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341360"/>
          <a:ext cx="9145080" cy="4922640"/>
        </p:xfrm>
        <a:graphic>
          <a:graphicData uri="http://schemas.openxmlformats.org/drawingml/2006/table">
            <a:tbl>
              <a:tblPr/>
              <a:tblGrid>
                <a:gridCol w="3323160"/>
                <a:gridCol w="1737000"/>
                <a:gridCol w="1994040"/>
                <a:gridCol w="2090880"/>
              </a:tblGrid>
              <a:tr h="55764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 спор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 годах)   допуска   к   занятиям   в  групп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альная подгото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бно-тренир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ч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тивное совер-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енств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роб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скетбол  и  волейб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дмин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к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рьб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осипе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ное по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00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мнастика спортивна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нош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вуш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мнастика художествен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уемый  возраст   для   начал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ртивных  заня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6680"/>
          <a:ext cx="9145080" cy="5167080"/>
        </p:xfrm>
        <a:graphic>
          <a:graphicData uri="http://schemas.openxmlformats.org/drawingml/2006/table">
            <a:tbl>
              <a:tblPr/>
              <a:tblGrid>
                <a:gridCol w="3323160"/>
                <a:gridCol w="1737000"/>
                <a:gridCol w="1994040"/>
                <a:gridCol w="2090880"/>
              </a:tblGrid>
              <a:tr h="34596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 спор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 (в годах) допуска к занятиям в групп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альная подгото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бно-трени-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воч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тивное совер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енств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ебля   академиче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ебл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 байдарках и кано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ный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ькобежный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гка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ле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180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ыжный спорт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нки на лыжа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ные вид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оеборь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ки с трамп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усный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ки в во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уемый  возраст   для   начал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ртивных  заня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600200"/>
          <a:ext cx="9145080" cy="5444640"/>
        </p:xfrm>
        <a:graphic>
          <a:graphicData uri="http://schemas.openxmlformats.org/drawingml/2006/table">
            <a:tbl>
              <a:tblPr/>
              <a:tblGrid>
                <a:gridCol w="3323160"/>
                <a:gridCol w="1737000"/>
                <a:gridCol w="1994040"/>
                <a:gridCol w="2090880"/>
              </a:tblGrid>
              <a:tr h="34596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 спор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 (в годах) допуска к занятиям в групп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альная подгото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бно-тренир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ч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тивное  совер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енств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чной мя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нный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временное пятиборь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елковый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ельба из лу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ельба стендов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ннис и теннис насто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19346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яжелая атле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хт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гурное катание на коньк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64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тбол, хоккей с шайбой, хоккей с мяч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хм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кольники   должны   проводить   ежедневно  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ежем   воздухе   не   менее   2 - 3   ча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аливание - важнейший   оздоровительный  фа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зимнего,  и   летнего   отды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природе   ребенок   постоянно   подверг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трастным   воздействия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зимнее   время - это    морозный   воздух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действующий   на   открытые   части   тела   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изистую   но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ом  ребенок   постоянно   подвергается   сме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а   и   прохлады:   из   тени - на   солнце,  с   горяч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ска – в   воду.   Купание,   будь   то   в   пресной   во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  в   морской,   помимо   положительных    эмоц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ствует   закалив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о   помнить,  что   одни  только  закаливающ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дуры  эффекта   не   дадут,   важно   создат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имулирующее   температурное  окруже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ответствующую  погоде  одежду,  нормаль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пературу  в   квартире   (20 - 22° С  днем   и  на  2- 4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же   ночью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517212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вным   в   распорядке   дня    должно   б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умное   чередование   умственной   нагрузки,   труд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отды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инать   свой   день   школьнику   следует  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ренней   гимнастики.   Она   не   должна   заним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   времени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ренняя   гимнастика   улучшает   кровоснаб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ловного   мозга,   укрепляет   нервную   систем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ет   бодрое,  хорошее   настро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   напряженного   учебного   дня   школьни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   полноценный   со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  продолжительность  должна   быть  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кольник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 - 10  лет  -  не   менее   10  час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1 - 14  лет  -  не   менее     9  час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более   старших  -  не   менее   8  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ень   полезна   перед   сном   прогулка   на   свеж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духе  в   течение   30 -  4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20976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80" y="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"/>
              </a:rPr>
              <a:t>Здоровое   пит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тание  является  одним   из    главных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кторов,   влияющих   на   здоровье   населени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 недостаточное,  так   и  чрезмерное   потреб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торых   пищевых   веществ    и    микроэлементов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жет   служить   причиной   развития    различных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болеваний,  в   том   числ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рдечно - сосудистых,  онкологических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болеваний   эндокринной  системы,   крови  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овеносных  органов,  нарушений  обмена   вещест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-693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  данным   сотрудников  НИИ   питания    РАМН  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тании   населения  России   преобладают   животны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ры,  сахар,  недостаточно  овощей   и   фруктов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ен   устойчивый   и    круглогодичный   дефиц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таминов  и   минералов,  микроэлементов   (йод   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езо),  пищевой   клетчатки,  полиненасыщенных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рных  кислот  в   составе   растительных   масе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80880"/>
            <a:ext cx="9067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растущего   организма    школьн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резвычайно   важно   достаточное   по   количеству   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чественно    полноценное   пит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му   необходим   полный   набор   пищев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ществ:  белки,  жиры,  углеводы,  минера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щества   и   витам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352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33520"/>
            <a:ext cx="9144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лки   необходимы   для   построения   нов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еток  и   ткан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достаток   белка   в   пище   приводит   к   задерж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та  и   развития,   снижению   массы   тела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ротивляемости   к   инфекционным  заболевани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  высокой   биологической   ценност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даря   присутствию   всего   набора   «незаменим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минокислот»   обладают    белки   живот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ждения,  содержащиеся   в   молоке  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чных  продуктах,  йогуртах,  мясе,  рыбе,  яйц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304920"/>
            <a:ext cx="899172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едует  знать,  что   не   только   недостат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 и   избыток   белка   оказывает   на   организ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благоприятное   влия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  нежелательно,   например,  три   раза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нь   употреблять   мясные   блюда,   злоупотребля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исками,   колбас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ры   являются  источником  энергии,   важ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строительным»   материалом,   необходимы   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упления   в   организм   жирорастворим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тами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   легкоусвояемого   животного   жира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тании  -  сливочное  мас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рацион  обязательно   должно   быть   включено 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тительное   масло   (подсолнечное,   кукурузно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ливковое   и   др.),  которое   содержит   незамени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щевые   вещества - полиненасыщенные    жир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сл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52600" cy="2076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пражнения   для  формирова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 закрепления  правильной  оса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42350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ринять   правильную   осанку   у   стен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делать   два   шага   вперед,   присесть,  встать. Вновь   принять   правильную    осан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5360" y="1527120"/>
            <a:ext cx="81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97040" indent="-33984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970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Стоя, принять правильную осанку у стен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7970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 этом   затылок,   лопатки,  ягодицы,  ик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7970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г  и   пятки   должны   касаться   сте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79056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-693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глеводы   служат   основным   легкоусвояем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ом   эне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ом   углеводов   являются   продук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тительного   происхожд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леб,   макаронные   изделия,   крупа,   картофел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вощи   и   фрук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оусвояемые   сахара   (сахароза,    фруктоз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юкоза)   присутствуют   также   в   обычном   сахар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де,  варенье   и   других   сладостях,  сладких   овощ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фрук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неральные   вещества   и   витам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льций,  фосфор,   железо,  микроэлементы   (цин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ганец,  селен  и   др.)   обеспечивают   рост   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,  входят   в   состав   гормонов,   приним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стие   в   обменных   процессах   и   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тамины   повышают   физическую   и   умственн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оспособность,  содействуют    устойчив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ма   к   различным   заболеван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сегодняшний  день   известно   13   витамин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ый   из   которых   выполняет   в    организ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а  свою    особую   функ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  редким   исключением,  эти   незаменимые  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а   вещества   не   вырабатываются  в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ме   и    должны   поступать   извне   (с пищей  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   специальными   препарата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можность   обеспечить   школьников    все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таминами   исключительно   за   счет   естеств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ов   (продуктов   питания)   малодостиж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обенно   в   зимне-весеннем    сезоне,   когда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вощах   и   фруктах   многократно   сниж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е   основных   витаминов,   при   повыше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их   нагрузках 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профилактики    дефицита   рекоменду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улярно   пользоваться   витаминно-минераль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ара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Рекомендуемые  среднесуточные   наборы   пищевых продуктов  для   обучающихся  общеобразовательных учреждений   (СанПиН 2.4.5.2409 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1600200"/>
          <a:ext cx="9145080" cy="5258880"/>
        </p:xfrm>
        <a:graphic>
          <a:graphicData uri="http://schemas.openxmlformats.org/drawingml/2006/table">
            <a:tbl>
              <a:tblPr/>
              <a:tblGrid>
                <a:gridCol w="4267440"/>
                <a:gridCol w="2514960"/>
                <a:gridCol w="2362680"/>
              </a:tblGrid>
              <a:tr h="79308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родук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дукто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зависимост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озраст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ающихся    (в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,  мл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брутт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- 18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 ржаной   (ржано-пшеничны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 пшени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ка   пшенич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упы,  бобов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каронные   изде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ртоф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ощи   свежие,   зел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рукты   (плоды)   свеж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44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рукты   (плоды)  сухие, в  т.ч. шипов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ки   плодоовощные,   напитки витаминизированные,  в   т.ч. инстант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Рекомендуемые  среднесуточные   наборы   пищевых продуктов  для   обучающихся  общеобразовательных учреждений   (СанПиН 2.4.5.2409 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1600200"/>
          <a:ext cx="9145080" cy="5414760"/>
        </p:xfrm>
        <a:graphic>
          <a:graphicData uri="http://schemas.openxmlformats.org/drawingml/2006/table">
            <a:tbl>
              <a:tblPr/>
              <a:tblGrid>
                <a:gridCol w="4420080"/>
                <a:gridCol w="2362320"/>
                <a:gridCol w="2362680"/>
              </a:tblGrid>
              <a:tr h="57600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родук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  продуктов  в  зависимости  от  возраста   обучающихся    (в   г,  мл,  брутт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- 18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ясо  жилованное  (мясо  на  кости) 1 ка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 (9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(10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ыплята 1 категории потроше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уры 1 кат.  п/п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(5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(7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ба - фи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басные   изде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ко  (массовая  доля  жира 2.5%, 3,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сломолочные  продукты (массовая   доля жира  2,5%,  3,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ог (массовая  доля  жира  не  более  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ы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84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етана  (массовая  доля  жира  не  более 1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Рекомендуемые  среднесуточные   наборы   пищевых продуктов  для   обучающихся  общеобразовательных учреждений   (СанПиН 2.4.5.2409 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1600200"/>
          <a:ext cx="9145080" cy="4190760"/>
        </p:xfrm>
        <a:graphic>
          <a:graphicData uri="http://schemas.openxmlformats.org/drawingml/2006/table">
            <a:tbl>
              <a:tblPr/>
              <a:tblGrid>
                <a:gridCol w="3886560"/>
                <a:gridCol w="2743560"/>
                <a:gridCol w="2514960"/>
              </a:tblGrid>
              <a:tr h="76932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родук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 продуктов  в  зависимости  от  возраст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ающихся    (в г,  мл, брутт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10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8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о   сливоч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о   раститель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йцо   диетическ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хар*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дитерские   изде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а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ожжи    хлебопекар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934240" cy="5000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7880" y="-1800"/>
            <a:ext cx="919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сперты   Всемирной  Организации   Здравоохране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ложили  Пирамиду  здоровья  в   качестве  эталон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ого  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934240" cy="5000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5194440"/>
            <a:ext cx="9144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е   пирамиды:  (зеленый  свет)  включает   хлеб,  крупы,  макаронные  изделия,  картофель,  овощи  и    фрукт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  продукты  должны  составлять  основу   ежедневного   питания   человек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5933880" cy="5000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527220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ьшая   часть   пирамиды   (желтый свет)  поделена  на  правую   и    левую   половины  -   мясо, рыба,   молочные  продук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х  продуктов    должно   потребляться    в    значительно   меньшем  количеств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221004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2457720" cy="1190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2080" y="837000"/>
            <a:ext cx="64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ходное   положение: лежа   на   жив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167652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Сохраняя   срединное   положение позвоночника,   отвести   назад   прямые руки;   ноги,  выпрямленные  в   коленях,   приподнять   («рыбка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0384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риподнять   голову   и   грудь, вытянуть   вверх   руки,  выпрямленные   ноги   приподнять. Сохраняя   правильное   положение тела,   несколько   раз    качнуться («лодочка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933880" cy="5000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5562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хняя  часть   пирамиды   (красный свет)  включает   масло, сахар,    кондитерские    изделия,  слад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х   потребление   должно  быть   ограничен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ециалисты   Всемирной  Организаци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равоохранения   предлагают   принципы   здорово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т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Употребляйте   разнообразные   пищевые   продук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имущественно     продукты    растительного,   а    н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вотного  происх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Хлеб,   изделия   из   муки,   крупы,   картофел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  употребляться  несколько   раз   в  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 Ешьте   несколько   раз   в   день   разнообразны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вощи   и   фрукты,  лучше   свежие   и   выращенные  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стности  проживания   (не   менее   400 г   в   день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 Чтобы   поддерживать   массу   тела  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мендуемых  пределах ,  необходима   ежедневна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еренная    физическая    нагруз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 Контролируйте  поступление   жира  с   пищей   (н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ее   30%   от   суточной   калорийности)   и   заменяй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вотный   жир    на    жир    растительных   мас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Заменяйте   жирное   мясо   и   мясные    продук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бобовые,   зерновые,  рыбу,  птицу   или   постно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яс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.  Употребляйте    молоко   и    молочные   продукты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кефир,    простоквашу,  йогурт   и   сыр)   с   низким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ем   жира   и  со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.  Выбирайте  продукты  с  низким   содержанием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хара    и   употребляйте    сахар    умеренно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граничивая  количество   сладостей   и   сладких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пи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88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.   Ешьте   меньше  соли.  Общее   количество  сол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пище   не  должно  превышать   одну   чайную   ложку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 г   в   день.   Следует   употреблять    йодированн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.  Приготовление   пищи  должно   обеспечивать   е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опасность.   Приготовление   блюд   на    пару,   в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кроволновой   печи,   выпечка   или   кипячени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жет   уменьшить   используемое   в    процесс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готовления   количество   жира,   масла,   соли  и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ха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-5810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жим   пит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имать   пищу   следует   не   реже   четырех   ра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день   с   интервалами   от   3-х   до   4,5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ммарное   количество   питательных   веществ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нергии,   поступающих   с   пищей,  при   этом  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яется,  но   нагрузка   на   пищеварительную   сист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еньшается,   так   как   организм   получает   тот   ж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ъем   пищи,  но   более   мелкими   порци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088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ень   важно   исключать    «перекусывания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цениваемые    как   активное   переедание,   котор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  вызывается   чувством   голода,  а   удовлетвор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ие   вторичные   потребности   (удовольствие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щита   от   скуки,   временное   облегчение   п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ессах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калорийности   суточный   рацион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мендуется    распределять   следующим   обрезо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трак - 15%,  второй   завтрак - 20%,  обед - 35%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дник - 10%,   ужин - 2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кусный  и   сбалансированный  по  составу  завтра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о  из  условий   поддерживания   работоспособн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пешной   учебы,  восприятия    информации   в  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ень   важно   для   здоровья  включение 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цион   второго   завтрака   и   полдн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  правило,   на   полдник    использу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укты,   богатые   углеводами   (йогурт,   кефир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ченье,   фрукты).   При   этом   понижается  процент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отношение   жиров   в   суточном   рационе,  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отвращает    избыточное    накопление   массы  те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ятствует   снижению   концентрации   вним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отвращая    снижение   уровня   сахара   в   кро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жинать   следует  не   позднее   чем   за    два   час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   с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жно   соблюдение   правильного  питьевого  реж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сутки   дети   теряют   около   1,5 - 2  л  в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  количество   обязательно   долж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нсироваться   за   счет   пищи   и   питья   в  объ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  утолени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ажд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жаркое   врем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требн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д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ез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2467080" cy="77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2610000" cy="1028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для   укрепления   мышечного   корс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мышц   спины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 положение:   лежа   на   жив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3624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Подбородок  на  тыльной  поверхности  кист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ных  друг  на  друга;  перевести  руки  на пояс,  приподнимая   голову  и  плечи;  лопатки соединить,  живот  не  поднимать,  удерживать принятое поло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То  же  упражнение,  но  кисти  рук  переве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  плечам  или  за  гол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 Приподнимая   голову   и    плечи,  медленно перевести  руки  в  стороны (как  при  плавании стилем  бра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 Поднять  голову  и  плечи.  Руки  в  стороны. Сжимать  и   разжимать  кисти 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  Руки под подбородком. Поочередно поднять выпрямленные ноги, не отрывая таза от по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  Приподнять обе выпрямленные ноги с удерживанием их до счета 3-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.   Поднять правую ногу, присоединить левую. Держать в таком положении до счета 5, опустить правую, затем левую н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во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   подрос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рмальное   течение   этого   процесса   во   мног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спечивает   хорошее   психическое   и   физичес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ье,   формирование   полноценной   личности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 в   последующем  -   и   успешную   реализ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ородных   функ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 явный   признак   пубертатного   пери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периода  полового  созревания  -   13 - 16 лет   у  дев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14 - 16  лет   у   мальчиков) -   заметное   ускорени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па   роста - «ростовой  скачок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это   же   время   начинают   появля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е   половые   призна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мальчиков   увеличиваются   размеры   яичек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вого   члена,   у   девочек   постеп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еличиваются   молочные   железы,   у   подрос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являются   волосы   на   лобке   и   в   подмыше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адин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девочек   яичники   усиливают   выделение  женс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вых   гормонов   (эстрогенов)  и   начин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уцировать   яйцеклетки,  у   юношей   семенн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деляют   мужские   половые   гормоны   (андрогены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продуцируют   сперматозои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олжается   развитие   вторичных   полов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к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мальчиков   изменяется   форма   хрящей   горта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омается»   голос,  начинается  рост  волос  на  лиц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минацией   этого   периода   является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ступление   первых   месячных   у   девушек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люций   у   мальч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вушка  должна  знать   хотя-бы  упрощ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ность   менструаций:  «Природа   подарила   женщи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ительную   возможность   выносить   и    род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бенка,  дать   жизнь   новому   челове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женском   организме   есть   особый  орган - ма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а  предназначена   стать   чем-то   вроде   жи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ыбели,  в   которой   ребенок   будет   расти  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чатия   до   появления   на   с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определенные  сроки,  регулярно,  стенки   мат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ыхляются,  чтобы   принять   зародыш,   если   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явился.  Если   же   его  нет,  этот   разрыхленны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й   отслаивается,  наступает   кровотечен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28600"/>
            <a:ext cx="9144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большинства   девочек   первые   менстру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месячные)  появляются   в   12-14  лет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ачале   месячные   могут   быть   нерегулярными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ть   различную   продолжительность.   Постеп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  начинают   появляться   через   стр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ное   время   (в   среднем   через  28   дней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продолжаются   по   3-5   д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улярность   наступления    меся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идетельствует  о  том,  что   у    девуш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формировался   менструальный   цик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ки   нарушения    формирова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струального   цик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  менструаций   до   16 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откий   (меньше   21  дня)  или   продолжите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свыше  35   дней)   менструальный  цик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регулярный   цикл  в   течение   1,5 - 2   лет   посл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явления   менструа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струация   короткая   ( 1 – 2  дня) 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олжительная   (свыше   7   дне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ильное   кровотечение   или   выраженные  боле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щущения   во   время   менстру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2860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период   полового   созревания   активизиру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ьность   сальных   и   потовых   желез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лице,   шее,  спине   возникают   угри   (акн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льчики   и   девочки   в   этот    период   долж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илить   внимание   к   личной   гигие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   время   менструации   девочке   особ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   соблюдать   гигие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шем   следует   пользоваться   несколько   раз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нь,  причем   струя   воды   должна   быть   направл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ерху   вни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ться   в  ванне,   сидя  в   ней,  купаться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доемах   и  бассейнах   в   этот   период  нежелатель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мпоны   и   прокладки   надо   менять   воврем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ы   кровь   в   них   не   застаивалась   и  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лагала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304920"/>
            <a:ext cx="899172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остальном   следует   вести   обычный   обра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зни,  делать   легкую   зарядку,   ходить   на   учеб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ять   домашние   д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показана    значительная    физиче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грузка;  занятия   спортом   и   подъем   тяжестей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  время   должны   быть   исключ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2523960" cy="961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2629080" cy="2000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для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шц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рюшного   пр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 положение:  лежа   на   сп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1447920"/>
            <a:ext cx="6095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Согнуть   и   разогнуть   ноги  в   коленном и       тазобедренном  суставах   поочеред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 Согнуть   обе   ноги,  выпрямить  вверх,   медленно  опуст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 Поочередно  согнуть  и  разогнуть  ноги  на  весу - «велосипед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 Руки  за  головой,  поочередно   поднять выпрямленные   ноги  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 Согнуть  ноги,  выпрямив  их  вверх  под  углом 45°,  развести  прямые  ноги  в  стороны, соединить  их  и  медленно  опуст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   Приподнять  и  скрестить  прямые  но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. Из  исходного  положения  лежа  на  спине перейти  в  положение  сидя,  сохраняя правильное  положение  спины  и  гол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   наступления   менструаций  у  девушек  ил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люций   у   юношей    у   подростков   появ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щная   биологическая   потребность   -   полов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еч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связи   с   этим,   возникает   масса   напряж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живаний,  меняется   вся   эмоциональная  сфе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088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049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нняя  половая  жизнь  у  подростков   не   являетс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рмальным    явлением.   У   них   еще   не   полностью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формирована   психологическая    готовность   к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рождению   высокого   чувства   любв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этом   случае   эмоции,  возникающие   во   врем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вого   акта,   носят   преимуществ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ологический,  но   не   духовный   характе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подростка   может   сформироваться   тверд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беждение,  что  все  разговоры  о  любви  и  верности  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сто  «красивые   слова».   Эмоциональная     сфер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азывается   обедненной,   в   обычай   входит   част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на   партнеров, что   в   дальнейшем   может   име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йне   неблагоприятные   последствия   для   здоровь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семейной  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04920"/>
            <a:ext cx="91440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девушек   во   многих   случаях   первое   полов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лижение   не   вызывает   положительных   ощущен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 иногда   приводит   к   возникновению   болезн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живаний   или   сексуальной   трав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этой   почве   может   сформирова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гативное  отношение   к   половой   жизни   вообщ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  есть   половая   холодность   (фригидност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вочка   должна   усвоить  непреложную   истину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 если   начались   регулярные   месячные,  она   мож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беременеть   даже   от    одной - единствен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учайной   близ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 этим  может   стоять  и   заражение  серьёзным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болеваниями,  передающимися    половым   пут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5335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рение  стало  распространенным    явлением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и  подростко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ловство,  а   затем   привычка   имеют  очен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рьезные   последствия   для   здоровья   челове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ушается   нормальная   деятельность   основ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   организма - дыхательной,  сердечно-сосудист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щеваритель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рение   наносит    непоправимый   вре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продуктивной   системе.   Врожденные   уродства  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ей   встречаются   в   два   раза   чаще,   если  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   курили   во   время  берем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коголь   очень   опасен   для   молодого,  растущ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ма.   При   чрезмерном   употреблении  вызы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ыкание  и   болезненное   пристрастие,  то   е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ронический  алкоголиз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имо   прямого   физического   ущерба   здоровью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  поражением   прежде   всего   печени,  употреб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коголем   ведет   к    обеднению   духовной   сферы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то   является    причиной   морально - духовно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градации   человека    -     жизнь   превращается  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громная   проблема   для   молодежи -  наркот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отребление  наркотиков  очень  быстро  приводит  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ю   тяжелого   заболевания - наркомании,  су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ого   заключается   в   постоянной   зависим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а   от   приема   наркот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котические    вещества    оказывают    край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благоприятное   воздействие   на   все   органы 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ы   организма.   Они   угрожают   в  подростков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расте   не   только   здоровью,  но  зачастую  и  жиз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ологи  изучили   причины,  по   котор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росток   впервые   пробует   наркоти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первом   месте   стоит    любопытство,   жаж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ытать   незнакомые   ощу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втором - пример   и   уговоры   друзей 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комых.   Одна   из   особенностей   наркоман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емление   втянуть   как   можно   больше   людей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  кр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80880"/>
            <a:ext cx="914400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  воздействии   наркотиков    развив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тковременное   состояние    наркотиче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ьян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яется  настроение,   появляется  чувство  легк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ояние   радости   и   весель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дит    освобождение   от   груза   проблем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язанностей,  от   соблюдения   нравственных   нор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начальная   доза   очень   быстро   станови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достаточной,  чтобы  вызвать   приятные   ощущ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ходится  ее   постоянно   увеличи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требность   в   увеличении   дозы   наркоти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 признак   начавшейся   наркоти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исим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-1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для  мышц  голеней  и  ст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положение:  лежа  на  сп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3057480" cy="165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3884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 Поочередно   и   вместе   оттягивать   носки  стоп    с одновременным   приподниманием    и    опусканием    их наружного   к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-733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  наркомании   напрямую   связана  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ением   тяжелых   вирусных   заболеваний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патитов   В  и  С,   СПИДа  (синдрома   приобретенно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мунодефицита) -   последствия     в    трагических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ходах   и   несостоявшихся   судьб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  «отдых»   привычн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ссоциируется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тавление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ых   во   время   каникул,  в  том  числе   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имних,   можно   рассматривать   как   спосо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здоровления   дет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 этом   желательн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ходиться  на   свежем   воздух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ребят   из   большинства   «умеренных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ионов   местная   морозная   зима  -  здоровее   мног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жных   морских   курор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43880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880" y="-693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  лучше -  «юг»   или   «север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 переезд   из   умеренной    климатической   зоны 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жную   почти   всегда   чреват   определен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тройствами   здоровья   в   первые   дн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бывания  на   юге   (дезадаптац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 усложняет   адаптацию   смена   часового   поя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 иная   структура    пит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 возможность  заражения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опическим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екциям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надолго   ездить   на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юг»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  сто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азано,  что   местные   условия   ни   в   чем  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упают   комплексу   факторов,  с   котор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язывают   оздоровительное   действие   южных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том   числе   морских,   курор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ультаты   пребывания   детей   в   мес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наториях   оказываются   не   хуже,  чем   на   морс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рор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3505320" cy="17683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388620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9144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  элементы   отдыха   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средственное   отношение   к    здоров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стый   возду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 освобождение  о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ислов  сер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 азота,  частиц   дыма,  которыми  мы   дышим  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род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   промышленн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машней   пы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других   аллерген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«легкость  воздуха»    благодаря    умеренн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сыщению   его   влагой -  в  лесу,  в  горах,  в  степи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ую  погоду,  на  море,  в  морозную   погод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пребывание   на   солнц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двигательная   актив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е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,  что   загар  -  это   хорошо,   не   имее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какого    обоснования,   кроме   того,   что   это   мод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гар   нельзя   рассматривать   как   «необходимое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ловие   здоровь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много   загара - неплохо,   но   солнечного   ожо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 неаккуратном  пребывании  на   солнце   над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яться.   Неизмеримо   опаснее,   чем   сам   ожог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локачественное   перерождение   некоторых    клето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жи   под   воздействием   активных   солнечных   луч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обенно   для   белокожи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 rot="10800000">
            <a:off x="457200" y="2520"/>
            <a:ext cx="82296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0240" bIns="3024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быва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нц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умеренны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инать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еянны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лне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учей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загорания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нто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раж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учах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н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г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нцезащитны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и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верян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гор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х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ж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л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аноцитов 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еток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капливающи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ем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гмен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ияние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нечных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учей)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обенн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ккуратным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нц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47920" y="205596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дарю   Вас     за   внима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    You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en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657520" cy="1695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 для   мышц  голеней  и  ст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положение:  лежа  на  сп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0366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огнуть  ноги  в  коленях,  упереться  стопами  в  пол.  Развести  пятки  в  стороны, возврат  в   исходное положение.  После   серии   движений - расслаб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15-02-08T05:59:04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