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camera.wav" ContentType="audio/x-wav"/>
  <Override PartName="/ppt/media/image21.jpeg" ContentType="image/jpeg"/>
  <Override PartName="/ppt/media/image6.gif" ContentType="image/gif"/>
  <Override PartName="/ppt/media/chimes.wav" ContentType="audio/x-wav"/>
  <Override PartName="/ppt/media/type.wav" ContentType="audio/x-wav"/>
  <Override PartName="/ppt/media/image25.gif" ContentType="image/gif"/>
  <Override PartName="/ppt/media/image19.gif" ContentType="image/gif"/>
  <Override PartName="/ppt/media/image14.jpeg" ContentType="image/jpeg"/>
  <Override PartName="/ppt/media/image11.gif" ContentType="image/gif"/>
  <Override PartName="/ppt/media/image7.wmf" ContentType="image/x-wmf"/>
  <Override PartName="/ppt/media/wind.wav" ContentType="audio/x-wav"/>
  <Override PartName="/ppt/media/image20.jpeg" ContentType="image/jpeg"/>
  <Override PartName="/ppt/media/image26.gif" ContentType="image/gif"/>
  <Override PartName="/ppt/media/image3.gif" ContentType="image/gif"/>
  <Override PartName="/ppt/media/image9.gif" ContentType="image/gif"/>
  <Override PartName="/ppt/media/image10.gif" ContentType="image/gif"/>
  <Override PartName="/ppt/media/cashreg.wav" ContentType="audio/x-wav"/>
  <Override PartName="/ppt/media/applause.wav" ContentType="audio/x-wav"/>
  <Override PartName="/ppt/media/image24.gif" ContentType="image/gif"/>
  <Override PartName="/ppt/media/image12.jpeg" ContentType="image/jpeg"/>
  <Override PartName="/ppt/media/image4.png" ContentType="image/png"/>
  <Override PartName="/ppt/media/image8.gif" ContentType="image/gif"/>
  <Override PartName="/ppt/media/whoosh.wav" ContentType="audio/x-wav"/>
  <Override PartName="/ppt/media/image27.gif" ContentType="image/gif"/>
  <Override PartName="/ppt/media/image1.jpeg" ContentType="image/jpeg"/>
  <Override PartName="/ppt/media/image5.jpeg" ContentType="image/jpeg"/>
  <Override PartName="/ppt/media/image2.jpeg" ContentType="image/jpeg"/>
  <Override PartName="/ppt/media/image13.jpeg" ContentType="image/jpeg"/>
  <Override PartName="/ppt/media/image15.jpeg" ContentType="image/jpeg"/>
  <Override PartName="/ppt/media/image16.gif" ContentType="image/gif"/>
  <Override PartName="/ppt/media/drumroll.wav" ContentType="audio/x-wav"/>
  <Override PartName="/ppt/media/image28.gif" ContentType="image/gif"/>
  <Override PartName="/ppt/media/suction.wav" ContentType="audio/x-wav"/>
  <Override PartName="/ppt/media/image18.jpeg" ContentType="image/jpeg"/>
  <Override PartName="/ppt/media/image22.gif" ContentType="image/gif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67E1-AF39-4775-8DFC-CFE85ADD2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07EF-E5E2-43C6-B623-FA597CBD0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44D-B02E-4C05-AD5E-2AC5B12E6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1EC1-013B-4B5A-A27A-E9FBC6A97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73E-4B1C-4862-AFFF-423418F40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B237-F5BD-4BE4-B370-F126FFA95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DCA4-882C-47B6-87AA-14A69AC81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636-97EC-499D-A460-9FF65CA9A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54F9-A56A-4A05-8922-F694AF705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E8DB-D9DE-4F9E-A728-29ACEDAEE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FE4A-2D34-40D0-B5CB-BE6B1D90C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83B9-D6A1-46C9-A425-F3C30AA40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8AD-2977-4271-AEC7-443C2E84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8E7-2D06-4B2E-91A6-65CDDFA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8A0-B326-4B6A-B8FA-B21C01CD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1A4-6500-407F-8BF8-84E2346B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BFA-8015-4C89-83D6-899BA593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ADE-A55E-4AC1-B7B9-5F3B8819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A7D-1263-4F93-B492-5197C939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242-56AD-4CE3-A787-6FB48F09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D30-2D83-49B0-BFE9-FC2755FA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0A9-342F-454E-AB41-0FE0DF6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AC2-C23C-437B-9B88-0D7C3E6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449-BC3C-4A94-AEDF-4F17992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6CD3-C295-4408-BF62-842D42DCC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3"/>
          <p:cNvPicPr/>
          <p:nvPr/>
        </p:nvPicPr>
        <p:blipFill>
          <a:blip r:embed="rId2"/>
          <a:stretch/>
        </p:blipFill>
        <p:spPr>
          <a:xfrm>
            <a:off x="216000" y="0"/>
            <a:ext cx="896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amera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camera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5;&#1072;&#1075;&#1088;&#1072;&#1076;&#1072;.ppt" TargetMode="External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5;&#1072;&#1075;&#1088;&#1072;&#1076;&#1072;%202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43461aea92f36bdd2f789a157a926374"/>
          <p:cNvPicPr/>
          <p:nvPr/>
        </p:nvPicPr>
        <p:blipFill>
          <a:blip r:embed="rId2"/>
          <a:stretch/>
        </p:blipFill>
        <p:spPr>
          <a:xfrm>
            <a:off x="5351400" y="3316320"/>
            <a:ext cx="2892600" cy="2817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 rot="20821200">
            <a:off x="692280" y="1136520"/>
            <a:ext cx="7449840" cy="26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Дифференциация звуков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[Д] - [Т]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pic>
        <p:nvPicPr>
          <p:cNvPr id="51" name="ляля.mp3" descr=""/>
          <p:cNvPicPr/>
          <p:nvPr/>
        </p:nvPicPr>
        <p:blipFill>
          <a:blip r:embed="rId3"/>
          <a:stretch/>
        </p:blipFill>
        <p:spPr>
          <a:xfrm>
            <a:off x="-549360" y="6296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479880" y="511812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Журавская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ДОУ № 5 «Дельфин» г. Шарып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9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1922400" y="193680"/>
            <a:ext cx="56167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кончи слов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612800" y="1962000"/>
            <a:ext cx="1366920" cy="798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622520" y="2979720"/>
            <a:ext cx="1379520" cy="711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636560" y="3979800"/>
            <a:ext cx="1379520" cy="72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6"/>
          <p:cNvSpPr/>
          <p:nvPr/>
        </p:nvSpPr>
        <p:spPr>
          <a:xfrm>
            <a:off x="3629160" y="1960560"/>
            <a:ext cx="1176120" cy="77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3656160" y="2906640"/>
            <a:ext cx="1176120" cy="77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3656160" y="3971880"/>
            <a:ext cx="1176120" cy="77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0" descr="950deefcbf2a61baec75e7b5f2ee6c02"/>
          <p:cNvPicPr/>
          <p:nvPr/>
        </p:nvPicPr>
        <p:blipFill>
          <a:blip r:embed="rId1"/>
          <a:stretch/>
        </p:blipFill>
        <p:spPr>
          <a:xfrm>
            <a:off x="5487840" y="2224080"/>
            <a:ext cx="19767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2203560" y="255600"/>
            <a:ext cx="43783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едени слова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01000" y="2301840"/>
            <a:ext cx="23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ад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и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189400" y="2301840"/>
            <a:ext cx="189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7a4eda219068110e63d969c067428e73"/>
          <p:cNvPicPr/>
          <p:nvPr/>
        </p:nvPicPr>
        <p:blipFill>
          <a:blip r:embed="rId1"/>
          <a:stretch/>
        </p:blipFill>
        <p:spPr>
          <a:xfrm>
            <a:off x="6850080" y="443376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78880" y="2494080"/>
            <a:ext cx="624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мы жили на малень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я возил кирпичи 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91120" y="4143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7293240" y="2471760"/>
            <a:ext cx="13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1d4ee18f14584add0062499d275fef8a"/>
          <p:cNvPicPr/>
          <p:nvPr/>
        </p:nvPicPr>
        <p:blipFill>
          <a:blip r:embed="rId1"/>
          <a:stretch/>
        </p:blipFill>
        <p:spPr>
          <a:xfrm>
            <a:off x="3325680" y="4433760"/>
            <a:ext cx="19497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040" y="2552760"/>
            <a:ext cx="775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предложения надо постав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 вела за руку маленьк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12120" y="3483000"/>
            <a:ext cx="123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17bbf138aa3cf86a3dcc93d0b975cbfc"/>
          <p:cNvPicPr/>
          <p:nvPr/>
        </p:nvPicPr>
        <p:blipFill>
          <a:blip r:embed="rId1"/>
          <a:stretch/>
        </p:blipFill>
        <p:spPr>
          <a:xfrm>
            <a:off x="3014640" y="4457880"/>
            <a:ext cx="2198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44320" y="2433600"/>
            <a:ext cx="57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 …  солд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т  …  последний экза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91120" y="4143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115040" y="2494080"/>
            <a:ext cx="10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2b6cc5c79050cd36df0a7f1ed1ff6edd"/>
          <p:cNvPicPr/>
          <p:nvPr/>
        </p:nvPicPr>
        <p:blipFill>
          <a:blip r:embed="rId1"/>
          <a:stretch/>
        </p:blipFill>
        <p:spPr>
          <a:xfrm>
            <a:off x="3579840" y="4199040"/>
            <a:ext cx="22590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1749600" y="252360"/>
            <a:ext cx="549252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чи предложе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55480" y="2457360"/>
            <a:ext cx="525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у созрели вкусные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еке плывут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863960" y="4143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310440" y="2506680"/>
            <a:ext cx="139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3f6ab2b21e7d1c0b4faa61bec6dce2e7"/>
          <p:cNvPicPr/>
          <p:nvPr/>
        </p:nvPicPr>
        <p:blipFill>
          <a:blip r:embed="rId1"/>
          <a:stretch/>
        </p:blipFill>
        <p:spPr>
          <a:xfrm>
            <a:off x="3933720" y="4162320"/>
            <a:ext cx="1954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43461aea92f36bdd2f789a157a926374"/>
          <p:cNvPicPr/>
          <p:nvPr/>
        </p:nvPicPr>
        <p:blipFill>
          <a:blip r:embed="rId1"/>
          <a:stretch/>
        </p:blipFill>
        <p:spPr>
          <a:xfrm>
            <a:off x="5351400" y="3316320"/>
            <a:ext cx="2892600" cy="28177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 rot="20821200">
            <a:off x="691920" y="1751040"/>
            <a:ext cx="7449840" cy="26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Ты молодец!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pic>
        <p:nvPicPr>
          <p:cNvPr id="199" name="ляля.mp3" descr=""/>
          <p:cNvPicPr/>
          <p:nvPr/>
        </p:nvPicPr>
        <p:blipFill>
          <a:blip r:embed="rId2"/>
          <a:stretch/>
        </p:blipFill>
        <p:spPr>
          <a:xfrm>
            <a:off x="-549360" y="6296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179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563840" y="334800"/>
            <a:ext cx="57499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На что похожа букв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533520" y="1676520"/>
            <a:ext cx="8089920" cy="4444920"/>
            <a:chOff x="533520" y="1676520"/>
            <a:chExt cx="8089920" cy="4444920"/>
          </a:xfrm>
        </p:grpSpPr>
        <p:sp>
          <p:nvSpPr>
            <p:cNvPr id="55" name="Rectangle 10"/>
            <p:cNvSpPr/>
            <p:nvPr/>
          </p:nvSpPr>
          <p:spPr>
            <a:xfrm>
              <a:off x="533520" y="1676520"/>
              <a:ext cx="8089920" cy="4419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4584600" y="1676520"/>
              <a:ext cx="25560" cy="444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2093760" y="1967040"/>
            <a:ext cx="897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д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5951520" y="1895400"/>
            <a:ext cx="10191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 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9" name="Picture 15" descr="53a511d4c225eb4223e60e0411c5d99c"/>
          <p:cNvPicPr/>
          <p:nvPr/>
        </p:nvPicPr>
        <p:blipFill>
          <a:blip r:embed="rId2"/>
          <a:stretch/>
        </p:blipFill>
        <p:spPr>
          <a:xfrm>
            <a:off x="1257480" y="3114720"/>
            <a:ext cx="2625480" cy="244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C08-56"/>
          <p:cNvPicPr/>
          <p:nvPr/>
        </p:nvPicPr>
        <p:blipFill>
          <a:blip r:embed="rId3"/>
          <a:stretch/>
        </p:blipFill>
        <p:spPr>
          <a:xfrm>
            <a:off x="5397480" y="2892600"/>
            <a:ext cx="2506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1087560" y="334800"/>
            <a:ext cx="7029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равни зву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3520" y="1676520"/>
            <a:ext cx="8089920" cy="44193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84600" y="1676520"/>
            <a:ext cx="25560" cy="444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743de69b5f7e7d893260d4784078070a"/>
          <p:cNvPicPr/>
          <p:nvPr/>
        </p:nvPicPr>
        <p:blipFill>
          <a:blip r:embed="rId1"/>
          <a:stretch/>
        </p:blipFill>
        <p:spPr>
          <a:xfrm>
            <a:off x="2052720" y="1876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c1deda2446e91db7c2506fc259055fd"/>
          <p:cNvPicPr/>
          <p:nvPr/>
        </p:nvPicPr>
        <p:blipFill>
          <a:blip r:embed="rId2"/>
          <a:stretch/>
        </p:blipFill>
        <p:spPr>
          <a:xfrm>
            <a:off x="6273720" y="1876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d34f2eae1c233279fee2708658a1744a"/>
          <p:cNvPicPr/>
          <p:nvPr/>
        </p:nvPicPr>
        <p:blipFill>
          <a:blip r:embed="rId3"/>
          <a:stretch/>
        </p:blipFill>
        <p:spPr>
          <a:xfrm>
            <a:off x="6141960" y="3365640"/>
            <a:ext cx="103824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ee8a1424ef506101a0edc274f8e2bee0"/>
          <p:cNvPicPr/>
          <p:nvPr/>
        </p:nvPicPr>
        <p:blipFill>
          <a:blip r:embed="rId4"/>
          <a:stretch/>
        </p:blipFill>
        <p:spPr>
          <a:xfrm>
            <a:off x="1589040" y="3127320"/>
            <a:ext cx="140976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пулемет.mp3" descr=""/>
          <p:cNvPicPr/>
          <p:nvPr/>
        </p:nvPicPr>
        <p:blipFill>
          <a:blip r:embed="rId5"/>
          <a:stretch/>
        </p:blipFill>
        <p:spPr>
          <a:xfrm>
            <a:off x="-5875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молоток.mp3" descr=""/>
          <p:cNvPicPr/>
          <p:nvPr/>
        </p:nvPicPr>
        <p:blipFill>
          <a:blip r:embed="rId6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5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6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1087560" y="334800"/>
            <a:ext cx="7029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Артикуляц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3520" y="1676520"/>
            <a:ext cx="8089920" cy="44193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4584600" y="1676520"/>
            <a:ext cx="25560" cy="444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сканирование0060"/>
          <p:cNvPicPr/>
          <p:nvPr/>
        </p:nvPicPr>
        <p:blipFill>
          <a:blip r:embed="rId1"/>
          <a:stretch/>
        </p:blipFill>
        <p:spPr>
          <a:xfrm>
            <a:off x="568440" y="1716120"/>
            <a:ext cx="1195200" cy="127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сканирование0061"/>
          <p:cNvPicPr/>
          <p:nvPr/>
        </p:nvPicPr>
        <p:blipFill>
          <a:blip r:embed="rId2"/>
          <a:stretch/>
        </p:blipFill>
        <p:spPr>
          <a:xfrm>
            <a:off x="4626000" y="1724040"/>
            <a:ext cx="1319040" cy="12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сканирование0059"/>
          <p:cNvPicPr/>
          <p:nvPr/>
        </p:nvPicPr>
        <p:blipFill>
          <a:blip r:embed="rId3"/>
          <a:stretch/>
        </p:blipFill>
        <p:spPr>
          <a:xfrm>
            <a:off x="6102360" y="1735200"/>
            <a:ext cx="2441520" cy="213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сканирование0062"/>
          <p:cNvPicPr/>
          <p:nvPr/>
        </p:nvPicPr>
        <p:blipFill>
          <a:blip r:embed="rId4"/>
          <a:stretch/>
        </p:blipFill>
        <p:spPr>
          <a:xfrm>
            <a:off x="1855800" y="1760400"/>
            <a:ext cx="2631960" cy="209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7"/>
          <p:cNvSpPr/>
          <p:nvPr/>
        </p:nvSpPr>
        <p:spPr>
          <a:xfrm>
            <a:off x="577800" y="3900600"/>
            <a:ext cx="3940200" cy="21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вые с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f472dc8ef84cace0a1c248d5e9142d9f"/>
          <p:cNvPicPr/>
          <p:nvPr/>
        </p:nvPicPr>
        <p:blipFill>
          <a:blip r:embed="rId5"/>
          <a:stretch/>
        </p:blipFill>
        <p:spPr>
          <a:xfrm>
            <a:off x="3265560" y="458640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3"/>
          <p:cNvSpPr/>
          <p:nvPr/>
        </p:nvSpPr>
        <p:spPr>
          <a:xfrm>
            <a:off x="4665600" y="3875040"/>
            <a:ext cx="3751200" cy="2151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вые с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f472dc8ef84cace0a1c248d5e9142d9f"/>
          <p:cNvPicPr/>
          <p:nvPr/>
        </p:nvPicPr>
        <p:blipFill>
          <a:blip r:embed="rId6"/>
          <a:stretch/>
        </p:blipFill>
        <p:spPr>
          <a:xfrm>
            <a:off x="7315200" y="4554360"/>
            <a:ext cx="942840" cy="1190880"/>
          </a:xfrm>
          <a:prstGeom prst="rect">
            <a:avLst/>
          </a:prstGeom>
          <a:ln w="0">
            <a:noFill/>
          </a:ln>
        </p:spPr>
      </p:pic>
      <p:sp>
        <p:nvSpPr>
          <p:cNvPr id="82" name="Line 25"/>
          <p:cNvSpPr/>
          <p:nvPr/>
        </p:nvSpPr>
        <p:spPr>
          <a:xfrm>
            <a:off x="7327800" y="4464000"/>
            <a:ext cx="874800" cy="12114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5002200" y="5110200"/>
            <a:ext cx="363600" cy="349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5580000" y="5097600"/>
            <a:ext cx="36360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1346040" y="5178600"/>
            <a:ext cx="36360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766800" y="5180040"/>
            <a:ext cx="363600" cy="349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кол2.mp3" descr=""/>
          <p:cNvPicPr/>
          <p:nvPr/>
        </p:nvPicPr>
        <p:blipFill>
          <a:blip r:embed="rId7"/>
          <a:stretch/>
        </p:blipFill>
        <p:spPr>
          <a:xfrm>
            <a:off x="341280" y="7094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кол2.mp3" descr=""/>
          <p:cNvPicPr/>
          <p:nvPr/>
        </p:nvPicPr>
        <p:blipFill>
          <a:blip r:embed="rId8"/>
          <a:stretch/>
        </p:blipFill>
        <p:spPr>
          <a:xfrm>
            <a:off x="-1522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73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>
            <a:hlinkClick r:id="rId1"/>
          </p:cNvPr>
          <p:cNvSpPr/>
          <p:nvPr/>
        </p:nvSpPr>
        <p:spPr>
          <a:xfrm>
            <a:off x="668160" y="1639800"/>
            <a:ext cx="2787840" cy="187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1563840" y="334800"/>
            <a:ext cx="57499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Цепочки слогов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901800" y="1812960"/>
            <a:ext cx="22874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 - 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928800" y="2629080"/>
            <a:ext cx="227628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 - 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746600" y="1611360"/>
            <a:ext cx="2887560" cy="1873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5049720" y="1760400"/>
            <a:ext cx="21607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 - т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5019840" y="2630520"/>
            <a:ext cx="222228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 - д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96960" y="4224240"/>
            <a:ext cx="2771640" cy="172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4905360" y="4179960"/>
            <a:ext cx="2714760" cy="18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020600" y="4295880"/>
            <a:ext cx="20052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ы - 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6"/>
          <p:cNvSpPr txBox="1"/>
          <p:nvPr/>
        </p:nvSpPr>
        <p:spPr>
          <a:xfrm>
            <a:off x="960480" y="5132520"/>
            <a:ext cx="206532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 - 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7"/>
          <p:cNvSpPr txBox="1"/>
          <p:nvPr/>
        </p:nvSpPr>
        <p:spPr>
          <a:xfrm>
            <a:off x="5195880" y="4203720"/>
            <a:ext cx="2065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 - д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8"/>
          <p:cNvSpPr txBox="1"/>
          <p:nvPr/>
        </p:nvSpPr>
        <p:spPr>
          <a:xfrm>
            <a:off x="5187960" y="5103720"/>
            <a:ext cx="2095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я - т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>
            <a:hlinkClick r:id="rId1"/>
          </p:cNvPr>
          <p:cNvSpPr/>
          <p:nvPr/>
        </p:nvSpPr>
        <p:spPr>
          <a:xfrm>
            <a:off x="668160" y="1639800"/>
            <a:ext cx="2787840" cy="18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563840" y="334800"/>
            <a:ext cx="57499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Цепочки слогов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901800" y="1812960"/>
            <a:ext cx="22874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 - та - 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900000" y="2598840"/>
            <a:ext cx="2276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 - да - 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746600" y="1611360"/>
            <a:ext cx="2887560" cy="1873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5049720" y="1760400"/>
            <a:ext cx="216072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 - ду - д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5019840" y="2630520"/>
            <a:ext cx="222228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 - то - д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96960" y="4224240"/>
            <a:ext cx="2771640" cy="172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905360" y="4179960"/>
            <a:ext cx="2714760" cy="18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1020600" y="4295880"/>
            <a:ext cx="20052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ы - ты - т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960480" y="5132520"/>
            <a:ext cx="206532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 - те - д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5195880" y="4203720"/>
            <a:ext cx="2065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 - до - д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5187960" y="5103720"/>
            <a:ext cx="2095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 - ди - 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15"/>
          <p:cNvSpPr txBox="1"/>
          <p:nvPr/>
        </p:nvSpPr>
        <p:spPr>
          <a:xfrm>
            <a:off x="2144880" y="542880"/>
            <a:ext cx="4771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сьмо слого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561960" y="247680"/>
            <a:ext cx="764064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и наличие звуков [д] - [т]  в словах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549360" y="4745160"/>
            <a:ext cx="2495520" cy="885600"/>
          </a:xfrm>
          <a:prstGeom prst="rect">
            <a:avLst/>
          </a:prstGeom>
          <a:solidFill>
            <a:srgbClr val="fdfd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1379520" y="47466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2263680" y="47610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765000" y="495612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2490840" y="240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1621800" y="4991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2492280" y="49467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9" descr=""/>
          <p:cNvPicPr/>
          <p:nvPr/>
        </p:nvPicPr>
        <p:blipFill>
          <a:blip r:embed="rId1"/>
          <a:stretch/>
        </p:blipFill>
        <p:spPr>
          <a:xfrm>
            <a:off x="5834160" y="4414680"/>
            <a:ext cx="1466640" cy="14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0" descr=""/>
          <p:cNvPicPr/>
          <p:nvPr/>
        </p:nvPicPr>
        <p:blipFill>
          <a:blip r:embed="rId2"/>
          <a:stretch/>
        </p:blipFill>
        <p:spPr>
          <a:xfrm>
            <a:off x="5921280" y="2008080"/>
            <a:ext cx="1171800" cy="14385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1"/>
          <p:cNvSpPr/>
          <p:nvPr/>
        </p:nvSpPr>
        <p:spPr>
          <a:xfrm>
            <a:off x="554040" y="2286000"/>
            <a:ext cx="2549520" cy="8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2"/>
          <p:cNvSpPr/>
          <p:nvPr/>
        </p:nvSpPr>
        <p:spPr>
          <a:xfrm>
            <a:off x="1347840" y="230976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3"/>
          <p:cNvSpPr/>
          <p:nvPr/>
        </p:nvSpPr>
        <p:spPr>
          <a:xfrm>
            <a:off x="2214720" y="22860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788400" y="2387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1616040" y="240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7"/>
          <p:cNvSpPr/>
          <p:nvPr/>
        </p:nvSpPr>
        <p:spPr>
          <a:xfrm>
            <a:off x="2458440" y="23972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8" descr="12c6f14fc4e9df6fcec7d110ef682e8f"/>
          <p:cNvPicPr/>
          <p:nvPr/>
        </p:nvPicPr>
        <p:blipFill>
          <a:blip r:embed="rId3"/>
          <a:stretch/>
        </p:blipFill>
        <p:spPr>
          <a:xfrm>
            <a:off x="3530520" y="3008160"/>
            <a:ext cx="21290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3"/>
          <p:cNvSpPr/>
          <p:nvPr/>
        </p:nvSpPr>
        <p:spPr>
          <a:xfrm>
            <a:off x="1393920" y="222084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263680" y="22068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379520" y="47466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263680" y="47610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745080" y="2206800"/>
            <a:ext cx="0" cy="86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3773520" y="476100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11360" y="2192400"/>
            <a:ext cx="373032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9800" y="4716360"/>
            <a:ext cx="4503600" cy="101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481040" y="2176560"/>
            <a:ext cx="0" cy="9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2263680" y="21924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005280" y="2206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3716280" y="21924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450800" y="47023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162160" y="470232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3672000" y="47023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903400" y="4716360"/>
            <a:ext cx="0" cy="10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9"/>
          <p:cNvSpPr txBox="1"/>
          <p:nvPr/>
        </p:nvSpPr>
        <p:spPr>
          <a:xfrm>
            <a:off x="561960" y="247680"/>
            <a:ext cx="764064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и наличие звуков [д] - [т]  в словах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84600" y="249228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709640" y="24066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2522160" y="2390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276360" y="24354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4002120" y="2421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4427640" y="2195640"/>
            <a:ext cx="798480" cy="92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1663560" y="5029200"/>
            <a:ext cx="3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925560" y="50468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2333160" y="504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3174840" y="50626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3886200" y="4989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5" descr=""/>
          <p:cNvPicPr/>
          <p:nvPr/>
        </p:nvPicPr>
        <p:blipFill>
          <a:blip r:embed="rId1"/>
          <a:stretch/>
        </p:blipFill>
        <p:spPr>
          <a:xfrm>
            <a:off x="6753240" y="4513320"/>
            <a:ext cx="1295280" cy="1466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6" descr=""/>
          <p:cNvPicPr/>
          <p:nvPr/>
        </p:nvPicPr>
        <p:blipFill>
          <a:blip r:embed="rId2"/>
          <a:stretch/>
        </p:blipFill>
        <p:spPr>
          <a:xfrm>
            <a:off x="6642000" y="2165400"/>
            <a:ext cx="1381320" cy="1219320"/>
          </a:xfrm>
          <a:prstGeom prst="rect">
            <a:avLst/>
          </a:prstGeom>
          <a:ln w="0">
            <a:noFill/>
          </a:ln>
        </p:spPr>
      </p:pic>
      <p:sp>
        <p:nvSpPr>
          <p:cNvPr id="163" name="Line 37"/>
          <p:cNvSpPr/>
          <p:nvPr/>
        </p:nvSpPr>
        <p:spPr>
          <a:xfrm>
            <a:off x="4487760" y="4716360"/>
            <a:ext cx="0" cy="10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4651200" y="4863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9" descr="36f7456f42a74f756116e3199961e863"/>
          <p:cNvPicPr/>
          <p:nvPr/>
        </p:nvPicPr>
        <p:blipFill>
          <a:blip r:embed="rId3"/>
          <a:stretch/>
        </p:blipFill>
        <p:spPr>
          <a:xfrm>
            <a:off x="2316240" y="3206880"/>
            <a:ext cx="13968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3:39:06Z</dcterms:created>
  <dc:creator>User</dc:creator>
  <dc:description/>
  <dc:language>en-US</dc:language>
  <cp:lastModifiedBy>Ната</cp:lastModifiedBy>
  <dcterms:modified xsi:type="dcterms:W3CDTF">2019-01-13T05:43:29Z</dcterms:modified>
  <cp:revision>38</cp:revision>
  <dc:subject/>
  <dc:title>Слайд 1</dc:title>
</cp:coreProperties>
</file>