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gif" ContentType="image/gif"/>
  <Override PartName="/ppt/media/image4.wmf" ContentType="image/x-wmf"/>
  <Override PartName="/ppt/media/image3.jpeg" ContentType="image/jpeg"/>
  <Override PartName="/ppt/media/image5.wmf" ContentType="image/x-wmf"/>
  <Override PartName="/ppt/media/image8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7CD0F-4732-4CED-B862-AF9C7F6C4B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AB25E-92D6-418A-BCE3-9BEF2783BC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82607-E47C-4303-9FD6-18462E64EE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AEB4F-0736-4226-9E24-D9F90EACC7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7131F-99ED-49B6-8ABC-B468A19C5A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B1562-AFE9-4234-A610-9B4102A96B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D8454-18C1-4737-AB99-1E312F6313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476A3-AA78-41E0-BA6D-E6A71228AD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38142-31B8-4C00-A31F-45315CFD1D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32541-7736-46C0-9779-10FAE8DB07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4FBA8-BA25-41EB-B7F3-A17B6A957B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76664-E5D7-422A-9C3A-812215E475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4DB74D-4EC1-49D4-B2DA-4B3706C493A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06760" y="5157720"/>
            <a:ext cx="473724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808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6560" y="345960"/>
            <a:ext cx="8079120" cy="9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at do we know about Hallow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1612800"/>
            <a:ext cx="8002440" cy="34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.Americans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d British celebrate Halloween on October 3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.Halloween means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ly  → hallow-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en  →  evening-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еч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alloween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900000">
            <a:off x="2340000" y="5445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0460000">
            <a:off x="4470480" y="5364000"/>
            <a:ext cx="77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4354200" y="5156280"/>
            <a:ext cx="506520" cy="434880"/>
          </a:xfrm>
          <a:prstGeom prst="line">
            <a:avLst/>
          </a:prstGeom>
          <a:ln cap="sq"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500000">
            <a:off x="2341080" y="558936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916360" y="5156280"/>
            <a:ext cx="576000" cy="434880"/>
          </a:xfrm>
          <a:prstGeom prst="line">
            <a:avLst/>
          </a:prstGeom>
          <a:ln cap="sq"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59280" y="4703760"/>
            <a:ext cx="4595760" cy="215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26920" y="404640"/>
            <a:ext cx="694548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eople want to look like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d22e55"/>
                </a:solidFill>
                <a:uFillTx/>
                <a:latin typeface="Arial"/>
              </a:rPr>
              <a:t>skele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d22e55"/>
                </a:solidFill>
                <a:uFillTx/>
                <a:latin typeface="Arial"/>
              </a:rPr>
              <a:t>ghosts</a:t>
            </a:r>
            <a:r>
              <a:rPr b="0" lang="en-US" sz="3200" spc="-1" strike="noStrike" u="sng">
                <a:solidFill>
                  <a:srgbClr val="d22e55"/>
                </a:solidFill>
                <a:uFillTx/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524720" y="260280"/>
            <a:ext cx="1444680" cy="1728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843280" y="836640"/>
            <a:ext cx="1817640" cy="1644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00000" y="2781360"/>
            <a:ext cx="7056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eople go from house to house and say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”Trick or treat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eople give other people cand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ok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r play tri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084720" y="3429000"/>
            <a:ext cx="746280" cy="765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6804000" y="4076640"/>
            <a:ext cx="615960" cy="695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5651640" y="4581360"/>
            <a:ext cx="912600" cy="787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093080" y="189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98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140360" y="476280"/>
            <a:ext cx="4319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40360" y="404640"/>
            <a:ext cx="5003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nock knock, trick or tre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Who are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'm a ghost. I'm a little gh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nock knock, trick or tre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Who are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'm a cowboy. I'm a little cowbo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nock knock, trick or tre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Who are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'm a witch. I'm a little wit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nock knock, trick or tre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Who are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'm a monster. I'm a little mon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nock knock, trick or tre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Who are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'm a ballerina. I'm a little baller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nock knock, trick or tre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Who are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'm a pirate. I'm a little pir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nock knock, trick or tre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appy Halloween!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appy Hallowe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appy Hallowe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,o,t,g,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i,c,h,t,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a,e,e,h,l,l,n,o,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,a,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,e,l,e,k,o,t,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808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Расшифруйте телеграмм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16280"/>
            <a:ext cx="868680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Alittlewitchandahorribleskullappea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Whiteghostandagreenmonsterfollow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15:35:51Z</dcterms:created>
  <dc:creator>princess</dc:creator>
  <dc:description/>
  <dc:language>en-US</dc:language>
  <cp:lastModifiedBy>Роенко</cp:lastModifiedBy>
  <dcterms:modified xsi:type="dcterms:W3CDTF">2016-09-19T04:47:33Z</dcterms:modified>
  <cp:revision>10</cp:revision>
  <dc:subject/>
  <dc:title>Слайд 1</dc:title>
</cp:coreProperties>
</file>