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gif" ContentType="image/gif"/>
  <Override PartName="/ppt/media/image4.wmf" ContentType="image/x-wmf"/>
  <Override PartName="/ppt/media/image3.jpeg" ContentType="image/jpeg"/>
  <Override PartName="/ppt/media/image5.wmf" ContentType="image/x-wmf"/>
  <Override PartName="/ppt/media/image8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3E6F1-D721-466E-A5A8-E2E2A5F649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D0C04-5F0B-4C26-BBA9-35FAB77D0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8C21F-79A7-437D-BAD8-2329EDEC2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474F8-31F7-4A33-8965-6ADFD77351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C6F1F-51CB-41B3-8C43-DC21C3DB36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42422-22FB-48CF-B148-0C0D075901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7C15D-D3E7-4FDE-9EA7-6D8E9A43D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9BAB4-8F4B-4FC2-83D0-F5EF0A12E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956B-9550-49E0-B137-D5C68E706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39AC1-925E-4555-A762-EB760BD2C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8A1CE-851C-4B9C-BB49-80C788913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53033-2775-49B5-9ACE-1DB00A22B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02B859-1F58-4DF9-83E7-E35A0148E28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06760" y="5157720"/>
            <a:ext cx="473724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6560" y="345960"/>
            <a:ext cx="8079120" cy="9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at do we know about Hallow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612800"/>
            <a:ext cx="800244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.Americans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 British celebrate Halloween on October 3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.Halloween means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ly  → hallow-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en  →  evening-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еч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llowee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900000">
            <a:off x="2340000" y="5445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0460000">
            <a:off x="4470480" y="5364000"/>
            <a:ext cx="7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4354200" y="5156280"/>
            <a:ext cx="506520" cy="434880"/>
          </a:xfrm>
          <a:prstGeom prst="line">
            <a:avLst/>
          </a:prstGeom>
          <a:ln cap="sq"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500000">
            <a:off x="2341080" y="558936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916360" y="5156280"/>
            <a:ext cx="576000" cy="434880"/>
          </a:xfrm>
          <a:prstGeom prst="line">
            <a:avLst/>
          </a:prstGeom>
          <a:ln cap="sq"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59280" y="4703760"/>
            <a:ext cx="4595760" cy="215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26920" y="404640"/>
            <a:ext cx="694548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eople want to look lik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d22e55"/>
                </a:solidFill>
                <a:uFillTx/>
                <a:latin typeface="Arial"/>
              </a:rPr>
              <a:t>skele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d22e55"/>
                </a:solidFill>
                <a:uFillTx/>
                <a:latin typeface="Arial"/>
              </a:rPr>
              <a:t>ghosts</a:t>
            </a:r>
            <a:r>
              <a:rPr b="0" lang="en-US" sz="3200" spc="-1" strike="noStrike" u="sng">
                <a:solidFill>
                  <a:srgbClr val="d22e55"/>
                </a:solidFill>
                <a:uFillTx/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24720" y="260280"/>
            <a:ext cx="1444680" cy="1728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843280" y="836640"/>
            <a:ext cx="1817640" cy="164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00000" y="2781360"/>
            <a:ext cx="7056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eople go from house to house and say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”Trick or treat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eople give other people cand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ok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 play tri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084720" y="3429000"/>
            <a:ext cx="746280" cy="76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804000" y="4076640"/>
            <a:ext cx="615960" cy="695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651640" y="4581360"/>
            <a:ext cx="912600" cy="787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093080" y="189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40360" y="476280"/>
            <a:ext cx="4319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40360" y="404640"/>
            <a:ext cx="5003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nock knock, trick or tre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Who are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'm a ghost. I'm a little gh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nock knock, trick or tre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Who are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'm a cowboy. I'm a little cowbo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nock knock, trick or tre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Who are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'm a witch. I'm a little wit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nock knock, trick or tre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Who are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'm a monster. I'm a little mon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nock knock, trick or tre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Who are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'm a ballerina. I'm a little baller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nock knock, trick or tre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Who are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'm a pirate. I'm a little pi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nock knock, trick or tre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appy Halloween!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appy Hallowe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appy Hallowe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,o,t,g,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i,c,h,t,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a,e,e,h,l,l,n,o,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,a,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,e,l,e,k,o,t,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Расшифруйте телеграмм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16280"/>
            <a:ext cx="868680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Alittlewitchandahorribleskullappea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Whiteghostandagreenmonsterfollow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5:35:51Z</dcterms:created>
  <dc:creator>princess</dc:creator>
  <dc:description/>
  <dc:language>en-US</dc:language>
  <cp:lastModifiedBy>Роенко</cp:lastModifiedBy>
  <dcterms:modified xsi:type="dcterms:W3CDTF">2016-09-19T04:47:33Z</dcterms:modified>
  <cp:revision>10</cp:revision>
  <dc:subject/>
  <dc:title>Слайд 1</dc:title>
</cp:coreProperties>
</file>