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83B-9350-4FC8-82A0-98F339D3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EBE-433F-4556-BB30-9C90024F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77BC-30E5-4822-B43F-D614BC8A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02E0-24A1-4A5A-8C41-1D3F18D8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2D5D-24E4-4F9E-ACC4-2696BF9B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0095-E3D5-484C-BBA6-CEC8E6DC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9EF0-83DF-4228-9EA1-E032B666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E973-B5E8-4C7B-B4CF-2B0D6972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0CBE-23C1-4A71-A72F-D05A238A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7102-C185-444C-8E10-1F0B4DC7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EBCA-71B3-49C6-A27C-65867329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376-5942-496E-A098-5280AE14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C7CB-CACB-4440-BD02-6EA7D2D9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E985-57B6-4E59-A59E-62776EE9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519C-8B8D-4C3F-AD04-864A3B4E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8EBB-74AC-4625-90D0-6FB1A653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838A-8222-4412-A16F-D72F9DBD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7AB-640B-4739-BE78-49D71064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9DDB-0E44-402C-9012-A49A875C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4A8D-AF0C-4BE4-9DBE-1B298E1D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F31-A954-482B-984A-038F54E2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F8AF-35AD-4179-BA98-296EC953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3A3-B60F-4E6B-81B4-3A88B6D5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BB76-B872-42F8-BEF5-13D66D74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E5D6-F92E-46D2-8C9B-65566EBFEE9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E87D-A905-4CAD-9EB4-7E90BF3EE3C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Марина </a:t>
            </a:r>
            <a:br>
              <a:rPr sz="6000"/>
            </a:b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Цветаева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бинкина Луиза Всеволод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литерату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У «Гимназия №2»  г.Кимры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сновные сборник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черний альбом.    19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Волшебный фонарь.19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Из двух книг.            19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Лебединый ст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 После России.           19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громном городе моем — ноч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 дома сонного иду —проч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люди думают: жена, дочь,— А я запомнила одно: ноч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юльский ветер мне метет — путь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где-то музыка в окне — чу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х, нынче ветру до зари — ду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возь стенки тонкие грудй в груд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ть черный тополь, и в окне — свет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звон на башне, н в руке цвет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шаг вот этот —- никому— вслед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тень вот эта, а меня — н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ни — как нити золотых бус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чного листика во рту — вку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вободите от дневных уз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рузья, поймите, что я вам — снюс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9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63280" y="0"/>
            <a:ext cx="64659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ихи к Блок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я твое — птица в рук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я твое — льдинка на язык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о-единственное движенье гу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я твое — пять бук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ячик, пойманный на лету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ребряный бубенец во рт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мень, кинутый в тихий пруд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хлипнет так, как тебя зову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легком шелканье ночных копы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омкое имя твое греми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назовет его нам в висо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вонко щелкающий куро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я твое — ах, нельзя!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я твое — поцелуй в глаз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ежную стужу недвижных ве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я твое — поцелуй в сне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ючевой, ледяной, голубой глото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именем твоим — сон глубо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71280" y="404640"/>
            <a:ext cx="817236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черном небе — слова начертаны —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 ослепли глаза прекрасные...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 не страшно нам ложе смертно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 не сладко нам ложе страст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поте .— пишущий, в поте — пашущий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м знакомо иное рвение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егкий огнь, над кудрями пляшущий,— Дуновение — вдохновения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foto"/>
          <p:cNvPicPr/>
          <p:nvPr/>
        </p:nvPicPr>
        <p:blipFill>
          <a:blip r:embed="rId1"/>
          <a:stretch/>
        </p:blipFill>
        <p:spPr>
          <a:xfrm rot="20303400">
            <a:off x="1266840" y="394920"/>
            <a:ext cx="2419200" cy="3441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foto"/>
          <p:cNvPicPr/>
          <p:nvPr/>
        </p:nvPicPr>
        <p:blipFill>
          <a:blip r:embed="rId2"/>
          <a:stretch/>
        </p:blipFill>
        <p:spPr>
          <a:xfrm rot="1026000">
            <a:off x="5292360" y="333000"/>
            <a:ext cx="2479680" cy="3503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076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Если душа родилась крылатой —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Чт</a:t>
            </a: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ей хоромы — и чт</a:t>
            </a: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ей хаты! 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а на миру у меня врага, 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а близнеца, неразрывно-слитых: Голод голодных — и сытость сытых!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етств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3520" y="1828800"/>
          <a:ext cx="4000320" cy="4497480"/>
        </p:xfrm>
        <a:graphic>
          <a:graphicData uri="http://schemas.openxmlformats.org/drawingml/2006/table">
            <a:tbl>
              <a:tblPr/>
              <a:tblGrid>
                <a:gridCol w="2052360"/>
                <a:gridCol w="579600"/>
                <a:gridCol w="1368360"/>
              </a:tblGrid>
              <a:tr h="477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8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dfddc4"/>
                          </a:solidFill>
                          <a:latin typeface="Times New Roman"/>
                        </a:rPr>
                        <a:t>     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рина Цветаева. 1893 г.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?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b88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fddc4"/>
                          </a:solidFill>
                          <a:latin typeface="Times New Roman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fddc4"/>
                          </a:solidFill>
                          <a:latin typeface="Times New Roman"/>
                          <a:ea typeface="Times New Roman"/>
                        </a:rPr>
                        <a:t>* * *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* * * </a:t>
                      </a:r>
                      <a:r>
                        <a:rPr b="0" lang="en-US" sz="1200" spc="-1" strike="noStrike">
                          <a:solidFill>
                            <a:srgbClr val="dfddc4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сною кистью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бина зажглась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дали листья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родилась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или сотн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околов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нь был субботний: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оанн Богослов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е и доныне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чется грызть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аркой рябины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ькую кисть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 августа 1916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     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Фото М. Цветаева"/>
          <p:cNvPicPr/>
          <p:nvPr/>
        </p:nvPicPr>
        <p:blipFill>
          <a:blip r:embed="rId1"/>
          <a:stretch/>
        </p:blipFill>
        <p:spPr>
          <a:xfrm>
            <a:off x="1386000" y="1638360"/>
            <a:ext cx="20955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ест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" descr="foto"/>
          <p:cNvPicPr/>
          <p:nvPr/>
        </p:nvPicPr>
        <p:blipFill>
          <a:blip r:embed="rId1"/>
          <a:stretch/>
        </p:blipFill>
        <p:spPr>
          <a:xfrm>
            <a:off x="658800" y="1600200"/>
            <a:ext cx="3633840" cy="2189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астасия и Марина Цветаевы.1905 го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естры Цветаев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foto"/>
          <p:cNvPicPr/>
          <p:nvPr/>
        </p:nvPicPr>
        <p:blipFill>
          <a:blip r:embed="rId2"/>
          <a:stretch/>
        </p:blipFill>
        <p:spPr>
          <a:xfrm>
            <a:off x="5580000" y="2205000"/>
            <a:ext cx="24289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* * *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Моим стихам, написанным так рано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 и не знала я, что я - поэт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им стихам о юности и смерти, - Нечитанным стихам! - Разбросанным в пыли по магазин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Где их никто не брал и не берет!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Моим стихам, как драгоценным винам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Настанет свой чере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й 1913, Коктебел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13 го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foto"/>
          <p:cNvPicPr/>
          <p:nvPr/>
        </p:nvPicPr>
        <p:blipFill>
          <a:blip r:embed="rId1"/>
          <a:stretch/>
        </p:blipFill>
        <p:spPr>
          <a:xfrm>
            <a:off x="1116000" y="2421000"/>
            <a:ext cx="20955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076720" y="1599840"/>
            <a:ext cx="36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арина и Сергей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сле встречи в Коктебеле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4897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br>
              <a:rPr sz="14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мужест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   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.Э.</a:t>
            </a:r>
            <a:br>
              <a:rPr sz="14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Я с вызовом ношу его кольцо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— Да. в Вечности — жена, не на бумаге.—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го чрезмерно узкое лицо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добно шпаге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Безмолвен рот его, углами вниз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учительно-великолепны брови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его лице трагически слились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ве древних крови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тонок первой тонкостью ветвей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го глаза — прекрасно-бесполезны! —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д крыльями распахнутых бровей —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ве бездны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его лице я рыцарству верна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— Всем вам, кто жил и умирал без страху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акие — в роковые времена —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лагают стансы — и идут на плаху.</a:t>
            </a:r>
            <a:br>
              <a:rPr sz="1800"/>
            </a:br>
            <a:br>
              <a:rPr sz="1800"/>
            </a:b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Коктебель, 3 июня 1914*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Фото Марина и Сергей"/>
          <p:cNvPicPr/>
          <p:nvPr/>
        </p:nvPicPr>
        <p:blipFill>
          <a:blip r:embed="rId1"/>
          <a:stretch/>
        </p:blipFill>
        <p:spPr>
          <a:xfrm>
            <a:off x="5724360" y="3284640"/>
            <a:ext cx="2448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1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е нравится, что вы больны не мн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е нравится, что я больна не вам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 никогда тяжелый шар земно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 уплывет под нашими ног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е нравится, что можно быть смешной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пущенной — и не играть словам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не краснеть удушливой волно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егка соприкоснувшись рукав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е нравится еще, что вы при мн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койно обнимаете другую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 прочите мне в адовом огн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реть за то, что я не вас целу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 имя нежное мое, мой нежный, н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поминаете ни днем, ни ночью — всу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 никогда в церковной тишин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 пропоют над нами: аллилуйя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асибо вам и сердцем и руко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 то, что вы меня — не зная сами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 любите: за мой ночной поко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 редкость встреч закатными часам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 наши не-гулянья под луно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 солнце, не у нас над головами,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 то, что вы больны — увы! — не мно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 то, что я больна — увы! — не вами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М.Цветаева с дочерью Ариадной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                  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ЛЕ</a:t>
            </a:r>
            <a:br>
              <a:rPr sz="2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ы будешь невинной, тонкой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елестной — и всем чужой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ленительной амазонкой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тремительной госпожой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 косы свои, пожалуй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ы будешь носить, как шлем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ы будешь царицей бала —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 всех молодых поэм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 многих пронзит, царица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асмешливый твой клинок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 всё, что мне — только снится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ы будешь иметь у ног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Фото Марина с дочерью Алей"/>
          <p:cNvPicPr/>
          <p:nvPr/>
        </p:nvPicPr>
        <p:blipFill>
          <a:blip r:embed="rId1"/>
          <a:stretch/>
        </p:blipFill>
        <p:spPr>
          <a:xfrm>
            <a:off x="971640" y="2205000"/>
            <a:ext cx="2016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.Цветаева за границ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24-25г.в Чех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25 г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foto"/>
          <p:cNvPicPr/>
          <p:nvPr/>
        </p:nvPicPr>
        <p:blipFill>
          <a:blip r:embed="rId1"/>
          <a:stretch/>
        </p:blipFill>
        <p:spPr>
          <a:xfrm>
            <a:off x="755640" y="2349360"/>
            <a:ext cx="2743200" cy="3333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foto"/>
          <p:cNvPicPr/>
          <p:nvPr/>
        </p:nvPicPr>
        <p:blipFill>
          <a:blip r:embed="rId2"/>
          <a:stretch/>
        </p:blipFill>
        <p:spPr>
          <a:xfrm>
            <a:off x="5651640" y="2349360"/>
            <a:ext cx="22953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7:59:53Z</dcterms:created>
  <dc:creator>Бобинкина</dc:creator>
  <dc:description/>
  <dc:language>en-US</dc:language>
  <cp:lastModifiedBy>1</cp:lastModifiedBy>
  <dcterms:modified xsi:type="dcterms:W3CDTF">2011-06-14T10:39:15Z</dcterms:modified>
  <cp:revision>18</cp:revision>
  <dc:subject/>
  <dc:title>Марина Цветаева</dc:title>
</cp:coreProperties>
</file>