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0F0-AAF4-46EA-B74D-BC54B234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CC3-2D02-4C5C-8667-87BC5E12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C39-C8A3-4E18-8338-602FE177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D39-0938-4600-9EA1-CC52DC81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B9C-F57B-4151-A66E-7DDCD2AD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B9E2-3B62-4C65-B61F-EA3CD39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FAE-3DB0-49D2-BCFA-14130FA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C8C-D6A5-435F-8831-A497AFF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9ECE-87FA-4BE1-8954-C29CD73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C38D-427A-49B8-98A8-B9B7A16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9F1-4107-495D-9607-C5E2470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577-E65B-4870-B049-CFB5002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BC9B-2C14-49E7-A12C-65CDB47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977-9231-4299-A594-5CDE9F7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D3B6-158B-4441-9243-F740AC77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E93A-AA14-4F1F-886A-36853D3F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67BE-080B-4818-BB1A-2D7409F9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C56-4944-4E25-AE52-35CD8BA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F18-F6F3-43E4-A7CE-C1237F6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3EC-B5B7-4E21-96A5-DCECA39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5B8-D33A-42C8-AB1F-56B990B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6BA-103E-4848-889B-766FA62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0B6-834C-476E-8E2E-8B95F83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320-C176-4191-9C87-46FAB873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87C-5959-4C34-97B8-45FCA3C982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D232-F550-45A4-BA08-457070DD81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Марина 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Цветаева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бинкина Луиза Всеволод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литера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Гимназия №2»  г.Кимры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новные сборни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черний альбом.    19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Волшебный фонарь.19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Из двух книг.            19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Лебединый ст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После России.           19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громном городе моем — ноч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дома сонного иду —проч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люди думают: жена, дочь,— А я запомнила одно: ноч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юльский ветер мне метет — пу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где-то музыка в окне — чу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х, нынче ветру до зари — ду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возь стенки тонкие грудй в гру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черный тополь, и в окне — св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вон на башне, н в руке цв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шаг вот этот —- никому— вслед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тень вот эта, а меня — н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ни — как нити золотых бус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чного листика во рту — вку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бодите от дневных уз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зья, поймите, что я вам — сню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63280" y="0"/>
            <a:ext cx="6465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ихи к Блок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тица в ру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льдинка на язы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-единственное движенье г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ять бук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ячик, пойманный на лет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ебряный бубенец во р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мень, кинутый в тихий пруд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хлипнет так, как тебя зов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легком шелканье ночных копы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омкое имя твое грем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назовет его нам в вис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щелкающий кур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ах, нельзя!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оцелуй в глаз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ежную стужу недвижных в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оцелуй в сне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ючевой, ледяной, голубой глот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именем твоим — сон глуб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8172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черном небе — слова начертаны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ослепли глаза прекрасные...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 страшно нам ложе смертн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 сладко нам ложе страст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поте .— пишущий, в поте — пашущий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м знакомо иное рв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гкий огнь, над кудрями пляшущий,— Дуновение — вдохновени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foto"/>
          <p:cNvPicPr/>
          <p:nvPr/>
        </p:nvPicPr>
        <p:blipFill>
          <a:blip r:embed="rId1"/>
          <a:stretch/>
        </p:blipFill>
        <p:spPr>
          <a:xfrm rot="20303400">
            <a:off x="1266840" y="394920"/>
            <a:ext cx="2419200" cy="344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foto"/>
          <p:cNvPicPr/>
          <p:nvPr/>
        </p:nvPicPr>
        <p:blipFill>
          <a:blip r:embed="rId2"/>
          <a:stretch/>
        </p:blipFill>
        <p:spPr>
          <a:xfrm rot="1026000">
            <a:off x="5292360" y="333000"/>
            <a:ext cx="2479680" cy="350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76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Если душа родилась крылатой —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Чт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ей хоромы — и чт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ей хаты!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а на миру у меня врага,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а близнеца, неразрывно-слитых: Голод голодных — и сытость сытых!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т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828800"/>
          <a:ext cx="4000320" cy="4497480"/>
        </p:xfrm>
        <a:graphic>
          <a:graphicData uri="http://schemas.openxmlformats.org/drawingml/2006/table">
            <a:tbl>
              <a:tblPr/>
              <a:tblGrid>
                <a:gridCol w="2052360"/>
                <a:gridCol w="579600"/>
                <a:gridCol w="1368360"/>
              </a:tblGrid>
              <a:tr h="477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dfddc4"/>
                          </a:solidFill>
                          <a:latin typeface="Times New Roman"/>
                        </a:rPr>
                        <a:t>     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ина Цветаева. 1893 г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b88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fddc4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fddc4"/>
                          </a:solidFill>
                          <a:latin typeface="Times New Roman"/>
                          <a:ea typeface="Times New Roman"/>
                        </a:rPr>
                        <a:t>* * *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* * * </a:t>
                      </a:r>
                      <a:r>
                        <a:rPr b="0" lang="en-US" sz="1200" spc="-1" strike="noStrike">
                          <a:solidFill>
                            <a:srgbClr val="dfddc4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ю кистью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бина зажглас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ли листья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родилась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ли сотн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колов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был субботний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оанн Богослов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и донын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ется грызть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ркой рябин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ую кисть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августа 19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   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Фото М. Цветаева"/>
          <p:cNvPicPr/>
          <p:nvPr/>
        </p:nvPicPr>
        <p:blipFill>
          <a:blip r:embed="rId1"/>
          <a:stretch/>
        </p:blipFill>
        <p:spPr>
          <a:xfrm>
            <a:off x="1386000" y="1638360"/>
            <a:ext cx="20955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ст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foto"/>
          <p:cNvPicPr/>
          <p:nvPr/>
        </p:nvPicPr>
        <p:blipFill>
          <a:blip r:embed="rId1"/>
          <a:stretch/>
        </p:blipFill>
        <p:spPr>
          <a:xfrm>
            <a:off x="658800" y="1600200"/>
            <a:ext cx="3633840" cy="218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стасия и Марина Цветаевы.1905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стры Цветае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foto"/>
          <p:cNvPicPr/>
          <p:nvPr/>
        </p:nvPicPr>
        <p:blipFill>
          <a:blip r:embed="rId2"/>
          <a:stretch/>
        </p:blipFill>
        <p:spPr>
          <a:xfrm>
            <a:off x="5580000" y="2205000"/>
            <a:ext cx="24289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 * *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оим стихам, написанным так ран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и не знала я, что я - поэ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им стихам о юности и смерти, - Нечитанным стихам! - Разбросанным в пыли по магазин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Где их никто не брал и не берет!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им стихам, как драгоценным вина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астанет свой чере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й 1913, Коктебе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3 г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foto"/>
          <p:cNvPicPr/>
          <p:nvPr/>
        </p:nvPicPr>
        <p:blipFill>
          <a:blip r:embed="rId1"/>
          <a:stretch/>
        </p:blipFill>
        <p:spPr>
          <a:xfrm>
            <a:off x="1116000" y="242100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7672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рина и Серге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 встречи в Коктебеле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897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.Э.</a:t>
            </a:r>
            <a:br>
              <a:rPr sz="14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 с вызовом ношу его кольц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 Да. в Вечности — жена, не на бумаге.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го чрезмерно узкое лиц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обно шпаг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молвен рот его, углами вниз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учительно-великолепны брови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его лице трагически слилис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ве древних кров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тонок первой тонкостью ветве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го глаза — прекрасно-бесполезны!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крыльями распахнутых бровей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ве бездн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его лице я рыцарству верн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 Всем вам, кто жил и умирал без страху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акие — в роковые времена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агают стансы — и идут на плаху.</a:t>
            </a:r>
            <a:br>
              <a:rPr sz="1800"/>
            </a:br>
            <a:br>
              <a:rPr sz="18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Коктебель, 3 июня 1914*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Фото Марина и Сергей"/>
          <p:cNvPicPr/>
          <p:nvPr/>
        </p:nvPicPr>
        <p:blipFill>
          <a:blip r:embed="rId1"/>
          <a:stretch/>
        </p:blipFill>
        <p:spPr>
          <a:xfrm>
            <a:off x="5724360" y="328464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вы больны не м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я больна не в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никогда тяжелый шар зем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уплывет под нашими ног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можно быть смешной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ущенной — и не играть слов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не краснеть удушливой вол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гка соприкоснувшись рукав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 еще, что вы при м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койно обнимаете другу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рочите мне в адовом ог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еть за то, что я не вас целу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имя нежное мое, мой нежный, 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минаете ни днем, ни ночью — всу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никогда в церковной тиши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ропоют над нами: аллилуй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асибо вам и сердцем и ру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вы меня — не зная сами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любите: за мой ночной пок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редкость встреч закатными час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наши не-гулянья под лу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солнце, не у нас над головами,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вы больны — увы! — не м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я больна — увы! — не вами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.Цветаева с дочерью Ариадно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            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ЛЕ</a:t>
            </a:r>
            <a:br>
              <a:rPr sz="2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невинной, тонк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лестной — и всем чуж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ленительной амазонк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емительной госпожой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косы свои, пожалу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носить, как шлем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царицей бала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всех молодых поэ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многих пронзит, цариц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смешливый твой клинок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всё, что мне — только снится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иметь у ног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Фото Марина с дочерью Алей"/>
          <p:cNvPicPr/>
          <p:nvPr/>
        </p:nvPicPr>
        <p:blipFill>
          <a:blip r:embed="rId1"/>
          <a:stretch/>
        </p:blipFill>
        <p:spPr>
          <a:xfrm>
            <a:off x="971640" y="2205000"/>
            <a:ext cx="2016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.Цветаева за границ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4-25г.в Чех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5 г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foto"/>
          <p:cNvPicPr/>
          <p:nvPr/>
        </p:nvPicPr>
        <p:blipFill>
          <a:blip r:embed="rId1"/>
          <a:stretch/>
        </p:blipFill>
        <p:spPr>
          <a:xfrm>
            <a:off x="755640" y="2349360"/>
            <a:ext cx="2743200" cy="3333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foto"/>
          <p:cNvPicPr/>
          <p:nvPr/>
        </p:nvPicPr>
        <p:blipFill>
          <a:blip r:embed="rId2"/>
          <a:stretch/>
        </p:blipFill>
        <p:spPr>
          <a:xfrm>
            <a:off x="5651640" y="2349360"/>
            <a:ext cx="2295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7:59:53Z</dcterms:created>
  <dc:creator>Бобинкина</dc:creator>
  <dc:description/>
  <dc:language>en-US</dc:language>
  <cp:lastModifiedBy>1</cp:lastModifiedBy>
  <dcterms:modified xsi:type="dcterms:W3CDTF">2011-06-14T10:39:15Z</dcterms:modified>
  <cp:revision>18</cp:revision>
  <dc:subject/>
  <dc:title>Марина Цветаева</dc:title>
</cp:coreProperties>
</file>