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159B-D3A5-4ABA-8F42-6140DF66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23C0-F5A6-4338-B155-7094997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AC9A-B037-408D-8C21-05732ED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2471-035D-414B-8959-E0D0F9E2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B45-4E3C-4AA0-958F-AECD5665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1ED7-8F15-4A70-8800-5AE889D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ABA-97DE-4D1B-BEAC-40EC280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A75-AE32-4DAA-A3D7-6E68CB86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B137-C9F6-4A5D-819A-10CECB82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822E-62A9-4C57-B1C7-B0B21E3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81ED-0B61-4207-9988-54DA63C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E34E-CCC9-4A05-A0A6-86E40FD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90B-C8BF-4563-98DE-2C0FF58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882D-C280-4600-8B71-3A57555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D0E-1401-423E-A194-EC25504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C7D7-2521-49A9-9EAB-A03C790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0F84-4656-4CBF-8946-AFC9C507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4290-4982-4D3B-A45A-B3ADEB4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5F73-1D9A-43E8-B66A-598C957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2432-73F2-4213-B0CD-CA5744FA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1BF6-D7C2-40E6-AF40-986F2FA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D2AC-9250-4AC3-B1CC-C132924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A41C-D16B-47B6-A40D-2D42356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BC51-B322-48B6-AD33-F925137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8188-AF35-4CB9-946C-BEFCE79DD2B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E33C-1309-4CBD-A08C-5D4A4116A7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ПРЕЗЕНТАЦ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«Мир моих увлечени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Воспитатель МБДО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«Детский сад №9» г. Сосног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Лисинко О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20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763120" y="6477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763120" y="6477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Сочиняю стишата и для коллег, по работе </a:t>
            </a:r>
            <a:br>
              <a:rPr sz="1900"/>
            </a:b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для развлечени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3372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684520" cy="3809880"/>
          </a:xfrm>
          <a:prstGeom prst="rect">
            <a:avLst/>
          </a:prstGeom>
          <a:ln w="60480">
            <a:solidFill>
              <a:srgbClr val="ffff66"/>
            </a:solidFill>
            <a:miter/>
          </a:ln>
        </p:spPr>
      </p:pic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Очень понравилось составлять стихотворные альбомы и презентации. 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Для родителей, да и просто так – похвастаться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Многим нравятся мои стишата и сценарии. Так приятно было увидеть свою фамилию в печатном издании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74f0d"/>
          </a:solidFill>
          <a:ln w="57240">
            <a:solidFill>
              <a:srgbClr val="ebf25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Злыднин Новый год ……………………………………………………….2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казка о Белой Шапочке …………………………………………………1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Приключения в  новогоднем лесу ………………………………………2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Сказка о смелом мышонке ……………………………………………….29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Новый год по-урански……………………………………………………...40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bf25a"/>
                </a:solidFill>
                <a:latin typeface="Tahoma"/>
              </a:rPr>
              <a:t>Лисинко Ольга Владимировна. Встречаем Новый год: сценарии мероприятий /авт. – О.В.Лисинко; сост. Е.Н.Кочергина – Сосногорск: МОУ СОШ №4, 2010 г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bf25a"/>
                </a:solidFill>
                <a:latin typeface="Tahoma"/>
              </a:rPr>
              <a:t>Конечно, до А.С.Пушкина мне о-о-ох, как далеко!</a:t>
            </a:r>
            <a:br>
              <a:rPr sz="1900"/>
            </a:br>
            <a:r>
              <a:rPr b="1" lang="ru-RU" sz="1900" spc="-1" strike="noStrike">
                <a:solidFill>
                  <a:srgbClr val="ebf25a"/>
                </a:solidFill>
                <a:latin typeface="Tahoma"/>
              </a:rPr>
              <a:t>Но, мне нравится это дело, да и в работе – отнюдь не лишне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3657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Мой мир увлечений  ни мал, ни велик,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 вряд ли кого-нибудь удивит.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м с вами делюсь, часть себя затая…</a:t>
            </a:r>
            <a:br>
              <a:rPr sz="2000"/>
            </a:b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И это наплохо. Ведь правда, друзья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827080" cy="37688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Здравствуйте, это я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399120" cy="4530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это - 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76560" cy="366264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это тоже я…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1712880" cy="2514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2533680" cy="453096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095720" y="2971800"/>
            <a:ext cx="1870200" cy="249408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А вообще-то я – человек серьёзный, </a:t>
            </a:r>
            <a:br>
              <a:rPr sz="1900"/>
            </a:b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 люблю сочинять стихи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99120" cy="45306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Нет, не стихи… - Стишата!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99120" cy="453096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ногда это получается спонтанно, просто так в голову приходят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3062160" cy="43434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Иногда я сочиняю их для детей – альбомы там всякие, книжки-малышки, частушки…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303192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038840" cy="30258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bf25a"/>
                </a:solidFill>
                <a:latin typeface="Tahoma"/>
              </a:rPr>
              <a:t>Бывает, что и целые сценарии развлечений или сказки в стихах получаются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0" y="2151000"/>
            <a:ext cx="4572000" cy="3429000"/>
          </a:xfrm>
          <a:prstGeom prst="rect">
            <a:avLst/>
          </a:prstGeom>
          <a:ln w="57240">
            <a:solidFill>
              <a:srgbClr val="ebf25a"/>
            </a:solidFill>
            <a:miter/>
          </a:ln>
        </p:spPr>
      </p:pic>
    </p:spTree>
  </p:cSld>
  <p:transition spd="slow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4T06:22:45Z</dcterms:created>
  <dc:creator>Мамулька</dc:creator>
  <dc:description/>
  <dc:language>en-US</dc:language>
  <cp:lastModifiedBy>Мамулька</cp:lastModifiedBy>
  <dcterms:modified xsi:type="dcterms:W3CDTF">2018-05-06T06:10:0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