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1D67-91FF-4FAE-80C4-31ACABC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8058-E74B-4C77-BCBE-9712D68D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9CEA-DE66-4E30-B51E-F71F718F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DFA5-9E48-4277-A8E5-415205BF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36A4-514B-40D4-8D7D-804623CB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8568-5671-4E85-BD4F-73C726E6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B66A-840C-41F5-911A-F10C1B4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9ED9-58F8-4357-88B7-A821A4E9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EC9-60D9-4932-A056-7507D398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F8F4-2125-4A03-951D-93A2E907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ADFB-DF98-47E3-9607-502337A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C7B8-9395-4B87-88CD-33B5C86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997B-D1BE-4049-9253-6F9AE00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143E-F301-4DAF-8B46-EC15E33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D58B-C9CD-4012-A74E-8337DB5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D773-A9EA-4A0F-BDAC-47ECADDF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008-3632-4CA4-BA26-CABF5F71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A47B-8DAE-40EB-86DC-3EB9B5D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D729-94F3-4746-9A0C-E8F2D23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078E-372A-4A40-8200-F3690E1D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24F5-2784-4EB7-B1A6-CCEB9AF2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45C4-B576-4308-BE0E-16B44797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B00E-1122-4D1F-A14B-7B4C288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3041-761B-4FD7-975F-921E826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8DF-381E-40B9-972F-F8B16D5F571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5A82-4C0C-47E7-843B-0A87532E9BD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25a"/>
                </a:solidFill>
                <a:latin typeface="Tahoma"/>
              </a:rPr>
              <a:t>ПРЕЗЕНТАЦ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25a"/>
                </a:solidFill>
                <a:latin typeface="Tahoma"/>
              </a:rPr>
              <a:t>«Мир моих увлечени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Воспитатель МБДО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«Детский сад №9» г. Сосног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Лисинко О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20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763120" y="6477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763120" y="6477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Сочиняю стишата и для коллег, по работе </a:t>
            </a:r>
            <a:br>
              <a:rPr sz="1900"/>
            </a:b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для развлечения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03372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2684520" cy="3809880"/>
          </a:xfrm>
          <a:prstGeom prst="rect">
            <a:avLst/>
          </a:prstGeom>
          <a:ln w="60480">
            <a:solidFill>
              <a:srgbClr val="ffff66"/>
            </a:solidFill>
            <a:miter/>
          </a:ln>
        </p:spPr>
      </p:pic>
    </p:spTree>
  </p:cSld>
  <p:transition spd="slow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Очень понравилось составлять стихотворные альбомы и презентации. 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Для родителей, да и просто так – похвастаться!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Многим нравятся мои стишата и сценарии. Так приятно было увидеть свою фамилию в печатном издании!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74f0d"/>
          </a:solidFill>
          <a:ln w="57240">
            <a:solidFill>
              <a:srgbClr val="ebf25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Злыднин Новый год ……………………………………………………….2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Сказка о Белой Шапочке …………………………………………………10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Приключения в  новогоднем лесу ………………………………………20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Сказка о смелом мышонке ……………………………………………….29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Новый год по-урански……………………………………………………...40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Лисинко Ольга Владимировна. Встречаем Новый год: сценарии мероприятий /авт. – О.В.Лисинко; сост. Е.Н.Кочергина – Сосногорск: МОУ СОШ №4, 2010 г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bf25a"/>
                </a:solidFill>
                <a:latin typeface="Tahoma"/>
              </a:rPr>
              <a:t>Конечно, до А.С.Пушкина мне о-о-ох, как далеко!</a:t>
            </a:r>
            <a:br>
              <a:rPr sz="1900"/>
            </a:br>
            <a:r>
              <a:rPr b="1" lang="ru-RU" sz="1900" spc="-1" strike="noStrike">
                <a:solidFill>
                  <a:srgbClr val="ebf25a"/>
                </a:solidFill>
                <a:latin typeface="Tahoma"/>
              </a:rPr>
              <a:t>Но, мне нравится это дело, да и в работе – отнюдь не лишне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3657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Мой мир увлечений  ни мал, ни велик,</a:t>
            </a:r>
            <a:br>
              <a:rPr sz="2000"/>
            </a:b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И вряд ли кого-нибудь удивит.</a:t>
            </a:r>
            <a:br>
              <a:rPr sz="2000"/>
            </a:b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Им с вами делюсь, часть себя затая…</a:t>
            </a:r>
            <a:br>
              <a:rPr sz="2000"/>
            </a:b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И это наплохо. Ведь правда, друзья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827080" cy="37688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Здравствуйте, это я!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399120" cy="4530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это - я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76560" cy="36626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это тоже я…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1712880" cy="2514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2533680" cy="453096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095720" y="2971800"/>
            <a:ext cx="1870200" cy="249408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А вообще-то я – человек серьёзный, </a:t>
            </a:r>
            <a:br>
              <a:rPr sz="1900"/>
            </a:b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люблю сочинять стихи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99120" cy="4530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Нет, не стихи… - Стишата!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99120" cy="453096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ногда это получается спонтанно, просто так в голову приходят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3062160" cy="43434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ногда я сочиняю их для детей – альбомы там всякие, книжки-малышки, частушки…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303192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038840" cy="30258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Бывает, что и целые сценарии развлечений или сказки в стихах получаются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0" y="2151000"/>
            <a:ext cx="4572000" cy="34290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06:22:45Z</dcterms:created>
  <dc:creator>Мамулька</dc:creator>
  <dc:description/>
  <dc:language>en-US</dc:language>
  <cp:lastModifiedBy>Мамулька</cp:lastModifiedBy>
  <dcterms:modified xsi:type="dcterms:W3CDTF">2018-05-06T06:10:0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