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674-2C17-4D95-AB67-A145D5D6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3AE-EF74-45CD-A8D2-069F1ECB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12D-5CCD-4748-9A8F-F7147493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14B-E950-40C4-B26D-62134948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493-C860-484C-AE89-B1242A21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FD3-0678-44C5-84DA-4CF6CF6C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C0E-8CF2-456A-B7AE-B45D555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7A6-4CCB-4380-B9D9-946DCF8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C9C-AC0A-47E3-B2A6-B321C40F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E22-D95B-48A5-94E3-A19B2EEC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5A8-C21E-4594-A9E3-94E9260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0EA-7111-4C56-8563-17512C2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EE6-3FF1-4CC8-8FD1-D50FFCCB6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outdoorparent.com/wp-content/uploads/2009/09/fall-leaf.jpg" TargetMode="External"/><Relationship Id="rId2" Type="http://schemas.openxmlformats.org/officeDocument/2006/relationships/hyperlink" Target="http://www.mediaport.ua/images/101680_380.jpg" TargetMode="External"/><Relationship Id="rId3" Type="http://schemas.openxmlformats.org/officeDocument/2006/relationships/hyperlink" Target="http://www.kan-schkool.okis.ru/img/kan-schkool/school01-02.gif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к обучения грамоте по теме: "Согласные звуки [ф], [ф'], буквы Ф, ф"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шина Светлана Викто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 «СОШ №56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 Новокузнец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Загадки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Вы ответьте мне сперва,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Что же это за игра? 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Когда мяч ногой пинают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И в ворота загоняют</a:t>
            </a:r>
            <a:r>
              <a:rPr b="1" lang="ru-RU" sz="4400" spc="-1" strike="noStrike">
                <a:solidFill>
                  <a:srgbClr val="262626"/>
                </a:solidFill>
                <a:latin typeface="Times New Roman"/>
              </a:rPr>
              <a:t>.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е галстук я, не воротник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Я шею обнимать привык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о не всегда, а лишь тогда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гда бывают холо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7848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5" descr="ÐÐ°ÑÑÐ¸Ð½ÐºÐ¸ Ð¿Ð¾ Ð·Ð°Ð¿ÑÐ¾ÑÑ ÐºÐ°ÑÑÐ¸Ð½ÐºÐ° ÑÐ¸Ð»Ð¸Ð½"/>
          <p:cNvPicPr/>
          <p:nvPr/>
        </p:nvPicPr>
        <p:blipFill>
          <a:blip r:embed="rId1"/>
          <a:stretch/>
        </p:blipFill>
        <p:spPr>
          <a:xfrm>
            <a:off x="179280" y="765000"/>
            <a:ext cx="3240360" cy="3571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ÐÐ°ÑÑÐ¸Ð½ÐºÐ¸ Ð¿Ð¾ Ð·Ð°Ð¿ÑÐ¾ÑÑ ÐºÐ°ÑÑÐ¸Ð½ÐºÐ° ÑÐ¾ÑÐ¾Ð°Ð¿Ð¿Ð°ÑÐ°Ñ"/>
          <p:cNvPicPr/>
          <p:nvPr/>
        </p:nvPicPr>
        <p:blipFill>
          <a:blip r:embed="rId2"/>
          <a:stretch/>
        </p:blipFill>
        <p:spPr>
          <a:xfrm>
            <a:off x="3492360" y="3068640"/>
            <a:ext cx="324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 что похожа буква Ф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1699920"/>
            <a:ext cx="71992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этой буквой на нос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я ходит руки в бо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ит, выучил уроки. (Т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иер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этой буквой на нос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лин прячется в лесу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Е. Тарлапа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м известно без подсказ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ква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Ф —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ключ от сказ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огда его у на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нимет Карабас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В. Степан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3" descr="ÐÐ°ÑÑÐ¸Ð½ÐºÐ¸ Ð¿Ð¾ Ð·Ð°Ð¿ÑÐ¾ÑÑ Ð½Ð° ÑÑÐ¾ Ð¿Ð¾ÑÐ¾Ð¶Ð° Ð±ÑÐºÐ²Ð° Ð¤"/>
          <p:cNvPicPr/>
          <p:nvPr/>
        </p:nvPicPr>
        <p:blipFill>
          <a:blip r:embed="rId1"/>
          <a:stretch/>
        </p:blipFill>
        <p:spPr>
          <a:xfrm>
            <a:off x="971640" y="1557360"/>
            <a:ext cx="64958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4" descr="ÐÐ°ÑÑÐ¸Ð½ÐºÐ¸ Ð¿Ð¾ Ð·Ð°Ð¿ÑÐ¾ÑÑ Ð¿Ð¾ÐºÐ°Ð· Ð½Ð°Ð¿Ð¸ÑÐ°Ð½Ð¸Ñ Ð±ÑÐºÐ²Ñ Ð¤"/>
          <p:cNvPicPr/>
          <p:nvPr/>
        </p:nvPicPr>
        <p:blipFill>
          <a:blip r:embed="rId1"/>
          <a:stretch/>
        </p:blipFill>
        <p:spPr>
          <a:xfrm>
            <a:off x="250920" y="69228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hello_html_56b96b90.jpg"/>
          <p:cNvPicPr/>
          <p:nvPr/>
        </p:nvPicPr>
        <p:blipFill>
          <a:blip r:embed="rId1"/>
          <a:stretch/>
        </p:blipFill>
        <p:spPr>
          <a:xfrm>
            <a:off x="539640" y="404640"/>
            <a:ext cx="4707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йте предложения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азличайте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ма с...язала дочери теплый шар.. 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ицу зали…ают ас...аль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…сему городу были расклеены а...и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шем городе ...ыступали знаменитые …утболис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были на деревенской …ерм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комнату через ..орточку ..летел вороб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ере …чера купили новый ...отоаппарат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4000" y="1484280"/>
            <a:ext cx="8569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новый лис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www.theoutdoorparent.com/wp-content/uploads/2009/09/fall-leaf.j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www.mediaport.ua/images/101680_380.j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окольчи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kan-schkool.okis.ru/img/kan-schkool/school01-02.g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http://xn--i1abbnckbmcl9f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сделан при помощи автофигур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990360" y="551664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Microsoft Office</cp:lastModifiedBy>
  <dcterms:modified xsi:type="dcterms:W3CDTF">2019-01-13T05:28:51Z</dcterms:modified>
  <cp:revision>27</cp:revision>
  <dc:subject/>
  <dc:title>Слайд 1</dc:title>
</cp:coreProperties>
</file>