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4D4-710A-4F68-B28E-BD6E641B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0E7-0C64-4175-B4FA-926E3AEA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9BD-F9A7-4D89-87A0-6B5B7CDD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717-43DA-4609-A3C9-C764DD31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88E-91E8-418C-BEB1-BE656F7F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509-F302-4B3C-8241-224F7A5C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560-6B9D-4292-B94D-58B91946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8F0-2C0D-4B9E-A449-5CE65F18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B0E-C970-4AE9-9914-20027931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BF6-E026-4FD7-83CA-D257A26B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47C-73D9-493A-B95C-144951F1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9F3-65EB-4D5E-A385-3628D80A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BB33-6BFA-465F-AA85-DE23785C84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outdoorparent.com/wp-content/uploads/2009/09/fall-leaf.jpg" TargetMode="External"/><Relationship Id="rId2" Type="http://schemas.openxmlformats.org/officeDocument/2006/relationships/hyperlink" Target="http://www.mediaport.ua/images/101680_380.jpg" TargetMode="External"/><Relationship Id="rId3" Type="http://schemas.openxmlformats.org/officeDocument/2006/relationships/hyperlink" Target="http://www.kan-schkool.okis.ru/img/kan-schkool/school01-02.gif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56108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рок обучения грамоте по теме: "Согласные звуки [ф], [ф'], буквы Ф, ф"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450864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втор презентац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ишина Светлана Викто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БОУ  «СОШ №56»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. Новокузнец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56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Загадки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Вы ответьте мне сперва,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Что же это за игра? 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Когда мяч ногой пинают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И в ворота загоняют</a:t>
            </a:r>
            <a:r>
              <a:rPr b="1" lang="ru-RU" sz="4400" spc="-1" strike="noStrike">
                <a:solidFill>
                  <a:srgbClr val="262626"/>
                </a:solidFill>
                <a:latin typeface="Times New Roman"/>
              </a:rPr>
              <a:t>.</a:t>
            </a: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е галстук я, не воротник,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Я шею обнимать привык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о не всегда, а лишь тогда,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Когда бывают холод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280" y="450864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561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7848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5" descr="ÐÐ°ÑÑÐ¸Ð½ÐºÐ¸ Ð¿Ð¾ Ð·Ð°Ð¿ÑÐ¾ÑÑ ÐºÐ°ÑÑÐ¸Ð½ÐºÐ° ÑÐ¸Ð»Ð¸Ð½"/>
          <p:cNvPicPr/>
          <p:nvPr/>
        </p:nvPicPr>
        <p:blipFill>
          <a:blip r:embed="rId1"/>
          <a:stretch/>
        </p:blipFill>
        <p:spPr>
          <a:xfrm>
            <a:off x="179280" y="765000"/>
            <a:ext cx="3240360" cy="35719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ÐÐ°ÑÑÐ¸Ð½ÐºÐ¸ Ð¿Ð¾ Ð·Ð°Ð¿ÑÐ¾ÑÑ ÐºÐ°ÑÑÐ¸Ð½ÐºÐ° ÑÐ¾ÑÐ¾Ð°Ð¿Ð¿Ð°ÑÐ°Ñ"/>
          <p:cNvPicPr/>
          <p:nvPr/>
        </p:nvPicPr>
        <p:blipFill>
          <a:blip r:embed="rId2"/>
          <a:stretch/>
        </p:blipFill>
        <p:spPr>
          <a:xfrm>
            <a:off x="3492360" y="3068640"/>
            <a:ext cx="3240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56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 что похожа буква Ф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76360" y="1699920"/>
            <a:ext cx="71992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этой буквой на нос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дя ходит руки в бо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чит, выучил уроки. (Т.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иеру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этой буквой на нос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илин прячется в лесу.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Е. Тарлапан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м известно без подсказк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уква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Ф —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ключ от сказ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огда его у на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отнимет Карабас.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В. Степанов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3" descr="ÐÐ°ÑÑÐ¸Ð½ÐºÐ¸ Ð¿Ð¾ Ð·Ð°Ð¿ÑÐ¾ÑÑ Ð½Ð° ÑÑÐ¾ Ð¿Ð¾ÑÐ¾Ð¶Ð° Ð±ÑÐºÐ²Ð° Ð¤"/>
          <p:cNvPicPr/>
          <p:nvPr/>
        </p:nvPicPr>
        <p:blipFill>
          <a:blip r:embed="rId1"/>
          <a:stretch/>
        </p:blipFill>
        <p:spPr>
          <a:xfrm>
            <a:off x="971640" y="1557360"/>
            <a:ext cx="64958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561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9280" y="450864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4" descr="ÐÐ°ÑÑÐ¸Ð½ÐºÐ¸ Ð¿Ð¾ Ð·Ð°Ð¿ÑÐ¾ÑÑ Ð¿Ð¾ÐºÐ°Ð· Ð½Ð°Ð¿Ð¸ÑÐ°Ð½Ð¸Ñ Ð±ÑÐºÐ²Ñ Ð¤"/>
          <p:cNvPicPr/>
          <p:nvPr/>
        </p:nvPicPr>
        <p:blipFill>
          <a:blip r:embed="rId1"/>
          <a:stretch/>
        </p:blipFill>
        <p:spPr>
          <a:xfrm>
            <a:off x="250920" y="692280"/>
            <a:ext cx="6762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1640" y="620640"/>
            <a:ext cx="7561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9280" y="450864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3" descr="hello_html_56b96b90.jpg"/>
          <p:cNvPicPr/>
          <p:nvPr/>
        </p:nvPicPr>
        <p:blipFill>
          <a:blip r:embed="rId1"/>
          <a:stretch/>
        </p:blipFill>
        <p:spPr>
          <a:xfrm>
            <a:off x="539640" y="404640"/>
            <a:ext cx="4707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йте предложения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различайте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ф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ма с...язала дочери теплый шар.. 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лицу зали…ают ас...альт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…сему городу были расклеены а...иш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ашем городе ...ыступали знаменитые …утболис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и были на деревенской …ерм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комнату через ..орточку ..летел вороб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..ере …чера купили новый ...отоаппарат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9280" y="450864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24000" y="1484280"/>
            <a:ext cx="85690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еновый лис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www.theoutdoorparent.com/wp-content/uploads/2009/09/fall-leaf.jp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иг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www.mediaport.ua/images/101680_380.jp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окольчи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://www.kan-schkool.okis.ru/img/kan-schkool/school01-02.gi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http://xn--i1abbnckbmcl9f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 сделан при помощи автофигур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990360" y="5516640"/>
            <a:ext cx="39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Microsoft Office</cp:lastModifiedBy>
  <dcterms:modified xsi:type="dcterms:W3CDTF">2019-01-13T05:28:51Z</dcterms:modified>
  <cp:revision>27</cp:revision>
  <dc:subject/>
  <dc:title>Слайд 1</dc:title>
</cp:coreProperties>
</file>