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0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17.png" ContentType="image/png"/>
  <Override PartName="/ppt/media/image2.png" ContentType="image/png"/>
  <Override PartName="/ppt/media/image25.jpeg" ContentType="image/jpeg"/>
  <Override PartName="/ppt/media/image2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5220-659E-4C0A-9E4A-5F92229717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BDB-7847-4B40-9E6F-8AFDE9832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655-24F4-4B83-A711-C2BEF7FA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572-647D-44A4-9C49-9814D18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8D7-1803-4F13-AB4A-7187554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7FC-16E7-46C9-8956-2927C481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EF5F-D849-40CB-8D4B-8E501E78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428-716A-41DB-AAF1-7B964814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36E-595F-421C-9690-C289460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C40-1A09-4BA4-89CE-757442B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361-3049-4A6D-9E5D-777A508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FFF1-14E6-4A6B-B85D-0888EC0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7B79-CE03-4EDA-A675-348DD66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73F-4F17-40F1-AE3E-60E9C2FA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4CAE-2F7D-4EB3-8B06-F211A11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1CC2-FCF8-4FA5-A38A-8705ADF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F24-85CF-49E5-BC29-0668BE87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671-F4E1-4038-8F37-F41292AE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8D45-8588-4181-9D6B-D3604509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1528-37C7-4380-AB37-544BA10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6832-DF21-4AFB-8340-103F251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1BCD-33FC-438A-948A-B84E315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F9CD-A918-437F-A30D-B1BED48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85BC-672E-4734-9083-117F53BC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D62-DBF6-424A-B686-392B067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CC97-4919-4197-8C52-A9A1212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9518-B3FE-47BB-8CD4-5C3CB48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C8AC-8BD4-4720-BC09-16AA804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A86E-7579-4BD6-85DD-C38ADF5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970B-B051-44AE-B9A9-9E9C90D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3AE7-8F67-4D42-91A3-FFBCB061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496A-1516-4582-8D58-03C946C4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39C7-5A59-4D03-A928-8D2EFC6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2E95-9179-4D21-8F18-181B825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ABB8-9332-4908-BC15-EFE250D8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DC5-6311-4D59-BFF7-9E87A5C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0717-3005-4276-98A5-333370B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E50A-3C28-4D37-BDAA-C1925D5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CD69-EC6C-4EA4-96BE-3FDADA0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25D1-1EF4-4746-85EC-360C310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1EFD-1890-4F8B-A862-DE2D2EBB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CD4F-C042-4161-9886-3B58064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537F-3311-43AE-BBD3-1C33FDC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B4AB-0F12-4A0B-94B6-CD1C0F19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7090-FA34-4D61-8178-88AFB22B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3B17-477E-445A-B6FC-167186BA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E08-B625-428C-8086-64ECBB5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4EAA7-8F3C-4276-B399-820C99A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6532-5C55-42DA-8723-3A26BC9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7B41-6B6D-4EF7-B46F-7D1F191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7C95A-663F-47FE-AB47-4C02A54C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21F2-1A64-4C57-B238-6B988677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6D05-67FC-49F3-A2FC-1A7F391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7CF3-D470-43EA-91EA-49C53BB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450D-9593-40A7-AE39-9BEF918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6BCA-773A-46E7-9280-446574C6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54CD-E58A-4FB0-8026-91EACBD0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1B0-0D94-437D-B3CB-11325EB4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3CC7-5E3D-40B5-85D7-0277BA66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8A38-994C-479F-AA8D-027C17F9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DDF5-F7FF-46BA-98BB-2BA3AF1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5DBD-8460-4239-9944-4345384C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74B8-D19E-41CA-9D93-C4611B7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226B-CB29-4AFD-9987-37CDD5EF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D24A-F387-4175-A4F9-2E107C1A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2ED8-06D1-4B9C-8C5A-F99818C6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F96F-82BB-446C-A6D8-4329E88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37B48-54AB-4EA0-B53C-8531D65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CA9-11CB-4E13-8E33-D5FCC7C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6021A-602D-4C7D-AED5-2C70196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DC07-37D6-419D-8AF4-1FC7775F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A6EF-11CF-48DC-80DC-EA99E19D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3843-3573-4480-ABDE-F793B0C4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6E58-DFA8-4C8B-B427-E436B1B7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E025-F2AF-4CED-8744-2A97FCDD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C486-E080-4594-AA49-E4EAF07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29B1-6242-4AA2-A42D-4988F297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F294-2200-4747-B9E8-B82C60E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BC25-1A42-4FA1-AA43-9C286DC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F88-9193-4C7D-A65C-6D1243A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CB47-A0ED-4B81-882D-C013DB0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76BD-91D5-4733-BE7B-21EBBF7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4BA7-B08A-4D8B-BFE8-067A2D6C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FCC2-5EB9-4DD0-B772-BCD6586C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5BDD-1CEC-43B2-9576-347223F5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926-D303-419E-B719-148225D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696F-D0A4-4D8D-B89C-7CD56C4160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DA1-0DC4-4872-88C7-513EF1EAC9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5D61-2283-4A1A-904C-4914E33CE7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AE55-D3D9-4305-B34B-99A9DEA570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B2C-9A1A-4B62-9CCF-B839F7B02E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4DD4-8E8C-4333-8CC9-D54ADD4662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5E4-9D0E-4E84-AAA1-7936E533CA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Родительско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собрание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во 2 «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»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Corbel"/>
              </a:rPr>
              <a:t>        </a:t>
            </a:r>
            <a:r>
              <a:rPr b="1" i="1" lang="ru-RU" sz="4400" spc="-1" strike="noStrike">
                <a:solidFill>
                  <a:srgbClr val="3b1d15"/>
                </a:solidFill>
                <a:latin typeface="Corbel"/>
              </a:rPr>
              <a:t>«Нормы оценок во 2 классе. Первая оценка и как к ней относиться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" name="TextBox 4"/>
          <p:cNvGrpSpPr/>
          <p:nvPr/>
        </p:nvGrpSpPr>
        <p:grpSpPr>
          <a:xfrm>
            <a:off x="1158840" y="5505480"/>
            <a:ext cx="7875720" cy="955800"/>
            <a:chOff x="1158840" y="5505480"/>
            <a:chExt cx="7875720" cy="955800"/>
          </a:xfrm>
        </p:grpSpPr>
        <p:pic>
          <p:nvPicPr>
            <p:cNvPr id="328" name="TextBox 4" descr=""/>
            <p:cNvPicPr/>
            <p:nvPr/>
          </p:nvPicPr>
          <p:blipFill>
            <a:blip r:embed="rId1"/>
            <a:stretch/>
          </p:blipFill>
          <p:spPr>
            <a:xfrm>
              <a:off x="1158840" y="5505480"/>
              <a:ext cx="787572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219320" y="5562720"/>
              <a:ext cx="769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МАОУ «СОШ №40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Классный руководитель : </a:t>
              </a: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Бойцова Елена Владимир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95280" y="114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4» хорош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наличие 2-3 ошибок, незначительные нарушения логики изложения материа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использование нерациональных приёмов решения учебной задач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еточности в изложени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475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3» удовлетворительн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статочный минимальный уровень выполнения требований, предъявляемых к конкретной работ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4-6 ошибок по текуще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 более 3-5 ошибок по пройденному материалу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тдельные нарушения логики изложения материал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неполнота раскрытия вопрос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«2» плох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уровень выполнения требований ниже удовлетворительного: более 6 ошибок или 10 недочётов по текущему материалу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рушение логики, неполнота, нераскрытость  обсуждаемого вопроса, отсутствие аргументации и  лишь ошибочность её основных положе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 Ставится оценка и з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щее впечатление от письменной работ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Сущность её состоит в определении отношения учителя к внешнему виду работы (аккуратность, эстетическая привлекательность, чистота, каллиграфия и т.д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Нормы оценок в начальной школ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019920" y="2362320"/>
            <a:ext cx="2442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- 5 и более ошиб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335ohp.jpg"/>
          <p:cNvPicPr/>
          <p:nvPr/>
        </p:nvPicPr>
        <p:blipFill>
          <a:blip r:embed="rId2"/>
          <a:stretch/>
        </p:blipFill>
        <p:spPr>
          <a:xfrm>
            <a:off x="1371600" y="114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12189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Грамматическое  зада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без ошибок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укоризненно выполненная работа, в которой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1-2 исправления или 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-3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4 ошибки и боле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2 ошибк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3-5 ошиб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РУССКИЙ ЯЗЫ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Нормы  оцено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«2» 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Содержимое 4" descr="0012-012-Zapoved-professionala.jpg"/>
          <p:cNvPicPr/>
          <p:nvPr/>
        </p:nvPicPr>
        <p:blipFill>
          <a:blip r:embed="rId1"/>
          <a:stretch/>
        </p:blipFill>
        <p:spPr>
          <a:xfrm>
            <a:off x="990720" y="0"/>
            <a:ext cx="8127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Письменная работа,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содержащая только пример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вся работа выполнена безошибочно  и нет исправлений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- допущены 1-2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orbel"/>
              </a:rPr>
              <a:t>«</a:t>
            </a:r>
            <a:r>
              <a:rPr b="1" i="1" lang="ru-RU" sz="3000" spc="-1" strike="noStrike">
                <a:solidFill>
                  <a:srgbClr val="00b050"/>
                </a:solidFill>
                <a:latin typeface="Corbel"/>
              </a:rPr>
              <a:t>3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3-4 вычислительные ошибки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f0"/>
                </a:solidFill>
                <a:latin typeface="Corbel"/>
              </a:rPr>
              <a:t>«2»</a:t>
            </a:r>
            <a:r>
              <a:rPr b="1" i="1" lang="ru-RU" sz="3000" spc="-1" strike="noStrike">
                <a:solidFill>
                  <a:srgbClr val="333399"/>
                </a:solidFill>
                <a:latin typeface="Corbel"/>
              </a:rPr>
              <a:t> - допущены 5 и более вычислительных ошибок</a:t>
            </a:r>
            <a:r>
              <a:rPr b="1" i="1" lang="ru-RU" sz="3000" spc="-1" strike="noStrike">
                <a:solidFill>
                  <a:srgbClr val="00206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rbel"/>
              </a:rPr>
              <a:t>«3»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хотя бы одна ошибка в ходе решения задачи и 1 вычислительная ошибка или если вычислительных ошибок нет, но не решена 1 задача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а ошибка в ходе решения 2-х задач или 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483160"/>
            <a:ext cx="161748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66680" y="12193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Комбинированная контрольная работ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(1 задача, примеры и задание другого вид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</a:rPr>
              <a:t>«2» 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010280" y="12240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ТЕМАТИ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Математический  диктан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5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вся работа выполнена безошибочно и нет исправлений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«4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5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rbel"/>
              </a:rPr>
              <a:t>«3»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- не выполнена 1/4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rbel"/>
              </a:rPr>
              <a:t>«2» -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не выполнена 1/2 часть примеров от их общего числ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Как воспринимать  отметки ребёнка? 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br>
              <a:rPr sz="3200"/>
            </a:br>
            <a:br>
              <a:rPr sz="3900"/>
            </a:b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2286000" y="10663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05720" y="4435560"/>
            <a:ext cx="198108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ругайте своего ребёнка за плохую  отметку. </a:t>
            </a:r>
            <a:r>
              <a:rPr b="1" lang="ru-RU" sz="3200" spc="-1" strike="noStrike">
                <a:solidFill>
                  <a:srgbClr val="692aa2"/>
                </a:solidFill>
                <a:latin typeface="Corbel"/>
              </a:rPr>
              <a:t>Ему очень хочется быть в ваших глазах хорошим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ли быть хорошим не получается, ребёнок начинает </a:t>
            </a:r>
            <a:r>
              <a:rPr b="0" lang="ru-RU" sz="3200" spc="-1" strike="noStrike" u="sng">
                <a:solidFill>
                  <a:srgbClr val="c0654c"/>
                </a:solidFill>
                <a:uFillTx/>
                <a:latin typeface="Corbel"/>
              </a:rPr>
              <a:t>врать и изворачиваться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,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чтобы избежать наказа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4" descr="j0282745"/>
          <p:cNvPicPr/>
          <p:nvPr/>
        </p:nvPicPr>
        <p:blipFill>
          <a:blip r:embed="rId1"/>
          <a:stretch/>
        </p:blipFill>
        <p:spPr>
          <a:xfrm>
            <a:off x="6781680" y="243828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Сочувствуйте своему ребёнку, если он долго трудился, но результат его труда не выс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Объясните ему, что важен не только высокий результат. Больше важны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rbel"/>
              </a:rPr>
              <a:t>знания</a:t>
            </a:r>
            <a:r>
              <a:rPr b="1" lang="ru-RU" sz="3200" spc="-1" strike="noStrike">
                <a:solidFill>
                  <a:srgbClr val="333399"/>
                </a:solidFill>
                <a:latin typeface="Corbel"/>
              </a:rPr>
              <a:t>, которые он сможет                       приобрести в результате                    ежедневного, упорного тру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4" descr="Копия (5) AG00315_"/>
          <p:cNvPicPr/>
          <p:nvPr/>
        </p:nvPicPr>
        <p:blipFill>
          <a:blip r:embed="rId1"/>
          <a:stretch/>
        </p:blipFill>
        <p:spPr>
          <a:xfrm>
            <a:off x="7543800" y="4597560"/>
            <a:ext cx="19670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6632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5" descr="AG00319_"/>
          <p:cNvPicPr/>
          <p:nvPr/>
        </p:nvPicPr>
        <p:blipFill>
          <a:blip r:embed="rId1"/>
          <a:stretch/>
        </p:blipFill>
        <p:spPr>
          <a:xfrm>
            <a:off x="5486400" y="4952880"/>
            <a:ext cx="3389400" cy="16002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4" descr="24.jpg"/>
          <p:cNvPicPr/>
          <p:nvPr/>
        </p:nvPicPr>
        <p:blipFill>
          <a:blip r:embed="rId2"/>
          <a:stretch/>
        </p:blipFill>
        <p:spPr>
          <a:xfrm>
            <a:off x="1371600" y="5257800"/>
            <a:ext cx="129528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430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c0654c"/>
                </a:solidFill>
                <a:latin typeface="Corbe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rbe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j0336396"/>
          <p:cNvPicPr/>
          <p:nvPr/>
        </p:nvPicPr>
        <p:blipFill>
          <a:blip r:embed="rId1"/>
          <a:stretch/>
        </p:blipFill>
        <p:spPr>
          <a:xfrm>
            <a:off x="7772400" y="26668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Как относиться к отметкам ребёнка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66320" y="12189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воего труд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чтобы ребёнку хотелось вам подража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Глобус"/>
          <p:cNvPicPr/>
          <p:nvPr/>
        </p:nvPicPr>
        <p:blipFill>
          <a:blip r:embed="rId1"/>
          <a:stretch/>
        </p:blipFill>
        <p:spPr>
          <a:xfrm>
            <a:off x="0" y="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6" descr="img1.jpg"/>
          <p:cNvPicPr/>
          <p:nvPr/>
        </p:nvPicPr>
        <p:blipFill>
          <a:blip r:embed="rId2"/>
          <a:stretch/>
        </p:blipFill>
        <p:spPr>
          <a:xfrm>
            <a:off x="1163520" y="457200"/>
            <a:ext cx="7859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Как относиться к отметкам ребёнка??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Устраивайте праздники по случаю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    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получения отличной отметк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orbel"/>
              </a:rPr>
              <a:t>Хорошее, как и плохое, запоминается ребёнком надолго и его хочется    повторить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c0654c"/>
                </a:solidFill>
                <a:latin typeface="Corbe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72314"/>
                </a:solidFill>
                <a:latin typeface="Corbel"/>
              </a:rPr>
              <a:t>Как помочь ребёнку   в выполнении  домашних заданий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285640" y="3504960"/>
            <a:ext cx="4800600" cy="9903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9" name="Picture 8" descr="Учитель"/>
          <p:cNvPicPr/>
          <p:nvPr/>
        </p:nvPicPr>
        <p:blipFill>
          <a:blip r:embed="rId1"/>
          <a:stretch/>
        </p:blipFill>
        <p:spPr>
          <a:xfrm>
            <a:off x="3352680" y="219240"/>
            <a:ext cx="28195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ак правильно помогать ребёнку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41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41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42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44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44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только в том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8"/>
          <p:cNvSpPr/>
          <p:nvPr/>
        </p:nvSpPr>
        <p:spPr>
          <a:xfrm>
            <a:off x="6019920" y="23623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контролируйте выполнение всех заданий по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«Как помочь ребенку   выполнить домашнее задание»</a:t>
            </a:r>
            <a:br>
              <a:rPr sz="48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360" y="5335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самостоятель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Выясни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Настройт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итм выполнения домашнего задания            индивидуален для каждого ребенка.  Не следует ни торопиться, и ни затягива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 обсуждайте с ребёнком то, что     задал учитель учить дома.  Он   руководствуется учебным планом и                     утверждённой школьной программой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1" name="Picture 5" descr="р19"/>
          <p:cNvPicPr/>
          <p:nvPr/>
        </p:nvPicPr>
        <p:blipFill>
          <a:blip r:embed="rId1"/>
          <a:stretch/>
        </p:blipFill>
        <p:spPr>
          <a:xfrm>
            <a:off x="7910640" y="5791320"/>
            <a:ext cx="914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омните об этом!!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144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654c"/>
                </a:solidFill>
                <a:latin typeface="Corbel"/>
              </a:rPr>
              <a:t>учиться, научить добывать знания –  </a:t>
            </a:r>
            <a:r>
              <a:rPr b="1" i="1" lang="ru-RU" sz="3600" spc="-1" strike="noStrike">
                <a:solidFill>
                  <a:srgbClr val="ff0000"/>
                </a:solidFill>
                <a:latin typeface="Corbe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4aa33"/>
                </a:solidFill>
                <a:latin typeface="Corbel"/>
              </a:rPr>
              <a:t>Статья 52 «Закон об образовании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67d42"/>
                </a:solidFill>
                <a:latin typeface="Corbe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4" name="Picture 5" descr="j0088510"/>
          <p:cNvPicPr/>
          <p:nvPr/>
        </p:nvPicPr>
        <p:blipFill>
          <a:blip r:embed="rId1"/>
          <a:stretch/>
        </p:blipFill>
        <p:spPr>
          <a:xfrm>
            <a:off x="6477120" y="4343400"/>
            <a:ext cx="2471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orbe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rbel"/>
              </a:rPr>
              <a:t>Не забывайте напоминать о школьных правилах и необходимости их соблюдать. </a:t>
            </a:r>
            <a:r>
              <a:rPr b="1" i="1" lang="ru-RU" sz="1800" spc="-1" strike="noStrike">
                <a:solidFill>
                  <a:srgbClr val="692aa2"/>
                </a:solidFill>
                <a:latin typeface="Corbel"/>
              </a:rPr>
              <a:t>Составьте вместе распорядок дня, а затем следите за его выполнением</a:t>
            </a:r>
            <a:r>
              <a:rPr b="0" i="1" lang="ru-RU" sz="1800" spc="-1" strike="noStrike">
                <a:solidFill>
                  <a:srgbClr val="692aa2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14440" y="151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Не пропускайте трудности. При необходимости обращайтесь за помощью к учителю; 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orbe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5960" y="4605120"/>
            <a:ext cx="8915400" cy="6858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rbel"/>
              </a:rPr>
              <a:t>Успехов и терпения ВАМ в воспитании и обучении детей!!!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WordArt 3"/>
          <p:cNvSpPr txBox="1"/>
          <p:nvPr/>
        </p:nvSpPr>
        <p:spPr>
          <a:xfrm>
            <a:off x="838080" y="5867280"/>
            <a:ext cx="7391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f271c"/>
                    </a:gs>
                    <a:gs pos="100000">
                      <a:srgbClr val="3891a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f271c"/>
                  </a:gs>
                  <a:gs pos="100000">
                    <a:srgbClr val="3891a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72" name="Рисунок 1" descr=""/>
          <p:cNvPicPr/>
          <p:nvPr/>
        </p:nvPicPr>
        <p:blipFill>
          <a:blip r:embed="rId1"/>
          <a:stretch/>
        </p:blipFill>
        <p:spPr>
          <a:xfrm>
            <a:off x="469800" y="142920"/>
            <a:ext cx="8128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295280" y="2286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Школьная отметка играет значительную роль в жизни вашего ребенка и вашей семьи; именно школьная отметка часто является яблоком раздора между членами семьи и мерилом ценностей в воспитании ребен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Рисунок 3" descr="5mlgaCqOvIA.jpg"/>
          <p:cNvPicPr/>
          <p:nvPr/>
        </p:nvPicPr>
        <p:blipFill>
          <a:blip r:embed="rId1"/>
          <a:stretch/>
        </p:blipFill>
        <p:spPr>
          <a:xfrm>
            <a:off x="3200400" y="4191120"/>
            <a:ext cx="3581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533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Corbel"/>
              </a:rPr>
              <a:t>Оценка и отмет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– неотъемлемая часть учебного процесс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800" spc="-1" strike="noStrike" u="sng">
                <a:solidFill>
                  <a:srgbClr val="e81ea0"/>
                </a:solidFill>
                <a:uFillTx/>
                <a:latin typeface="Corbel"/>
              </a:rPr>
              <a:t>Отметка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ифра, выражающая степень освоения учащимся образовательной программы. Отметки также зовутся баллами. Они выставляются в школьный журнал и дневник ученика. В России система отметок пятибалльная, где высшим показателем является «5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ценка и отмет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1187280" y="3657600"/>
            <a:ext cx="7804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e81ea0"/>
                </a:solidFill>
                <a:uFillTx/>
                <a:latin typeface="Arial"/>
              </a:rPr>
              <a:t>Оценк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носном смысле может называться и отметка. Но в общем значении под оценкой понимается сжатое или развернутое суждение о достижениях учащегося. Критерием при этом являются требования 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ы анкетиров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аю хорошую отметку,т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еня хвалят-9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я радуюсь-6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ама радуется-2 чел,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все радуются-1 чел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еду куда-нибудь -1че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аю плохую отметку, то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будут ругать-10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ама будет недовольна-1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ичего  мне за это не будет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буду виновата-1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ерьезно разговаривают-1 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90360" y="44280"/>
            <a:ext cx="749916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получу «пять», то родители мн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хвалят-15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ты лучший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гордятся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ощряют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купают сладости-2 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купают игрушки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ичего-1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что-то не понимаю в домашнем задании, то родители говорят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одумай-6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бъясняют, помогают-5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читай еще раз-1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папа кричит-1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218960" y="10663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сли я обращаюсь с просьбой помочь, то они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бъясняют и помогают-17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думай сам-3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одители хотят, чтобы я был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отличником (цей)-15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умней-7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хороший-2чел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лучше-1 че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истика цифровой оценки (отметки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d2e"/>
                </a:solidFill>
                <a:latin typeface="Arial"/>
                <a:ea typeface="Arial"/>
              </a:rPr>
              <a:t>«5» отлич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тсутствие ошибок как по текущему, так и по предыдущему учебному материалу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е более одного недочёта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логичность и полнота излож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Админ</cp:lastModifiedBy>
  <dcterms:modified xsi:type="dcterms:W3CDTF">2018-10-08T18:25:29Z</dcterms:modified>
  <cp:revision>136</cp:revision>
  <dc:subject/>
  <dc:title>PowerPoint Template</dc:title>
</cp:coreProperties>
</file>