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17.png" ContentType="image/png"/>
  <Override PartName="/ppt/media/image2.png" ContentType="image/png"/>
  <Override PartName="/ppt/media/image25.jpeg" ContentType="image/jpeg"/>
  <Override PartName="/ppt/media/image2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215B-A24F-46ED-8C83-FD1036FA85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062-8C59-46CC-B26B-3491C9FD9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89E-4E97-44AF-B59F-FDFEFF5F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E46-5F12-41C2-9412-D89342F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D1D-56B1-47F1-B17C-E28601E1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63C-EE80-4045-A878-B30DF1C4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16A0-13A0-4577-B9A0-5CF333AE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F748-9348-4947-9BB4-2B63D5F7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DB23-6B22-42EE-A620-0D842A2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D42-4AE9-4799-96BA-EEA8B00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3DEA-571D-41D3-B379-726D87B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4FA-C943-4FDE-BA5B-87804873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BCA4-E016-417C-8029-E007D7B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36E-B936-4D02-924E-E97161B4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7234-DEED-4E3F-B7CD-3A68605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F4EA-049D-46FB-966A-8315F1B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8EC1-D91C-405E-8C5B-D2FAC5A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FC1-8BDF-4B51-9F1A-B57669C6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BC08-695D-4279-9E19-231E75EA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51C6-08EF-4D50-AEB0-5A54B513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F75F-E53C-4A1C-9B5A-9B99EB0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0CF1-1A52-4188-8D3A-028DF1F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A1E1-08B4-4244-A995-EB0DF97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F1DB-75E6-4326-9795-E0AD236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CD0-5D76-4267-8CA4-C9ADB4D2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BF12-A9F1-460F-9665-ED2BEC92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D45A-B238-4A78-B4E9-DD57438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3F5C-8E12-47B0-B0FD-3B44D8A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6131-2CBA-4C83-B133-0D4DF3A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B55C-0ADD-4390-8CC1-09C4D65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CF0D-3847-4D17-A686-DC4554AF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7218-90A6-4602-B196-0DB3FE25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4734-940D-47EB-93E1-5345CBB4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FCE3-2B9A-436E-B34A-B75FAD0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24DE-6A25-43D0-9E82-56BD5D9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751-EA04-44C9-A2C4-981DA90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0FF1-9CF1-425F-B6B2-439220A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20A1-B515-4F0D-96DC-BA525CEC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57C1-A52D-4ABD-A83C-7D37CD6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0E28-D58F-4E5D-88D9-CD8B27C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72A6-AC6D-4606-A49A-67EF4E6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1266-33FA-4B53-8368-8CDB7D0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522C-1213-41B7-A795-26FE7CEB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8EB1-61D7-4B8D-9914-91209CE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E35C-345B-46D6-ABBA-54C00C4A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9905-1D88-4843-A5C4-D973D48F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060-E244-4C4C-8A3B-70BE0AFA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4382-5AD4-4889-946F-AAEBCBE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CC1D-97D8-4D55-841E-0338684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0001-7B49-421C-B44B-29FEA86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A237-1929-4917-82FB-8AE1831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E39D-E483-42EA-89DB-44BAB32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3C1B-6D8A-43D6-A186-0BB14E56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68DD-A544-4A90-A402-AFA3B88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770F-BE99-4A17-8F4C-25E95C8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5BC4-24D5-4530-9E7F-5E4839D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86AC-48E6-41F6-A86C-134DAD65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626-338E-414E-8D84-89CCDB16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994E-E293-4B35-A256-1EEA26D1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4B6E-1177-4650-AB27-61472FB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60B7-1354-44E5-9ABF-B744244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AF0C-E0C6-47A8-9C75-CB2B218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3020-B624-4112-90D6-53D1BB3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F86A-8ACA-4218-AF60-CEC610C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9757-45C8-4570-A669-EC8DE59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F96E-25B6-41EE-B459-CAA64DC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E9B18-4C11-40D9-8957-8A2BEF7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425D-27D9-4BFC-B1DB-5270D24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166-4A8D-453B-8DE9-578F82F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952F-4A73-4ED3-8238-B8FCA47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5EF6-C112-4EA5-AC86-BEA97DB4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A543-7573-4733-85C0-F29DA704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B0155-B84F-46AD-8703-C5753F6F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03AA-22FD-445D-A7A3-89A8A59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AD2F-DC5A-44D6-B084-94D0BF7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07EC-262C-4522-B07F-3104A60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4BA2-7CAB-4128-AB4E-6881D67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674D-FB17-4C54-A4B6-7150A65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9247-7FC7-4676-ADEB-A206C30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3F0-D864-4FEF-9EC4-9048C35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CE50-D573-46F7-BB62-33F93D7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31DC-2D91-42AB-BEEF-83F20B49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1317-50B2-4863-82D5-448C490A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ACCAC-817B-4336-9338-1BCC3302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4CA4-85CD-42F9-99B7-D38ED4C4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FD6-EA21-4CB8-91BE-A7D478B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28D-571A-48D3-92CC-20B6CD9D91C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204-F3FC-4CD5-AF43-2DF93F3ED3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D93-2203-40AA-B257-975EA724F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0B5-98B3-496E-B7D8-AB581C11F2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A0C5-26A6-4792-BA56-E1F9BB3EAE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2BAD-6F1F-4FB5-A681-8D8B9E101B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1BD-D4E9-4021-99BD-3429D845D9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Родительско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собрани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во 2 «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»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Corbel"/>
              </a:rPr>
              <a:t>        </a:t>
            </a:r>
            <a:r>
              <a:rPr b="1" i="1" lang="ru-RU" sz="4400" spc="-1" strike="noStrike">
                <a:solidFill>
                  <a:srgbClr val="3b1d15"/>
                </a:solidFill>
                <a:latin typeface="Corbel"/>
              </a:rPr>
              <a:t>«Нормы оценок во 2 классе. Первая оценка и как к ней относиться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" name="TextBox 4"/>
          <p:cNvGrpSpPr/>
          <p:nvPr/>
        </p:nvGrpSpPr>
        <p:grpSpPr>
          <a:xfrm>
            <a:off x="1158840" y="5505480"/>
            <a:ext cx="7875720" cy="955800"/>
            <a:chOff x="1158840" y="5505480"/>
            <a:chExt cx="7875720" cy="955800"/>
          </a:xfrm>
        </p:grpSpPr>
        <p:pic>
          <p:nvPicPr>
            <p:cNvPr id="328" name="TextBox 4" descr=""/>
            <p:cNvPicPr/>
            <p:nvPr/>
          </p:nvPicPr>
          <p:blipFill>
            <a:blip r:embed="rId1"/>
            <a:stretch/>
          </p:blipFill>
          <p:spPr>
            <a:xfrm>
              <a:off x="1158840" y="5505480"/>
              <a:ext cx="787572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219320" y="5562720"/>
              <a:ext cx="769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МАОУ «СОШ №40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Классный руководитель : </a:t>
              </a: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Бойцова Елена Владимир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95280" y="114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4» хорош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наличие 2-3 ошибок, незначительные нарушения логики изложения материа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использование нерациональных приёмов решения учебной задач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еточности в изложени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475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 удовлетворительн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статочный минимальный уровень выполнения требований, предъявляемых к конкретной работ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4-6 ошибок по текуще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3-5 ошибок по пройденно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арушения логики изложения материал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полнота раскрытия вопрос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2» плох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ровень выполнения требований ниже удовлетворительного: более 6 ошибок или 10 недочётов по текущему материалу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рушение логики, неполнота, нераскрытость  обсуждаемого вопроса, отсутствие аргументации и  лишь ошибочность её основных положе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 Ставится оценка и з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щее впечатление от письменной работ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ущность её состоит в определении отношения учителя к внешнему виду работы (аккуратность, эстетическая привлекательность, чистота, каллиграфия и т.д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Нормы оценок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019920" y="2362320"/>
            <a:ext cx="244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5 и более ошиб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335ohp.jpg"/>
          <p:cNvPicPr/>
          <p:nvPr/>
        </p:nvPicPr>
        <p:blipFill>
          <a:blip r:embed="rId2"/>
          <a:stretch/>
        </p:blipFill>
        <p:spPr>
          <a:xfrm>
            <a:off x="1371600" y="114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12189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Грамматическое  зад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без ошибок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укоризненно выполненная работа, в которой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1-2 исправления или 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-3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4 ошибки и боле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3-5 ошиб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Содержимое 4" descr="0012-012-Zapoved-professionala.jpg"/>
          <p:cNvPicPr/>
          <p:nvPr/>
        </p:nvPicPr>
        <p:blipFill>
          <a:blip r:embed="rId1"/>
          <a:stretch/>
        </p:blipFill>
        <p:spPr>
          <a:xfrm>
            <a:off x="990720" y="0"/>
            <a:ext cx="8127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Письменная работа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содержащая только пример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вся работа выполнена безошибочно  и нет исправлений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допущены 1-2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orbel"/>
              </a:rPr>
              <a:t>«</a:t>
            </a:r>
            <a:r>
              <a:rPr b="1" i="1" lang="ru-RU" sz="3000" spc="-1" strike="noStrike">
                <a:solidFill>
                  <a:srgbClr val="00b050"/>
                </a:solidFill>
                <a:latin typeface="Corbel"/>
              </a:rPr>
              <a:t>3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3-4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f0"/>
                </a:solidFill>
                <a:latin typeface="Corbel"/>
              </a:rPr>
              <a:t>«2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5 и более вычислительных ошибок</a:t>
            </a:r>
            <a:r>
              <a:rPr b="1" i="1" lang="ru-RU" sz="3000" spc="-1" strike="noStrike">
                <a:solidFill>
                  <a:srgbClr val="00206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хотя бы одна ошибка в ходе решения задачи и 1 вычислительная ошибка или если вычислительных ошибок нет, но не решена 1 задача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а ошибка в ходе решения 2-х задач или 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483160"/>
            <a:ext cx="16174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66680" y="12193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Комбинированная контрольная работ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(1 задача, примеры и задание другого вид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«2» 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010280" y="12240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Математический 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5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4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«2» 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выполнена 1/2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ак воспринимать  отметки ребёнка? 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br>
              <a:rPr sz="3200"/>
            </a:br>
            <a:br>
              <a:rPr sz="3900"/>
            </a:b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2286000" y="10663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05720" y="4435560"/>
            <a:ext cx="198108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ругайте своего ребёнка за плохую  отметку. </a:t>
            </a:r>
            <a:r>
              <a:rPr b="1" lang="ru-RU" sz="3200" spc="-1" strike="noStrike">
                <a:solidFill>
                  <a:srgbClr val="692aa2"/>
                </a:solidFill>
                <a:latin typeface="Corbel"/>
              </a:rPr>
              <a:t>Ему очень хочется быть в ваших глазах хорошим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ли быть хорошим не получается, ребёнок начинает </a:t>
            </a:r>
            <a:r>
              <a:rPr b="0" lang="ru-RU" sz="3200" spc="-1" strike="noStrike" u="sng">
                <a:solidFill>
                  <a:srgbClr val="c0654c"/>
                </a:solidFill>
                <a:uFillTx/>
                <a:latin typeface="Corbel"/>
              </a:rPr>
              <a:t>врать и изворачиваться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,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чтобы избежать наказа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4" descr="j0282745"/>
          <p:cNvPicPr/>
          <p:nvPr/>
        </p:nvPicPr>
        <p:blipFill>
          <a:blip r:embed="rId1"/>
          <a:stretch/>
        </p:blipFill>
        <p:spPr>
          <a:xfrm>
            <a:off x="6781680" y="243828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Сочувствуйте своему ребёнку, если он долго трудился, но результат его труда не выс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Объясните ему, что важен не только высокий результат. Больше важны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rbel"/>
              </a:rPr>
              <a:t>знания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, которые он сможет                       приобрести в результате                    ежедневного, упорного тру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4" descr="Копия (5) AG00315_"/>
          <p:cNvPicPr/>
          <p:nvPr/>
        </p:nvPicPr>
        <p:blipFill>
          <a:blip r:embed="rId1"/>
          <a:stretch/>
        </p:blipFill>
        <p:spPr>
          <a:xfrm>
            <a:off x="7543800" y="4597560"/>
            <a:ext cx="19670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6632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5" descr="AG00319_"/>
          <p:cNvPicPr/>
          <p:nvPr/>
        </p:nvPicPr>
        <p:blipFill>
          <a:blip r:embed="rId1"/>
          <a:stretch/>
        </p:blipFill>
        <p:spPr>
          <a:xfrm>
            <a:off x="5486400" y="4952880"/>
            <a:ext cx="3389400" cy="16002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4" descr="24.jpg"/>
          <p:cNvPicPr/>
          <p:nvPr/>
        </p:nvPicPr>
        <p:blipFill>
          <a:blip r:embed="rId2"/>
          <a:stretch/>
        </p:blipFill>
        <p:spPr>
          <a:xfrm>
            <a:off x="1371600" y="5257800"/>
            <a:ext cx="12952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430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rbe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j0336396"/>
          <p:cNvPicPr/>
          <p:nvPr/>
        </p:nvPicPr>
        <p:blipFill>
          <a:blip r:embed="rId1"/>
          <a:stretch/>
        </p:blipFill>
        <p:spPr>
          <a:xfrm>
            <a:off x="7772400" y="26668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663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воего труд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чтобы ребёнку хотелось вам подража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Глобус"/>
          <p:cNvPicPr/>
          <p:nvPr/>
        </p:nvPicPr>
        <p:blipFill>
          <a:blip r:embed="rId1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6" descr="img1.jpg"/>
          <p:cNvPicPr/>
          <p:nvPr/>
        </p:nvPicPr>
        <p:blipFill>
          <a:blip r:embed="rId2"/>
          <a:stretch/>
        </p:blipFill>
        <p:spPr>
          <a:xfrm>
            <a:off x="1163520" y="457200"/>
            <a:ext cx="7859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?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Устраивайте праздники по случаю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    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получения отличной отметк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Хорошее, как и плохое, запоминается ребёнком надолго и его хочется    повторить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72314"/>
                </a:solidFill>
                <a:latin typeface="Corbel"/>
              </a:rPr>
              <a:t>Как помочь ребёнку   в выполнении  домашних заданий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285640" y="3504960"/>
            <a:ext cx="4800600" cy="9903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9" name="Picture 8" descr="Учитель"/>
          <p:cNvPicPr/>
          <p:nvPr/>
        </p:nvPicPr>
        <p:blipFill>
          <a:blip r:embed="rId1"/>
          <a:stretch/>
        </p:blipFill>
        <p:spPr>
          <a:xfrm>
            <a:off x="3352680" y="219240"/>
            <a:ext cx="28195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ак правильно помогать ребёнку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41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41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42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44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44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только в том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8"/>
          <p:cNvSpPr/>
          <p:nvPr/>
        </p:nvSpPr>
        <p:spPr>
          <a:xfrm>
            <a:off x="6019920" y="23623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контролируйте выполнение всех заданий по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«Как помочь ребенку   выполнить домашнее задание»</a:t>
            </a:r>
            <a:br>
              <a:rPr sz="48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360" y="5335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самостоятель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Выясни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Настрой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итм выполнения домашнего задания            индивидуален для каждого ребенка.  Не следует ни торопиться, и ни затягива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 обсуждайте с ребёнком то, что     задал учитель учить дома.  Он   руководствуется учебным планом и                    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1" name="Picture 5" descr="р19"/>
          <p:cNvPicPr/>
          <p:nvPr/>
        </p:nvPicPr>
        <p:blipFill>
          <a:blip r:embed="rId1"/>
          <a:stretch/>
        </p:blipFill>
        <p:spPr>
          <a:xfrm>
            <a:off x="7910640" y="5791320"/>
            <a:ext cx="914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омните об этом!!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144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учиться, научить добывать знания –  </a:t>
            </a: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aa33"/>
                </a:solidFill>
                <a:latin typeface="Corbel"/>
              </a:rPr>
              <a:t>Статья 52 «Закон об образовании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7d42"/>
                </a:solidFill>
                <a:latin typeface="Corbe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4" name="Picture 5" descr="j0088510"/>
          <p:cNvPicPr/>
          <p:nvPr/>
        </p:nvPicPr>
        <p:blipFill>
          <a:blip r:embed="rId1"/>
          <a:stretch/>
        </p:blipFill>
        <p:spPr>
          <a:xfrm>
            <a:off x="6477120" y="4343400"/>
            <a:ext cx="2471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orbe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rbel"/>
              </a:rPr>
              <a:t>Не забывайте напоминать о школьных правилах и необходимости их соблюдать. </a:t>
            </a:r>
            <a:r>
              <a:rPr b="1" i="1" lang="ru-RU" sz="1800" spc="-1" strike="noStrike">
                <a:solidFill>
                  <a:srgbClr val="692aa2"/>
                </a:solidFill>
                <a:latin typeface="Corbel"/>
              </a:rPr>
              <a:t>Составьте вместе распорядок дня, а затем следите за его выполнением</a:t>
            </a:r>
            <a:r>
              <a:rPr b="0" i="1" lang="ru-RU" sz="1800" spc="-1" strike="noStrike">
                <a:solidFill>
                  <a:srgbClr val="692aa2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14440" y="151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Не пропускайте трудности. При необходимости обращайтесь за помощью к учителю; 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orbe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5960" y="4605120"/>
            <a:ext cx="8915400" cy="6858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rbel"/>
              </a:rPr>
              <a:t>Успехов и терпения ВАМ в воспитании и обучении детей!!!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WordArt 3"/>
          <p:cNvSpPr txBox="1"/>
          <p:nvPr/>
        </p:nvSpPr>
        <p:spPr>
          <a:xfrm>
            <a:off x="838080" y="5867280"/>
            <a:ext cx="7391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f271c"/>
                    </a:gs>
                    <a:gs pos="100000">
                      <a:srgbClr val="3891a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f271c"/>
                  </a:gs>
                  <a:gs pos="100000">
                    <a:srgbClr val="3891a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72" name="Рисунок 1" descr=""/>
          <p:cNvPicPr/>
          <p:nvPr/>
        </p:nvPicPr>
        <p:blipFill>
          <a:blip r:embed="rId1"/>
          <a:stretch/>
        </p:blipFill>
        <p:spPr>
          <a:xfrm>
            <a:off x="469800" y="142920"/>
            <a:ext cx="8128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295280" y="2286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Школьная отметка играет значительную роль в жизни вашего ребенка и вашей семьи; именно школьная отметка часто является яблоком раздора между членами семьи и мерилом ценностей в воспитании ребен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Рисунок 3" descr="5mlgaCqOvIA.jpg"/>
          <p:cNvPicPr/>
          <p:nvPr/>
        </p:nvPicPr>
        <p:blipFill>
          <a:blip r:embed="rId1"/>
          <a:stretch/>
        </p:blipFill>
        <p:spPr>
          <a:xfrm>
            <a:off x="3200400" y="4191120"/>
            <a:ext cx="3581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533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 и отмет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– неотъемлемая часть учебного процесс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800" spc="-1" strike="noStrike" u="sng">
                <a:solidFill>
                  <a:srgbClr val="e81ea0"/>
                </a:solidFill>
                <a:uFillTx/>
                <a:latin typeface="Corbel"/>
              </a:rPr>
              <a:t>Отметка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ифра, выражающая степень освоения учащимся образовательной программы. Отметки также зовутся баллами. Они выставляются в школьный журнал и дневник ученика. В России система отметок пятибалльная, где высшим показателем является «5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ценка и отмет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1187280" y="3657600"/>
            <a:ext cx="7804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e81ea0"/>
                </a:solidFill>
                <a:uFillTx/>
                <a:latin typeface="Arial"/>
              </a:rPr>
              <a:t>Оценк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носном смысле может называться и отметка. Но в общем значении под оценкой понимается сжатое или развернутое суждение о достижениях учащегося. Критерием при этом являются требования 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ы анкетиров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аю хорошую отметку,т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еня хвалят-9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я радуюсь-6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ама радуется-2 чел,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все радуются-1 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еду куда-нибудь -1че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аю плохую отметку, т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будут ругать-10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ама будет недовольна-1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ичего  мне за это не будет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буду виновата-1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ерьезно разговаривают-1 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90360" y="44280"/>
            <a:ext cx="749916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у «пять», то родители мн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хвалят-15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ты лучший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гордятся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ощряют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купают сладости-2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купают игрушки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ичего-1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что-то не понимаю в домашнем задании, то родители говорят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думай-6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бъясняют, помогают-5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читай еще раз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апа кричит-1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218960" y="10663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обращаюсь с просьбой помочь, то они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бъясняют и помогают-17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думай сам-3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одители хотят, чтобы я был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тличником (цей)-15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умней-7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хороший-2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лучше-1 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5» отлич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тсутствие ошибок как по текущему, так и по предыдущему учебному материалу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е более одного недочёт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логичность и полнота излож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Админ</cp:lastModifiedBy>
  <dcterms:modified xsi:type="dcterms:W3CDTF">2018-10-08T18:25:29Z</dcterms:modified>
  <cp:revision>136</cp:revision>
  <dc:subject/>
  <dc:title>PowerPoint Template</dc:title>
</cp:coreProperties>
</file>