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287-8A0E-4C41-BF4D-A6DA631A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B91-3998-45E2-803B-C27A9ED9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593-9C89-4FED-94CC-68409FC8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659-03DB-4397-95E3-983D7FDC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567C3-B6AF-4F9D-A5A2-894C5E03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F33C7-EC3A-471C-82CF-E0DE30D0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CE4B8-724B-4E4D-AC66-AA5C9BED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D4B62-1E14-4EE7-9855-3A4B4C6D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7D035-56CC-46F0-9D64-203FBCB2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5E488-1B64-4514-BE61-CA44B9A3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10D84-6A76-4B03-A36D-F8A61609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C38-181C-47DF-8712-031B8153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93B5D-6B52-40DC-B2EC-5965A0C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ABA67-45FA-4C86-B31C-DF40C22F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706BD-F77D-4390-8042-E10B3411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5B831-AAD1-4896-871B-0559CE8A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27F1B-B53F-4967-B519-8505B341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BDB8-9A20-4F74-B5D1-2CC9D021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D411-7D90-4E64-9DFE-E875103D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1839-5480-4612-8517-7F7D94C5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7C20-B93C-416A-ADB9-F5EC32FE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9F08-71BF-4769-9D43-3C8C1E0B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F8E-A375-43AA-BA0A-97439810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9472-7499-4DB0-AF07-0EDFD654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A568-D6A5-4250-8264-EAD6B462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AAFD-F15C-4C33-9800-EF51D04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EC8C-A159-41FA-B7D7-8380D94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29D3-A40C-4AC4-8E69-8E1D722E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227F-8ABD-41DC-95A0-C5E32988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37349-8455-4AC3-97A6-FB874BF9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31B95-24B1-4335-A9E4-86E5BDF0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061A20-33FB-42F2-8F20-7621EE96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FB769-FD23-49DF-96C0-E9571020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EB2-2EAE-4004-ADA4-EB18B8C6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B0948-1842-42AE-B940-63C74A29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10EB6-A75D-4FE6-A505-2CC99B89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30449-5102-4234-9821-CBC3DE58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49F06-9925-464A-A951-08642D7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CBF79-12F5-4E10-872D-147EC51B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4E001-3510-47A7-8150-DA24D41A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268A9-9221-489A-90A5-504A138F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87ED6-E006-4DD4-A129-E437E196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756FC-07B3-42A1-8285-F5E203DB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734-702C-4C76-BE0E-48567154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B20-9E67-4A8B-8F47-600038A7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51A-20BB-4E88-BC4E-EB82B182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F36-F3AA-45DE-A9E3-BC4B349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F42-97D7-4768-AF23-44999003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DCD5-C1F7-4C0B-B345-2095818A472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1908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AA4E-8275-44BC-B987-3B3CC5B5607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D7C-1A44-4940-A79C-E73FBFCD5D8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1DB-3D8C-40CD-973A-6AB32C8FAFE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4000" y="4723920"/>
            <a:ext cx="805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ыступает учитель русского языка и литератур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имназии №1 г. Хабаровск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льцова Марина Сергее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554040" y="476280"/>
            <a:ext cx="8553600" cy="3309840"/>
          </a:xfrm>
          <a:prstGeom prst="rect">
            <a:avLst/>
          </a:prstGeom>
          <a:ln w="0">
            <a:noFill/>
          </a:ln>
        </p:spPr>
      </p:pic>
      <p:grpSp>
        <p:nvGrpSpPr>
          <p:cNvPr id="172" name="WordArt 5"/>
          <p:cNvGrpSpPr/>
          <p:nvPr/>
        </p:nvGrpSpPr>
        <p:grpSpPr>
          <a:xfrm>
            <a:off x="542880" y="695160"/>
            <a:ext cx="8345520" cy="2584440"/>
            <a:chOff x="542880" y="695160"/>
            <a:chExt cx="8345520" cy="2584440"/>
          </a:xfrm>
        </p:grpSpPr>
        <p:pic>
          <p:nvPicPr>
            <p:cNvPr id="173" name="WordArt 5" descr=""/>
            <p:cNvPicPr/>
            <p:nvPr/>
          </p:nvPicPr>
          <p:blipFill>
            <a:blip r:embed="rId2"/>
            <a:stretch/>
          </p:blipFill>
          <p:spPr>
            <a:xfrm>
              <a:off x="542880" y="695160"/>
              <a:ext cx="83455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84360" y="836640"/>
              <a:ext cx="806436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539640" y="1125360"/>
            <a:ext cx="74883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Console"/>
              </a:rPr>
              <a:t>Подготовка темы</a:t>
            </a:r>
            <a:endParaRPr b="0" lang="en-US" sz="40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Console"/>
              </a:rPr>
              <a:t>Учитель планирует не отдельные уроки, а тему целиком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Обычно за время изучения темы мы трижды «прошиваем» учебный материал. Сначала обзор,чтобы ученик мог охватить тему в целом, получил нужные ориентиры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Затем основной «проход» материала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Сжатое повторение, в котором тема опять даётся цельно, но уже на ином уровне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728640" y="692280"/>
            <a:ext cx="78501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Console"/>
              </a:rPr>
              <a:t>ТЕХНОЛОГИЯ</a:t>
            </a:r>
            <a:endParaRPr b="0" lang="en-US" sz="2000" spc="-1" strike="noStrike">
              <a:solidFill>
                <a:srgbClr val="ffffff"/>
              </a:solidFill>
              <a:latin typeface="Lucida Conso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buClr>
                <a:srgbClr val="0000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Console"/>
              </a:rPr>
              <a:t>Базовый лист</a:t>
            </a: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Готовим базовый лист контроля. В нём перечислены основные правила, понятия, формулировки, которые обязан знать каждый.( В старших классах лист «двухэтажный». Первая его половина- обязательный минимум для всех. Отдельной чертой вторая половина содержит добавочные вопросы для претендентов на «отлично»)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Базовый лист вывешиваем на дополнительном стенде и раздаём каждому ученику. Этим листом ученик пользуется на протяжении изучения всей темы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2"/>
          <p:cNvSpPr/>
          <p:nvPr/>
        </p:nvSpPr>
        <p:spPr>
          <a:xfrm>
            <a:off x="728640" y="692280"/>
            <a:ext cx="78501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Console"/>
              </a:rPr>
              <a:t>Участие учеников. Коллективная учебная деятельность.</a:t>
            </a:r>
            <a:endParaRPr b="0" lang="en-US" sz="20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СВОЯ ОПОРА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Группа составляет опорный конспект урока или темы на листе большого формата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(До этого несколько сильных учеников получают творческое домашнее задание: составить опорные конспекты по прилагательному и глаголу)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На первом уроке знакомства с причастием эти ученики становятся ТРЕНЕРАМИ 2-х групп соответственно 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(гр. ПРИЛАГАТЕЛЬНОЕ и гр. ГЛАГОЛ)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Класс разбивается на 2 группы, у каждой группы свой тренер. Он работает с группой по опорному конспекту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ВАЖНО: группы должны от тренеров получить какое- то задание. Например, составить список вопросов по повторяемому конспекту, или найти ошибку, которая заранее специально внесена в конспект. Ученики получают Д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З: составить опорный конспект по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Lucida Console"/>
              </a:rPr>
              <a:t>Что такое причастие.</a:t>
            </a: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7200" y="622440"/>
            <a:ext cx="82296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2533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689040" y="262080"/>
            <a:ext cx="7924680" cy="1006200"/>
          </a:xfrm>
          <a:prstGeom prst="rect">
            <a:avLst/>
          </a:prstGeom>
          <a:ln w="0">
            <a:noFill/>
          </a:ln>
        </p:spPr>
      </p:pic>
      <p:pic>
        <p:nvPicPr>
          <p:cNvPr id="181" name="Текст 2" descr=""/>
          <p:cNvPicPr/>
          <p:nvPr/>
        </p:nvPicPr>
        <p:blipFill>
          <a:blip r:embed="rId2"/>
          <a:stretch/>
        </p:blipFill>
        <p:spPr>
          <a:xfrm>
            <a:off x="689040" y="1096920"/>
            <a:ext cx="955188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689040" y="457200"/>
            <a:ext cx="7924680" cy="1285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440" y="1484280"/>
            <a:ext cx="7924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Дежурный по словарю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Светофор ( При опросе уч-ки поднимают «светофор» красной или зеленой полосой к учителю, сигнализируя  о своей готовности к ответу.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Защитный ли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Райтинг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. Кредит довер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6. Своя валют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 Лови ошибк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8. Игра «Да/н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07:29:17Z</dcterms:created>
  <dc:creator>_</dc:creator>
  <dc:description/>
  <dc:language>en-US</dc:language>
  <cp:lastModifiedBy>Светлана Михайловна</cp:lastModifiedBy>
  <dcterms:modified xsi:type="dcterms:W3CDTF">2018-11-06T05:25:21Z</dcterms:modified>
  <cp:revision>90</cp:revision>
  <dc:subject/>
  <dc:title>ИСТОРИЯ ИСЬМЕННОСТИ</dc:title>
</cp:coreProperties>
</file>