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3CE-112C-47F9-B093-F31CF333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526-449B-48E6-A434-89F60460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B21-231C-4BF1-979E-0C0E720C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C52-CAA2-4270-99BA-7D12290A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234D5-02FF-4760-85F4-66520641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87BD0-B15C-4BC6-8635-0F4DACB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57C55-C41C-47DF-8B69-EC4F0A41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98710-363A-452C-AF95-0591E2B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D9EF-1492-4D9C-94A2-40A46CA6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58BD6-5011-4342-855A-9ED49C7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7DC2E-F7ED-4C27-B2AE-18B7C70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111-0221-477F-B6E6-362F9491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9EF73-F229-4DC8-AE73-68C95F5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39954-0211-42F3-877C-E0A91B0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A2A8D-B5F0-40D9-9080-BD0ABD98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AEB1B-2E05-47CC-92D8-F871A0C9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8FDB-FC1A-4858-9D0F-169C69BE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C2BA-4EAE-4994-8FB2-BCF30885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524A-A34E-441B-ABAE-677B8410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9A61-807C-4F2D-9AE9-D74AB38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25A1-3819-4BD4-A389-6FDB050A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04CF-E330-464D-9095-6D33D61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A0D-F0DF-48E7-94DC-A6E653C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92933-664E-4804-A0C8-33701F72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88B8-F871-44C0-BF7A-7C8D1B1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C99F-45DB-4D81-A610-CDE160A2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5288-2E28-4F43-A918-76C59B4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703F-9E31-4509-BA8D-24A6F29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0BC4-72BC-4C36-AFF3-7F0D385A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B5DE-B76F-4EF0-A65A-5E9A887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73351-D369-4195-B8F7-2BA3E8E6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3DEE8-C309-4F40-A94A-94365C1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8C32A-9638-4F67-A2F3-9233398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704-E6AE-4493-A2E1-6E730E96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0AC1F-4885-4E61-B9AE-A42A649E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7A490-697E-4112-AA5E-66F08D86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56379-C776-46A9-97A8-4EBEDDD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DC8F1-9D11-4398-9BF3-13D94019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4BABA-BFD5-419C-A215-34B19EA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8FA28-05EE-4C46-A85C-657771D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E778A-CCFA-468B-8B60-EBF2AF82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DBD5E-A282-442C-92F1-E14F3AA1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044DD-3FCE-4933-B706-4B2B0EB0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712-76FF-4C5B-8F47-643E537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378-C6EE-42CC-ABD1-0A60C941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211-2548-41C3-8AC2-B96C49D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C5C-B294-4E25-B868-FBCCDF03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C06-E51E-4A4F-95D5-79836E7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A1D5-0213-4F34-AB82-EB912D122F9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1908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FC36-B6E5-4F9F-88EE-0C32AB4515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187-D8DE-4C9B-813A-798BE5E40C1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7B7E-EBE0-4C03-AE9B-3EC8DDA1185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4723920"/>
            <a:ext cx="805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ыступает учитель русского языка и литератур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имназии №1 г. Хабаровс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льцова Марина Сергее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554040" y="476280"/>
            <a:ext cx="8553600" cy="3309840"/>
          </a:xfrm>
          <a:prstGeom prst="rect">
            <a:avLst/>
          </a:prstGeom>
          <a:ln w="0">
            <a:noFill/>
          </a:ln>
        </p:spPr>
      </p:pic>
      <p:grpSp>
        <p:nvGrpSpPr>
          <p:cNvPr id="172" name="WordArt 5"/>
          <p:cNvGrpSpPr/>
          <p:nvPr/>
        </p:nvGrpSpPr>
        <p:grpSpPr>
          <a:xfrm>
            <a:off x="542880" y="695160"/>
            <a:ext cx="8345520" cy="2584440"/>
            <a:chOff x="542880" y="695160"/>
            <a:chExt cx="8345520" cy="2584440"/>
          </a:xfrm>
        </p:grpSpPr>
        <p:pic>
          <p:nvPicPr>
            <p:cNvPr id="173" name="WordArt 5" descr=""/>
            <p:cNvPicPr/>
            <p:nvPr/>
          </p:nvPicPr>
          <p:blipFill>
            <a:blip r:embed="rId2"/>
            <a:stretch/>
          </p:blipFill>
          <p:spPr>
            <a:xfrm>
              <a:off x="542880" y="695160"/>
              <a:ext cx="83455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84360" y="836640"/>
              <a:ext cx="806436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539640" y="1125360"/>
            <a:ext cx="7488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Console"/>
              </a:rPr>
              <a:t>Подготовка темы</a:t>
            </a:r>
            <a:endParaRPr b="0" lang="en-US" sz="40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Console"/>
              </a:rPr>
              <a:t>Учитель планирует не отдельные уроки, а тему целиком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Обычно за время изучения темы мы трижды «прошиваем» учебный материал. Сначала обзор,чтобы ученик мог охватить тему в целом, получил нужные ориентиры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Затем основной «проход» материала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Сжатое повторение, в котором тема опять даётся цельно, но уже на ином уровне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728640" y="692280"/>
            <a:ext cx="78501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ТЕХНОЛОГИЯ</a:t>
            </a: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Console"/>
              </a:rPr>
              <a:t>Базовый лист</a:t>
            </a: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Готовим базовый лист контроля. В нём перечислены основные правила, понятия, формулировки, которые обязан знать каждый.( В старших классах лист «двухэтажный». Первая его половина- обязательный минимум для всех. Отдельной чертой вторая половина содержит добавочные вопросы для претендентов на «отлично»)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Базовый лист вывешиваем на дополнительном стенде и раздаём каждому ученику. Этим листом ученик пользуется на протяжении изучения всей темы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728640" y="692280"/>
            <a:ext cx="78501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Console"/>
              </a:rPr>
              <a:t>Участие учеников. Коллективная учебная деятельность.</a:t>
            </a: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СВОЯ ОПОРА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Группа составляет опорный конспект урока или темы на листе большого формата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(До этого несколько сильных учеников получают творческое домашнее задание: составить опорные конспекты по прилагательному и глаголу)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На первом уроке знакомства с причастием эти ученики становятся ТРЕНЕРАМИ 2-х групп соответственно 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(гр. ПРИЛАГАТЕЛЬНОЕ и гр. ГЛАГОЛ)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Класс разбивается на 2 группы, у каждой группы свой тренер. Он работает с группой по опорному конспекту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ВАЖНО: группы должны от тренеров получить какое- то задание. Например, составить список вопросов по повторяемому конспекту, или найти ошибку, которая заранее специально внесена в конспект. Ученики получают Д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З: составить опорный конспект по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Что такое причастие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7200" y="622440"/>
            <a:ext cx="8229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53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689040" y="262080"/>
            <a:ext cx="7924680" cy="100620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2"/>
          <a:stretch/>
        </p:blipFill>
        <p:spPr>
          <a:xfrm>
            <a:off x="689040" y="1096920"/>
            <a:ext cx="955188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689040" y="457200"/>
            <a:ext cx="7924680" cy="1285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440" y="148428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Дежурный по словарю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Светофор ( При опросе уч-ки поднимают «светофор» красной или зеленой полосой к учителю, сигнализируя  о своей готовности к ответу.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Защитный ли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Райтинг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Кредит довер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Своя валют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 Лови ошибк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8. Игра «Да/н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07:29:17Z</dcterms:created>
  <dc:creator>_</dc:creator>
  <dc:description/>
  <dc:language>en-US</dc:language>
  <cp:lastModifiedBy>Светлана Михайловна</cp:lastModifiedBy>
  <dcterms:modified xsi:type="dcterms:W3CDTF">2018-11-06T05:25:21Z</dcterms:modified>
  <cp:revision>90</cp:revision>
  <dc:subject/>
  <dc:title>ИСТОРИЯ ИСЬМЕННОСТИ</dc:title>
</cp:coreProperties>
</file>