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18.png" ContentType="image/png"/>
  <Override PartName="/ppt/media/image34.jpeg" ContentType="image/jpeg"/>
  <Override PartName="/ppt/media/image44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35.jpeg" ContentType="image/jpeg"/>
  <Override PartName="/ppt/media/image5.png" ContentType="image/png"/>
  <Override PartName="/ppt/media/image39.jpeg" ContentType="image/jpeg"/>
  <Override PartName="/ppt/media/image8.jpeg" ContentType="image/jpeg"/>
  <Override PartName="/ppt/media/image46.png" ContentType="image/png"/>
  <Override PartName="/ppt/media/image43.png" ContentType="image/png"/>
  <Override PartName="/ppt/media/image47.jpeg" ContentType="image/jpeg"/>
  <Override PartName="/ppt/media/image49.jpeg" ContentType="image/jpeg"/>
  <Override PartName="/ppt/media/image41.png" ContentType="image/png"/>
  <Override PartName="/ppt/media/image53.png" ContentType="image/png"/>
  <Override PartName="/ppt/media/image37.jpeg" ContentType="image/jpeg"/>
  <Override PartName="/ppt/media/image13.png" ContentType="image/png"/>
  <Override PartName="/ppt/media/image54.png" ContentType="image/png"/>
  <Override PartName="/ppt/media/image33.jpeg" ContentType="image/jpeg"/>
  <Override PartName="/ppt/media/image32.jpeg" ContentType="image/jpeg"/>
  <Override PartName="/ppt/media/image30.jpeg" ContentType="image/jpeg"/>
  <Override PartName="/ppt/media/image29.jpeg" ContentType="image/jpeg"/>
  <Override PartName="/ppt/media/image52.jpeg" ContentType="image/jpeg"/>
  <Override PartName="/ppt/media/image48.png" ContentType="image/pn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Rockwell Extra Bol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25E1-BA9A-476B-8C2C-5BAA3105A0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7D97-383F-48D5-A4F8-7AC75F23FCE8}" type="slidenum">
              <a:rPr b="1" i="1" lang="ru-RU" sz="1200" spc="-1" strike="noStrike">
                <a:solidFill>
                  <a:srgbClr val="000000"/>
                </a:solidFill>
                <a:latin typeface="Rockwell Extra Bold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Rockwell Extra Bol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DA91-B379-451B-9001-3C3D0AC16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1E26-21B8-4365-9682-AFE24D1F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D97A-41D8-42BC-A31D-7A86D09AF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688D-0EC3-4950-8DD0-0515CD00A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8833-CCA3-4B6E-9584-9ECB92F5B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7C95-B16A-4830-8211-BDC81DDB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23A5-DA19-4DF0-8E32-EF88C0FD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ABFA-C21C-4176-9B31-4125507D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F337-1C23-4A65-988C-1BA267C8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26AF-6E3A-4DBA-8945-FAF4FB0F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3D2B-7E12-4ABA-80AC-34375D25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7A4A-0A98-4C87-B37A-5BEC0919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5498-2BE6-4264-947E-C25323D4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E95B-C939-4312-AB47-77453C51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2F7C-53E1-4716-9848-5078B754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0FA5-1285-4D02-8C92-A75ADD695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7FA1-AF9A-49D2-A4A5-0094F159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53CB-1D0F-48CD-BEDF-20A5FA59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18ED-90EF-4391-93FF-F9F74CC0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7B1B-4CEA-4D7D-9748-7A5F9BCC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CD66-FEAB-43FF-BACE-C1E9062F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8233-5FDD-4C01-9EC6-1166F53D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5F77-D627-4E56-AA83-A3855ACE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5117-6888-4124-8A6E-8DAD9D26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Rockwell Extra Bold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Rockwell Extra Bold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Rockwell Extra Bold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Rockwell Extra Bold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Rockwell Extra Bold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Rockwell Extra Bol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Rockwell Extra Bold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EB54-558F-452B-A24D-F6B1B6C43B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Rockwell Extra Bold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Rockwell Extra Bold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Rockwell Extra Bold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Rockwell Extra Bold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Rockwell Extra Bold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Rockwell Extra Bold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Rockwell Extra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Rockwell Extra Bold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0451-8236-4B79-BB33-9C573402BA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3640" y="765000"/>
            <a:ext cx="8458200" cy="193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Проект</a:t>
            </a: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 «Здоровьесберегающие технологии в  младшей группе»</a:t>
            </a: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«Смешари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53964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cc"/>
                </a:solidFill>
                <a:latin typeface="Arial"/>
              </a:rPr>
              <a:t>Работу выполнила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:</a:t>
            </a:r>
            <a:endParaRPr b="1" i="1" lang="en-US" sz="1600" spc="-1" strike="noStrike">
              <a:solidFill>
                <a:srgbClr val="000000"/>
              </a:solidFill>
              <a:latin typeface="Rockwell Extra Bol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cc"/>
                </a:solidFill>
                <a:latin typeface="Arial"/>
              </a:rPr>
              <a:t>Воспитатели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cc"/>
                </a:solidFill>
                <a:latin typeface="Arial"/>
              </a:rPr>
              <a:t>МБДОУ «Детский сад «Рябинушка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1" i="1" lang="en-US" sz="1600" spc="-1" strike="noStrike">
              <a:solidFill>
                <a:srgbClr val="000000"/>
              </a:solidFill>
              <a:latin typeface="Rockwell Extra Bold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Романова И.М</a:t>
            </a:r>
            <a:endParaRPr b="1" i="1" lang="en-US" sz="2000" spc="-1" strike="noStrike">
              <a:solidFill>
                <a:srgbClr val="000000"/>
              </a:solidFill>
              <a:latin typeface="Rockwell Extra Bold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Rockwell Extra Bold"/>
            </a:endParaRPr>
          </a:p>
        </p:txBody>
      </p:sp>
      <p:pic>
        <p:nvPicPr>
          <p:cNvPr id="104" name="Picture 10" descr="0812313"/>
          <p:cNvPicPr/>
          <p:nvPr/>
        </p:nvPicPr>
        <p:blipFill>
          <a:blip r:embed="rId1"/>
          <a:stretch/>
        </p:blipFill>
        <p:spPr>
          <a:xfrm>
            <a:off x="5867280" y="3789360"/>
            <a:ext cx="29527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Физкультурные праздники – соревнования, эстафеты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Спортивные праздники оказывают значительное влияние на нормальный рост ребёнка, на развитие всех органов и тканей. А если спортивные мероприятия проводятся на свежем воздухе, то они закаливают организм. Эстафеты, подвижные игры способствуют развитию положительных качеств: самостоятельность и самообладание, внимание и умение, находчивость, мужество, вынослив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F:\DCIM\100PHOTO\SAM_8668.JPG"/>
          <p:cNvPicPr/>
          <p:nvPr/>
        </p:nvPicPr>
        <p:blipFill>
          <a:blip r:embed="rId1"/>
          <a:stretch/>
        </p:blipFill>
        <p:spPr>
          <a:xfrm>
            <a:off x="755640" y="4149720"/>
            <a:ext cx="3597120" cy="244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F:\DCIM\100PHOTO\SAM_8481.JPG"/>
          <p:cNvPicPr/>
          <p:nvPr/>
        </p:nvPicPr>
        <p:blipFill>
          <a:blip r:embed="rId2"/>
          <a:stretch/>
        </p:blipFill>
        <p:spPr>
          <a:xfrm>
            <a:off x="755640" y="1486080"/>
            <a:ext cx="363528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Динамические пауз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Проводятся во время занятий       (2-3мин) по мере утомляемости детей. Рекомендуется для   профилактики утомляемости,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несут элементы релаксации, снимают нервное напряжение от перегруз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3828960" cy="2808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http://www.smeshariki.ru/images/Kopatych/predmet_losyash_big.gif"/>
          <p:cNvPicPr/>
          <p:nvPr/>
        </p:nvPicPr>
        <p:blipFill>
          <a:blip r:embed="rId2"/>
          <a:stretch/>
        </p:blipFill>
        <p:spPr>
          <a:xfrm>
            <a:off x="1042920" y="4508640"/>
            <a:ext cx="216072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Самостоятельная двигательн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Проводится на прогулке и в помещении, способствует развитию различных групп мышц  и является одним из важнейших элементов двигательного режима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G:\DCIM\100PHOTO\SAM_7745.JPG"/>
          <p:cNvPicPr/>
          <p:nvPr/>
        </p:nvPicPr>
        <p:blipFill>
          <a:blip r:embed="rId1"/>
          <a:stretch/>
        </p:blipFill>
        <p:spPr>
          <a:xfrm>
            <a:off x="611280" y="328464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2"/>
          <a:stretch/>
        </p:blipFill>
        <p:spPr>
          <a:xfrm>
            <a:off x="4788000" y="328464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Пальчиковая гимнастик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Проводится индивидуально или с подгруппой детей ежедневно в любой удобный отрезок времени. Рекомендуется всем детям, особенно с  речевыми проблем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G:\DCIM\100PHOTO\SAM_8961.JPG"/>
          <p:cNvPicPr/>
          <p:nvPr/>
        </p:nvPicPr>
        <p:blipFill>
          <a:blip r:embed="rId1"/>
          <a:stretch/>
        </p:blipFill>
        <p:spPr>
          <a:xfrm>
            <a:off x="539640" y="1413000"/>
            <a:ext cx="3843360" cy="2882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F:\Новая папка (2)\vwhoqovefkaxspxtxqqso.png"/>
          <p:cNvPicPr/>
          <p:nvPr/>
        </p:nvPicPr>
        <p:blipFill>
          <a:blip r:embed="rId2"/>
          <a:stretch/>
        </p:blipFill>
        <p:spPr>
          <a:xfrm>
            <a:off x="1692360" y="4581360"/>
            <a:ext cx="23032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G:\DCIM\100PHOTO\SAM_8593.JPG"/>
          <p:cNvPicPr/>
          <p:nvPr/>
        </p:nvPicPr>
        <p:blipFill>
          <a:blip r:embed="rId1"/>
          <a:stretch/>
        </p:blipFill>
        <p:spPr>
          <a:xfrm>
            <a:off x="3203640" y="2708280"/>
            <a:ext cx="3263760" cy="24494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Дыхательная гимнас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3780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Положительно влияет на обменные процессы, играющие важную роль в кровоснабжении, в том числе и легочной тк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Улучшает дренажную функцию бронхов; - восстанавливает нарушенное носовое дых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Способствует восстановлению нормального крово - и лимфоснаб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Повышает общую сопротивляемость организ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G:\DCIM\100PHOTO\SAM_8895.JPG"/>
          <p:cNvPicPr/>
          <p:nvPr/>
        </p:nvPicPr>
        <p:blipFill>
          <a:blip r:embed="rId2"/>
          <a:stretch/>
        </p:blipFill>
        <p:spPr>
          <a:xfrm>
            <a:off x="5651640" y="1197000"/>
            <a:ext cx="3265200" cy="2448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G:\DCIM\100PHOTO\SAM_8584.JPG"/>
          <p:cNvPicPr/>
          <p:nvPr/>
        </p:nvPicPr>
        <p:blipFill>
          <a:blip r:embed="rId3"/>
          <a:stretch/>
        </p:blipFill>
        <p:spPr>
          <a:xfrm>
            <a:off x="5651640" y="4221000"/>
            <a:ext cx="3220920" cy="2416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F:\Новая папка (2)\1516323_kartinki-kar-karych-iz-smesharikov.jpg"/>
          <p:cNvPicPr/>
          <p:nvPr/>
        </p:nvPicPr>
        <p:blipFill>
          <a:blip r:embed="rId4"/>
          <a:stretch/>
        </p:blipFill>
        <p:spPr>
          <a:xfrm>
            <a:off x="3419640" y="5229360"/>
            <a:ext cx="151272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6" descr="http://www.playing-field.ru/img/2015/051813/4603654"/>
          <p:cNvPicPr/>
          <p:nvPr/>
        </p:nvPicPr>
        <p:blipFill>
          <a:blip r:embed="rId1"/>
          <a:stretch/>
        </p:blipFill>
        <p:spPr>
          <a:xfrm>
            <a:off x="826920" y="4437000"/>
            <a:ext cx="2219400" cy="21607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Артикуляционная гимна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G:\DCIM\100PHOTO\SAM_8925.JPG"/>
          <p:cNvPicPr/>
          <p:nvPr/>
        </p:nvPicPr>
        <p:blipFill>
          <a:blip r:embed="rId2"/>
          <a:stretch/>
        </p:blipFill>
        <p:spPr>
          <a:xfrm>
            <a:off x="3924360" y="1557360"/>
            <a:ext cx="4895640" cy="3672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По рекомендациям логопеда проводим артикуляционную гимнастику для формирования правильного произношения звуков.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у-Джок терап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55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Воздействует на биологически активные точки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Стимулирует речевые зоны коры головного моз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Способствует лечению внутренних органов, нормализует работу организма в це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Развивает мелкую моторику р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Развивает память, внимание, связную реч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G:\DCIM\100PHOTO\SAM_8613.JPG"/>
          <p:cNvPicPr/>
          <p:nvPr/>
        </p:nvPicPr>
        <p:blipFill>
          <a:blip r:embed="rId1"/>
          <a:srcRect l="0" t="0" r="0" b="-894"/>
          <a:stretch/>
        </p:blipFill>
        <p:spPr>
          <a:xfrm>
            <a:off x="4500720" y="1197000"/>
            <a:ext cx="2311200" cy="3168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H:\DCIM\100PHOTO\SAM_8982.JPG"/>
          <p:cNvPicPr/>
          <p:nvPr/>
        </p:nvPicPr>
        <p:blipFill>
          <a:blip r:embed="rId2"/>
          <a:stretch/>
        </p:blipFill>
        <p:spPr>
          <a:xfrm>
            <a:off x="6443640" y="3357720"/>
            <a:ext cx="2436840" cy="3247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F:\Новая папка (2)\a1_sovuniya.png"/>
          <p:cNvPicPr/>
          <p:nvPr/>
        </p:nvPicPr>
        <p:blipFill>
          <a:blip r:embed="rId3"/>
          <a:stretch/>
        </p:blipFill>
        <p:spPr>
          <a:xfrm>
            <a:off x="4427640" y="4592520"/>
            <a:ext cx="1584360" cy="18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Музыкотерап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3672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Музыкотерапия как целостное использование музыки в качестве основного и ведущего фактора воздействия на развитие ребенка включает такие направления, как вокалотерапия (пение, музыкотерапия в движениях), танцы, музыкально-ритмические игры, музицирование на музыкальных инструмен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G:\DCIM\100PHOTO\SAM_8247.JPG"/>
          <p:cNvPicPr/>
          <p:nvPr/>
        </p:nvPicPr>
        <p:blipFill>
          <a:blip r:embed="rId1"/>
          <a:stretch/>
        </p:blipFill>
        <p:spPr>
          <a:xfrm>
            <a:off x="4643280" y="1322280"/>
            <a:ext cx="3961080" cy="2467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2"/>
          <a:stretch/>
        </p:blipFill>
        <p:spPr>
          <a:xfrm>
            <a:off x="5651640" y="3860640"/>
            <a:ext cx="201600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рт – терап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« Арт – терапия»- одно из направлений современной психотерапии, в котором основным средством достижения позитивных психологических изменений является творчество. В арт-терапии реализуются обычно такие виды творчества как рисование, создание коллажей, лепка, создание скульптур из песка, аппликация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G:\DCIM\100PHOTO\SAM_8850.JPG"/>
          <p:cNvPicPr/>
          <p:nvPr/>
        </p:nvPicPr>
        <p:blipFill>
          <a:blip r:embed="rId1"/>
          <a:stretch/>
        </p:blipFill>
        <p:spPr>
          <a:xfrm>
            <a:off x="378000" y="2492280"/>
            <a:ext cx="2322360" cy="3097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G:\DCIM\100PHOTO\SAM_8581.JPG"/>
          <p:cNvPicPr/>
          <p:nvPr/>
        </p:nvPicPr>
        <p:blipFill>
          <a:blip r:embed="rId2"/>
          <a:stretch/>
        </p:blipFill>
        <p:spPr>
          <a:xfrm>
            <a:off x="2843280" y="4149720"/>
            <a:ext cx="3363840" cy="2522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F:\DCIM\100PHOTO\SAM_8457.JPG"/>
          <p:cNvPicPr/>
          <p:nvPr/>
        </p:nvPicPr>
        <p:blipFill>
          <a:blip r:embed="rId3"/>
          <a:stretch/>
        </p:blipFill>
        <p:spPr>
          <a:xfrm>
            <a:off x="6300720" y="2421000"/>
            <a:ext cx="2389320" cy="3186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F:\Новая папка (2)\1263160544_rrsrss_ssrrrrryorye.jpg"/>
          <p:cNvPicPr/>
          <p:nvPr/>
        </p:nvPicPr>
        <p:blipFill>
          <a:blip r:embed="rId4"/>
          <a:srcRect l="0" t="0" r="-1835" b="0"/>
          <a:stretch/>
        </p:blipFill>
        <p:spPr>
          <a:xfrm>
            <a:off x="3851280" y="2276640"/>
            <a:ext cx="155736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ернотерап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F:\DCIM\100PHOTO\SAM_8599.JPG"/>
          <p:cNvPicPr/>
          <p:nvPr/>
        </p:nvPicPr>
        <p:blipFill>
          <a:blip r:embed="rId1"/>
          <a:stretch/>
        </p:blipFill>
        <p:spPr>
          <a:xfrm>
            <a:off x="395280" y="981000"/>
            <a:ext cx="2592360" cy="3456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F:\DCIM\100PHOTO\SAM_8604.JPG"/>
          <p:cNvPicPr/>
          <p:nvPr/>
        </p:nvPicPr>
        <p:blipFill>
          <a:blip r:embed="rId2"/>
          <a:stretch/>
        </p:blipFill>
        <p:spPr>
          <a:xfrm>
            <a:off x="6156360" y="1052640"/>
            <a:ext cx="2711520" cy="36162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F:\DCIM\100PHOTO\SAM_8678.JPG"/>
          <p:cNvPicPr/>
          <p:nvPr/>
        </p:nvPicPr>
        <p:blipFill>
          <a:blip r:embed="rId3"/>
          <a:stretch/>
        </p:blipFill>
        <p:spPr>
          <a:xfrm>
            <a:off x="2916360" y="4221000"/>
            <a:ext cx="3311280" cy="2484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https://avatanplus.com/files/resources/original/574b22d63ec35154fd8014f1.png"/>
          <p:cNvPicPr/>
          <p:nvPr/>
        </p:nvPicPr>
        <p:blipFill>
          <a:blip r:embed="rId4"/>
          <a:stretch/>
        </p:blipFill>
        <p:spPr>
          <a:xfrm>
            <a:off x="3564000" y="1484280"/>
            <a:ext cx="2214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3" descr="x_93e02c10"/>
          <p:cNvPicPr/>
          <p:nvPr/>
        </p:nvPicPr>
        <p:blipFill>
          <a:blip r:embed="rId1"/>
          <a:stretch/>
        </p:blipFill>
        <p:spPr>
          <a:xfrm>
            <a:off x="7451640" y="4724280"/>
            <a:ext cx="1525680" cy="18446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MS PMincho"/>
              </a:rPr>
              <a:t>Актуальность проекта</a:t>
            </a:r>
            <a:br>
              <a:rPr sz="2400"/>
            </a:br>
            <a:r>
              <a:rPr b="0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доровье-это одна из главных ценностей жизни.       </a:t>
            </a:r>
            <a:br>
              <a:rPr sz="2400"/>
            </a:br>
            <a:r>
              <a:rPr b="0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 здоровье детей России в настоящее время является серьёзной государственной проблемой, обусловленной стойкой тенденцией к ухудшению состояния здоровья в дошкольном возрасте. В современном обществе к детям предъявляются весьма высокие требования, соответствовать которым могут только здоровые дети.</a:t>
            </a:r>
            <a:br>
              <a:rPr sz="2400"/>
            </a:br>
            <a:r>
              <a:rPr b="0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 здоровье ребёнка может говорить не только отсутствие у него каких-либо заболеваний, но и при</a:t>
            </a:r>
            <a:br>
              <a:rPr sz="2400"/>
            </a:br>
            <a:r>
              <a:rPr b="0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условии гармоничного  нервно-психологического</a:t>
            </a:r>
            <a:br>
              <a:rPr sz="2400"/>
            </a:br>
            <a:r>
              <a:rPr b="0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развития, высокой умственной и физической работоспособности</a:t>
            </a:r>
            <a:r>
              <a:rPr b="0" i="1" lang="en-US" sz="3200" spc="-1" strike="noStrike">
                <a:solidFill>
                  <a:srgbClr val="000066"/>
                </a:solidFill>
                <a:latin typeface="Mistral"/>
              </a:rPr>
              <a:t>.</a:t>
            </a:r>
            <a:r>
              <a:rPr b="0" i="1" lang="en-US" sz="3200" spc="-1" strike="noStrike">
                <a:solidFill>
                  <a:srgbClr val="000000"/>
                </a:solidFill>
                <a:latin typeface="Mistr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Контрастные ванн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Рекомендуется проводить после прогулки, перед обедом.</a:t>
            </a:r>
            <a:br>
              <a:rPr sz="1800"/>
            </a:b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Воспитатель наливает в большой таз теплую и прохладную воду. Можно иногда добавить настой трав или ароматических масел, бросить в воду резиновые игрушки. Дети играют с  водой и к тому же получают лечебную ванну. При манипуляции с игрушками в воде развивается кисть руки и моторика пальцев. Поплескавшись в теплой воде, ребенок переходит к прохладной воде.  И так 2-3 раза. Длительность  ванны 3 – 5 мин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F:\DCIM\100PHOTO\SAM_8910.JPG"/>
          <p:cNvPicPr/>
          <p:nvPr/>
        </p:nvPicPr>
        <p:blipFill>
          <a:blip r:embed="rId1"/>
          <a:stretch/>
        </p:blipFill>
        <p:spPr>
          <a:xfrm>
            <a:off x="4788000" y="1484280"/>
            <a:ext cx="3935160" cy="2952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http://effetmer.e.f.pic.centerblog.net/8fe5ecb5.png"/>
          <p:cNvPicPr/>
          <p:nvPr/>
        </p:nvPicPr>
        <p:blipFill>
          <a:blip r:embed="rId2"/>
          <a:stretch/>
        </p:blipFill>
        <p:spPr>
          <a:xfrm>
            <a:off x="5508720" y="4367160"/>
            <a:ext cx="251928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ассматривание мнемотаблицы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«Здоровое пит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Познакомить детей с продуктами питания и об их значении для человека, познакомить с понятиями «здоровая и вредная пищ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F:\DCIM\100PHOTO\SAM_8907.JPG"/>
          <p:cNvPicPr/>
          <p:nvPr/>
        </p:nvPicPr>
        <p:blipFill>
          <a:blip r:embed="rId1"/>
          <a:stretch/>
        </p:blipFill>
        <p:spPr>
          <a:xfrm>
            <a:off x="4211640" y="1628640"/>
            <a:ext cx="4705200" cy="3529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F:\Новая папка (2)\барашь-с-конфетами_2.jpg"/>
          <p:cNvPicPr/>
          <p:nvPr/>
        </p:nvPicPr>
        <p:blipFill>
          <a:blip r:embed="rId2"/>
          <a:srcRect l="0" t="0" r="-613" b="0"/>
          <a:stretch/>
        </p:blipFill>
        <p:spPr>
          <a:xfrm>
            <a:off x="250920" y="4508640"/>
            <a:ext cx="1481040" cy="1701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F:\Новая папка (2)\kopatych2.png"/>
          <p:cNvPicPr/>
          <p:nvPr/>
        </p:nvPicPr>
        <p:blipFill>
          <a:blip r:embed="rId3"/>
          <a:stretch/>
        </p:blipFill>
        <p:spPr>
          <a:xfrm>
            <a:off x="2124000" y="4437000"/>
            <a:ext cx="19731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Дневной с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Дневной сон является обязательной частью режимного мом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Благоприятно влияет на организм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Позволяет восстановить клетки нервной системы, является мощной профилактикой многих заболеваний, укрепляет иммунит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F:\DCIM\100PHOTO\SAM_8920.JPG"/>
          <p:cNvPicPr/>
          <p:nvPr/>
        </p:nvPicPr>
        <p:blipFill>
          <a:blip r:embed="rId1"/>
          <a:stretch/>
        </p:blipFill>
        <p:spPr>
          <a:xfrm>
            <a:off x="4716360" y="1628640"/>
            <a:ext cx="4032360" cy="3024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F:\Новая папка (2)\14.png"/>
          <p:cNvPicPr/>
          <p:nvPr/>
        </p:nvPicPr>
        <p:blipFill>
          <a:blip r:embed="rId2"/>
          <a:stretch/>
        </p:blipFill>
        <p:spPr>
          <a:xfrm>
            <a:off x="5796000" y="4842000"/>
            <a:ext cx="24368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Витаминотерап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Витаминотерапия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 — это применение различного рода витаминов с целью профилактики и лечения некоторых заболеваний, а также для восполнения в организме недостатка в 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" descr=""/>
          <p:cNvPicPr/>
          <p:nvPr/>
        </p:nvPicPr>
        <p:blipFill>
          <a:blip r:embed="rId1"/>
          <a:stretch/>
        </p:blipFill>
        <p:spPr>
          <a:xfrm>
            <a:off x="4643280" y="1484280"/>
            <a:ext cx="3513240" cy="4683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http://ru3.anyfad.com/items/t1@5e7b6404-6843-47f5-a8b1-93607a763eb4/SmesharikiMultyashki-dlya-vsey-semi.jpg"/>
          <p:cNvPicPr/>
          <p:nvPr/>
        </p:nvPicPr>
        <p:blipFill>
          <a:blip r:embed="rId2"/>
          <a:stretch/>
        </p:blipFill>
        <p:spPr>
          <a:xfrm>
            <a:off x="1763640" y="4797360"/>
            <a:ext cx="19303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Дышим парами чесн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В сезон гриппа и простудных заболеваний  даем деткам пластмассовые яички (проколотые в нескольких местах) из под Киндер-шоколада с выдавленным туда чесноком. Таким образом дети целый день дышат чесноком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Содержащиеся в чесноке фитонциды делают его обладателем противовирусных, бактериальных, противовоспалительных и потогонных свой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H:\DCIM\100PHOTO\SAM_8994.JPG"/>
          <p:cNvPicPr/>
          <p:nvPr/>
        </p:nvPicPr>
        <p:blipFill>
          <a:blip r:embed="rId1"/>
          <a:stretch/>
        </p:blipFill>
        <p:spPr>
          <a:xfrm>
            <a:off x="5364000" y="44370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H:\DCIM\100PHOTO\SAM_8993.JPG"/>
          <p:cNvPicPr/>
          <p:nvPr/>
        </p:nvPicPr>
        <p:blipFill>
          <a:blip r:embed="rId2"/>
          <a:stretch/>
        </p:blipFill>
        <p:spPr>
          <a:xfrm>
            <a:off x="4788000" y="12682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611280" y="4581360"/>
            <a:ext cx="2160360" cy="19591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Таким образом, каждая из рассмотренных технологий, применяемых в комплексе в нашем саду, имеет оздоровительную направленность, а используемая здоровьесберегающая деятельность в итоге формирует у ребёнка привычку к здоровому образу жизни. Улучшаются показатели физического развития, эмоционального состояния детей, наблюдается благоприятная динамика в состоянии здоровья дошкольников, повышается уровень общей физической подготовленности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ff0000"/>
                </a:solidFill>
                <a:latin typeface="Arial"/>
              </a:rPr>
              <a:t>Результаты внедрения здоровьесберегающих технолог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0000"/>
                </a:solidFill>
                <a:latin typeface="Arial"/>
              </a:rPr>
              <a:t>Благодарим за внимание!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F:\Новая папка (2)\8.jpg"/>
          <p:cNvPicPr/>
          <p:nvPr/>
        </p:nvPicPr>
        <p:blipFill>
          <a:blip r:embed="rId1"/>
          <a:stretch/>
        </p:blipFill>
        <p:spPr>
          <a:xfrm>
            <a:off x="2124000" y="1916280"/>
            <a:ext cx="4608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Что такое здоровье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Это полное физическое, духовное, умственное и социальное благополуч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Это нормальная функция организма на всех уровнях его орган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Это динамическое равновесие организма и его функций с окружающей сре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0812313"/>
          <p:cNvPicPr/>
          <p:nvPr/>
        </p:nvPicPr>
        <p:blipFill>
          <a:blip r:embed="rId1"/>
          <a:stretch/>
        </p:blipFill>
        <p:spPr>
          <a:xfrm>
            <a:off x="6075360" y="4005360"/>
            <a:ext cx="27446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395280" y="1141920"/>
            <a:ext cx="835200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Здоровьесберегающие технологии-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это технологии, направленные на решение приоритетной задачи современного дошкольного образования – задачи сохранения, поддержания и обогащения здоровья субъектов педагогического процесса в детском саду: детей, педагогов</a:t>
            </a:r>
            <a:endParaRPr b="1" i="1" lang="en-US" sz="2800" spc="-1" strike="noStrike">
              <a:solidFill>
                <a:srgbClr val="000000"/>
              </a:solidFill>
              <a:latin typeface="Rockwell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и родителей. </a:t>
            </a:r>
            <a:endParaRPr b="1" i="1" lang="en-US" sz="2800" spc="-1" strike="noStrike">
              <a:solidFill>
                <a:srgbClr val="000000"/>
              </a:solidFill>
              <a:latin typeface="Rockwell Extra Bold"/>
            </a:endParaRPr>
          </a:p>
        </p:txBody>
      </p:sp>
      <p:pic>
        <p:nvPicPr>
          <p:cNvPr id="111" name="Picture 11" descr=""/>
          <p:cNvPicPr/>
          <p:nvPr/>
        </p:nvPicPr>
        <p:blipFill>
          <a:blip r:embed="rId1"/>
          <a:stretch/>
        </p:blipFill>
        <p:spPr>
          <a:xfrm>
            <a:off x="6084720" y="4076640"/>
            <a:ext cx="201636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0000"/>
                </a:solidFill>
                <a:latin typeface="Arial"/>
              </a:rPr>
              <a:t>ЗАДАЧИ ЗДОРОВЬЕСБЕРЕЖЕНИЯ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33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сохранить здоровье де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создать условия для их своевременного и полноценного психического развит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обеспечить каждому ребенку возможность радостно и содержательно прожить период дошкольного дет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6300720" y="4148280"/>
            <a:ext cx="284328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403848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В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нашей группе созданы оптимальные условия для комфортного пребывания детей, а также их всестороннего гармоничного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G:\DCIM\100PHOTO\SAM_8968.JPG"/>
          <p:cNvPicPr/>
          <p:nvPr/>
        </p:nvPicPr>
        <p:blipFill>
          <a:blip r:embed="rId1"/>
          <a:stretch/>
        </p:blipFill>
        <p:spPr>
          <a:xfrm>
            <a:off x="4427640" y="692280"/>
            <a:ext cx="4089240" cy="5452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F:\Новая папка (2)\G_SMECHARIKI_15.jpg"/>
          <p:cNvPicPr/>
          <p:nvPr/>
        </p:nvPicPr>
        <p:blipFill>
          <a:blip r:embed="rId2"/>
          <a:stretch/>
        </p:blipFill>
        <p:spPr>
          <a:xfrm>
            <a:off x="755640" y="4365720"/>
            <a:ext cx="287964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0000"/>
                </a:solidFill>
                <a:latin typeface="Arial"/>
              </a:rPr>
              <a:t>Утренняя гимнастик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0384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Проводится в утренний отрезок времени (5-7 мин.), носит оздоровительный характер, который заключается в профилактике нарушений осанки и плоскостопия, укреплении костно-мышечной и других систем орг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4140360" y="1916280"/>
            <a:ext cx="469872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Физкультурные занят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2920" y="1196640"/>
            <a:ext cx="403884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Проводятся 2 раза в неделю в физкультурном зале (15мин). На них особое внимание уделяется развитию физических качеств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 ловкости, выносливости, координации дви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2"/>
          <a:stretch/>
        </p:blipFill>
        <p:spPr>
          <a:xfrm>
            <a:off x="5076720" y="3933720"/>
            <a:ext cx="3611520" cy="2708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F:\Новая папка (2)\smeshariki-kartinki-76.jpg"/>
          <p:cNvPicPr/>
          <p:nvPr/>
        </p:nvPicPr>
        <p:blipFill>
          <a:blip r:embed="rId3"/>
          <a:stretch/>
        </p:blipFill>
        <p:spPr>
          <a:xfrm>
            <a:off x="1476360" y="4005360"/>
            <a:ext cx="254160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Подвижные игр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392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Проводятся в помещении, на свежем воздухе, в группе. Игры подбираются в соответствии с возрастом детей,      местом  и временем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            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прове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F:\DCIM\100PHOTO\SAM_8820.JPG"/>
          <p:cNvPicPr/>
          <p:nvPr/>
        </p:nvPicPr>
        <p:blipFill>
          <a:blip r:embed="rId1"/>
          <a:stretch/>
        </p:blipFill>
        <p:spPr>
          <a:xfrm>
            <a:off x="4788000" y="3933720"/>
            <a:ext cx="3600360" cy="2698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2"/>
          <a:stretch/>
        </p:blipFill>
        <p:spPr>
          <a:xfrm>
            <a:off x="4788000" y="90792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http://overgraph.ru/images/568309_krosh-smeshariki.jpg"/>
          <p:cNvPicPr/>
          <p:nvPr/>
        </p:nvPicPr>
        <p:blipFill>
          <a:blip r:embed="rId3"/>
          <a:stretch/>
        </p:blipFill>
        <p:spPr>
          <a:xfrm>
            <a:off x="324000" y="4292640"/>
            <a:ext cx="158400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4T14:08:46Z</dcterms:created>
  <dc:creator>111</dc:creator>
  <dc:description/>
  <dc:language>en-US</dc:language>
  <cp:lastModifiedBy>юра</cp:lastModifiedBy>
  <dcterms:modified xsi:type="dcterms:W3CDTF">2019-01-13T07:45:41Z</dcterms:modified>
  <cp:revision>82</cp:revision>
  <dc:subject/>
  <dc:title>Здоровьесберегающие технологии в 1 младшей группе «Смешарики»</dc:title>
</cp:coreProperties>
</file>