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.wav" ContentType="audio/x-wav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8D32-62FB-4464-A275-3080C25A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E95D-5CDD-4E59-8021-8AEDB1360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FF1-3CE3-4D71-AF89-D31A5425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2DA5-626C-41DE-A50F-D86F88AA6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26336-7288-451A-8B50-B02280EA6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5D0048-4928-4A72-B1AF-984A2F37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737EF-D695-49FB-AA31-AFF2B34A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97F153-84C2-467E-A992-02B732A75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512B2-0EF4-46D5-9D5C-F701185F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61C0C-3FEE-4DCE-B51F-AD3098C7D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B2B950-7574-4ABF-AA07-B43CEE4D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2C16-F840-447F-BAD3-E78CCF06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1FE10-F1CB-4250-8BCD-672E0733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DF1A1B-A1FE-4E25-8F37-D161E14F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F7FB3-B79D-4731-AF35-E9457C38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1F5E0-9394-49D4-8058-4BD049B5B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13A4D-787C-4842-8B42-F96F34D68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09BA-0DC4-4473-A8C0-769CA235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B71D-D375-4325-A878-471F4146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5875-A5E2-4A2C-8CB6-DDA6C5B8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BB33-D121-45A9-A3E2-AA475839F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95B2-A06A-4B77-9C65-F3E2BA90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343C-7949-4B60-AAFC-82672240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03D3-E19A-4EF7-A7C7-BE12620A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4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6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993300"/>
              </a:gs>
              <a:gs pos="100000">
                <a:srgbClr val="ff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8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87c68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9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10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1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2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3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4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5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86a53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7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8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9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20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1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2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75E6-5EDC-477A-8923-BA12A57E7CC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18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8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29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30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4718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31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993300"/>
              </a:gs>
              <a:gs pos="100000">
                <a:srgbClr val="ffcc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7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8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87c68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9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10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1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2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3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4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5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86a53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6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7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452F-DF25-45DB-83D9-2195B8101AF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4c3a1c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«…Жизнь, опаленная афганской войной»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6431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4c3a1c">
                <a:alpha val="50000"/>
              </a:srgbClr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ект ученицы 11 клас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ишановой Зар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ководитель проекта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ь истории Фроленкова Марина Михайлов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950480" y="230040"/>
            <a:ext cx="384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БУ  Кузьмичская СО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96762" dir="14806406" blurRad="0" rotWithShape="0">
              <a:srgbClr val="9933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Афганистан болит в моей душе…</a:t>
            </a:r>
            <a:endParaRPr b="0" lang="en-US" sz="3600" spc="-1" strike="noStrike">
              <a:solidFill>
                <a:srgbClr val="ccaa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-4653000" y="1249200"/>
          <a:ext cx="1494000" cy="1251000"/>
        </p:xfrm>
        <a:graphic>
          <a:graphicData uri="http://schemas.openxmlformats.org/drawingml/2006/table">
            <a:tbl>
              <a:tblPr/>
              <a:tblGrid>
                <a:gridCol w="1494000"/>
              </a:tblGrid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7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Rectangle 14"/>
          <p:cNvSpPr/>
          <p:nvPr/>
        </p:nvSpPr>
        <p:spPr>
          <a:xfrm>
            <a:off x="0" y="5300640"/>
            <a:ext cx="914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322200" y="1197000"/>
            <a:ext cx="5035680" cy="10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й пап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роленков Николай Иванович,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лся в 1968 году, в д.Литвиновка Ершичского района  Смоленской об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285840" y="2428920"/>
            <a:ext cx="45720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го отец был рядовым колхозником с истинно крестьянской душой и хваткой. Как и его предки, он считал, что сеять хлеб и выращивать картофель – дело верное и доброе. Унаследовать это дело собирался и Николай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357120" y="4357800"/>
            <a:ext cx="4286160" cy="14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енью, когда завершилась страда, пришла из военкомата повестка: Николаю предстояла армейская служба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11" descr="C:\Users\M@RIN@\Documents\Scanned Documents\афган.JPG"/>
          <p:cNvPicPr/>
          <p:nvPr/>
        </p:nvPicPr>
        <p:blipFill>
          <a:blip r:embed="rId1"/>
          <a:stretch/>
        </p:blipFill>
        <p:spPr>
          <a:xfrm>
            <a:off x="5370480" y="1158840"/>
            <a:ext cx="3608280" cy="50338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wind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5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5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96762" dir="14806406" blurRad="0" rotWithShape="0">
              <a:srgbClr val="9933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Интернациональный долг</a:t>
            </a:r>
            <a:endParaRPr b="0" lang="en-US" sz="3600" spc="-1" strike="noStrike">
              <a:solidFill>
                <a:srgbClr val="ccaa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-4653000" y="1249200"/>
          <a:ext cx="1494000" cy="1251000"/>
        </p:xfrm>
        <a:graphic>
          <a:graphicData uri="http://schemas.openxmlformats.org/drawingml/2006/table">
            <a:tbl>
              <a:tblPr/>
              <a:tblGrid>
                <a:gridCol w="1494000"/>
              </a:tblGrid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7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Rectangle 14"/>
          <p:cNvSpPr/>
          <p:nvPr/>
        </p:nvSpPr>
        <p:spPr>
          <a:xfrm>
            <a:off x="0" y="5300640"/>
            <a:ext cx="914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15"/>
          <p:cNvSpPr/>
          <p:nvPr/>
        </p:nvSpPr>
        <p:spPr>
          <a:xfrm>
            <a:off x="322200" y="1357200"/>
            <a:ext cx="43210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 знал тогда рядовой Фроленков, даже предположить не мог, что ему суждено отправиться в самую горячую точку - Афганиста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18"/>
          <p:cNvSpPr/>
          <p:nvPr/>
        </p:nvSpPr>
        <p:spPr>
          <a:xfrm>
            <a:off x="71280" y="2924280"/>
            <a:ext cx="471492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то ж, коль нужны для Отечества интернационалисты, он готов выполнить свой воинский дол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9"/>
          <p:cNvSpPr/>
          <p:nvPr/>
        </p:nvSpPr>
        <p:spPr>
          <a:xfrm>
            <a:off x="142920" y="4286160"/>
            <a:ext cx="464328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Осенью 1986 года его направили в г.Фергану. В «учебке» Николай прошел первые азы армейской службы.  Продолжил учебу в  Минской школе сержантов, где получил специальность «командир расчета УРЛС»</a:t>
            </a:r>
            <a:r>
              <a:rPr b="1" lang="ru-RU" sz="1600" spc="-1" strike="noStrike">
                <a:solidFill>
                  <a:srgbClr val="ffc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2" descr="C:\Users\M@RIN@\Documents\Scanned Documents\Рисунок (2).jpg"/>
          <p:cNvPicPr/>
          <p:nvPr/>
        </p:nvPicPr>
        <p:blipFill>
          <a:blip r:embed="rId1"/>
          <a:stretch/>
        </p:blipFill>
        <p:spPr>
          <a:xfrm>
            <a:off x="4919760" y="871560"/>
            <a:ext cx="4205160" cy="58467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wind.wav"/>
      </p:stSnd>
    </p:sndAc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7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4"/>
          <p:cNvSpPr/>
          <p:nvPr/>
        </p:nvSpPr>
        <p:spPr>
          <a:xfrm>
            <a:off x="279360" y="247680"/>
            <a:ext cx="5781600" cy="1418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Arial"/>
                <a:ea typeface="Times New Roman"/>
              </a:rPr>
              <a:t>Память уносит меня к седым афганским гора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Arial"/>
                <a:ea typeface="Times New Roman"/>
              </a:rPr>
              <a:t>Нам не хватало воздуха на горных перевал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Arial"/>
                <a:ea typeface="Times New Roman"/>
              </a:rPr>
              <a:t>Мечтали о воде мы в пустыне Регистан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Arial"/>
                <a:ea typeface="Times New Roman"/>
              </a:rPr>
              <a:t>Кричали мы от боли на койках медсанба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000"/>
                </a:solidFill>
                <a:latin typeface="Arial"/>
                <a:ea typeface="Times New Roman"/>
              </a:rPr>
              <a:t>И все-таки по-доброму мы помним наш Афган</a:t>
            </a:r>
            <a:r>
              <a:rPr b="0" i="1" lang="en-US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500720" y="1700280"/>
            <a:ext cx="435744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ачал свою службу в разведроте старшим опер-разведчиком. Со своими обязанностями Николай справлялся четко. Приказы командиров выполнял точно в срок. И вскоре ему было присвоено звание ст. сержант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1694880" y="1819440"/>
            <a:ext cx="133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198</a:t>
            </a: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i="1" lang="en-US" sz="2000" spc="-1" strike="noStrike">
                <a:solidFill>
                  <a:srgbClr val="ffff00"/>
                </a:solidFill>
                <a:latin typeface="Arial"/>
              </a:rPr>
              <a:t>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7" descr="C:\Users\Марина\Desktop\аа\Рисунок1.jpg"/>
          <p:cNvPicPr/>
          <p:nvPr/>
        </p:nvPicPr>
        <p:blipFill>
          <a:blip r:embed="rId1"/>
          <a:stretch/>
        </p:blipFill>
        <p:spPr>
          <a:xfrm>
            <a:off x="428760" y="3000240"/>
            <a:ext cx="3703680" cy="29163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wind.wav"/>
      </p:stSnd>
    </p:sndAc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96762" dir="14806406" blurRad="0" rotWithShape="0">
              <a:srgbClr val="9933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Опять тревога, </a:t>
            </a:r>
            <a:br>
              <a:rPr sz="3200"/>
            </a:br>
            <a:r>
              <a:rPr b="0" i="1" lang="ru-RU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опять мы снова вступаем в бой,</a:t>
            </a:r>
            <a:endParaRPr b="0" lang="en-US" sz="3200" spc="-1" strike="noStrike">
              <a:solidFill>
                <a:srgbClr val="ccaa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-4653000" y="1249200"/>
          <a:ext cx="1494000" cy="1251000"/>
        </p:xfrm>
        <a:graphic>
          <a:graphicData uri="http://schemas.openxmlformats.org/drawingml/2006/table">
            <a:tbl>
              <a:tblPr/>
              <a:tblGrid>
                <a:gridCol w="1494000"/>
              </a:tblGrid>
              <a:tr h="12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6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7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Rectangle 14"/>
          <p:cNvSpPr/>
          <p:nvPr/>
        </p:nvSpPr>
        <p:spPr>
          <a:xfrm>
            <a:off x="0" y="5300640"/>
            <a:ext cx="914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15"/>
          <p:cNvSpPr/>
          <p:nvPr/>
        </p:nvSpPr>
        <p:spPr>
          <a:xfrm>
            <a:off x="642960" y="1500120"/>
            <a:ext cx="500076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вот однажды утром пришла 9 рота, которая и заступила на охрану этой сопки. А мой отец вместе с другими солдатами стал спускаться с гор.  И в конце спуска они вдруг услышали выстрелы: на верху разгорелся бой. Был дан приказ снова подняться на сопку 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18"/>
          <p:cNvSpPr/>
          <p:nvPr/>
        </p:nvSpPr>
        <p:spPr>
          <a:xfrm>
            <a:off x="571680" y="4000680"/>
            <a:ext cx="4286160" cy="17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совершать восхождение, это не спускаться. И пока десантники из папиной роты всеми силами старались побыстрее вскарабкаться на верх, бой уже стал затиха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19"/>
          <p:cNvSpPr/>
          <p:nvPr/>
        </p:nvSpPr>
        <p:spPr>
          <a:xfrm>
            <a:off x="0" y="5113440"/>
            <a:ext cx="214308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10" descr="C:\Users\Марина\Desktop\аа\Рисунок1.jpg"/>
          <p:cNvPicPr/>
          <p:nvPr/>
        </p:nvPicPr>
        <p:blipFill>
          <a:blip r:embed="rId1"/>
          <a:srcRect l="13442" t="3633" r="7205" b="13038"/>
          <a:stretch/>
        </p:blipFill>
        <p:spPr>
          <a:xfrm>
            <a:off x="6215040" y="1785960"/>
            <a:ext cx="235764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wind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2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5"/>
          <p:cNvSpPr/>
          <p:nvPr/>
        </p:nvSpPr>
        <p:spPr>
          <a:xfrm>
            <a:off x="214200" y="571680"/>
            <a:ext cx="907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Вот я и вернулся, но на два года старш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250920" y="1916280"/>
            <a:ext cx="374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щущения тех лет остались: вставал по тревоге, тяжесть РД за плечами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9"/>
          <p:cNvSpPr/>
          <p:nvPr/>
        </p:nvSpPr>
        <p:spPr>
          <a:xfrm>
            <a:off x="755640" y="3141720"/>
            <a:ext cx="495936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ой отец награжден двумя боевыми  медалями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               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За отвагу»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                 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едалью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«Благодарность от афганского народа»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     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Грамотой Президиу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                  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ерховного Совета ССС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C:\Users\M@RIN@\Documents\Scanned Documents\Рисунок (29).jpg"/>
          <p:cNvPicPr/>
          <p:nvPr/>
        </p:nvPicPr>
        <p:blipFill>
          <a:blip r:embed="rId1"/>
          <a:stretch/>
        </p:blipFill>
        <p:spPr>
          <a:xfrm>
            <a:off x="5315040" y="1657440"/>
            <a:ext cx="3378240" cy="3914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  <p:sndAc>
      <p:stSnd>
        <p:snd r:embed="rId2" name="wind.wav"/>
      </p:stSnd>
    </p:sndAc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04:24:23Z</dcterms:created>
  <dc:creator>Света</dc:creator>
  <dc:description/>
  <dc:language>en-US</dc:language>
  <cp:lastModifiedBy>Марина</cp:lastModifiedBy>
  <dcterms:modified xsi:type="dcterms:W3CDTF">2019-01-13T08:55:45Z</dcterms:modified>
  <cp:revision>66</cp:revision>
  <dc:subject/>
  <dc:title>Афганский дневник моего отц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