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6DE-0A89-4550-8533-3176FDDFD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00FA-4233-4C81-B680-8886AC2B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711-80BB-404D-9F21-5A3572457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C781-515E-4E21-AB22-A4789A854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27C4A-5907-4BD0-9D2D-096F36F5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D79747-F0F2-4B77-95A6-41CC594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99255-99B9-4CCD-ACE9-1FF61BB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961079-2AB6-439C-A8D7-1F7E4B41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3059F-7F28-4FA1-9E41-3DCA07EE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DA6ED-ED27-4B82-885E-61723F9C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D9CCF-F8BE-4DD3-921E-9B256CC3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AC9E-1B82-429D-A2D5-C540173E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A3E125-C4EE-4565-808E-CBBC6075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98363-2EBF-4C37-A627-7938A18F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DA67B-0340-491B-B346-D6F3891A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3BD98-74E9-4CB5-A611-225A8338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DAEBE-C9B3-40E4-AB88-239070F9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CFE7-3E98-4AA2-929A-BA773351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8C83-2AF5-412D-AD9A-C9D0C3C6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88D5-C90F-4366-AFDA-9A4D320C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ABE2-314E-4F37-ABF8-B591AC25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E00-5483-4167-822C-7B53D77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68F2-951F-4876-A54E-2B65AD62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85D-77F4-44FB-A3F8-E407204C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179D-A9A9-48D8-A265-AC3153DDF45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AE6A-6BD0-4D50-867E-09AF9E7E7A5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c3a1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…Жизнь, опаленная афганской войной»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643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c3a1c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 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шановой Зар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истории Фроленкова Марина Михайл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50480" y="2300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БУ  Кузьмич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фганистан болит в моей душе…</a:t>
            </a:r>
            <a:endParaRPr b="0" lang="en-US" sz="36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22200" y="1197000"/>
            <a:ext cx="50356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па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роленков Николай Иванович,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1968 году, в д.Литвиновка Ершичского района  Смоле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85840" y="2428920"/>
            <a:ext cx="4572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отец был рядовым колхозником с истинно крестьянской душой и хваткой. Как и его предки, он считал, что сеять хлеб и выращивать картофель – дело верное и доброе. Унаследовать это дело собирался и Никола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357120" y="4357800"/>
            <a:ext cx="42861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енью, когда завершилась страда, пришла из военкомата повестка: Николаю предстояла армейская служба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1" descr="C:\Users\M@RIN@\Documents\Scanned Documents\афган.JPG"/>
          <p:cNvPicPr/>
          <p:nvPr/>
        </p:nvPicPr>
        <p:blipFill>
          <a:blip r:embed="rId1"/>
          <a:stretch/>
        </p:blipFill>
        <p:spPr>
          <a:xfrm>
            <a:off x="5370480" y="1158840"/>
            <a:ext cx="360828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Интернациональный долг</a:t>
            </a:r>
            <a:endParaRPr b="0" lang="en-US" sz="36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22200" y="1357200"/>
            <a:ext cx="432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нал тогда рядовой Фроленков, даже предположить не мог, что ему суждено отправиться в самую горячую точку - Афганист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71280" y="2924280"/>
            <a:ext cx="47149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ж, коль нужны для Отечества интернационалисты, он готов выполнить свой воинский дол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42920" y="4286160"/>
            <a:ext cx="464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Осенью 1986 года его направили в г.Фергану. В «учебке» Николай прошел первые азы армейской службы.  Продолжил учебу в  Минской школе сержантов, где получил специальность «командир расчета УРЛС»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M@RIN@\Documents\Scanned Documents\Рисунок (2).jpg"/>
          <p:cNvPicPr/>
          <p:nvPr/>
        </p:nvPicPr>
        <p:blipFill>
          <a:blip r:embed="rId1"/>
          <a:stretch/>
        </p:blipFill>
        <p:spPr>
          <a:xfrm>
            <a:off x="4919760" y="871560"/>
            <a:ext cx="4205160" cy="584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79360" y="247680"/>
            <a:ext cx="5781600" cy="141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Память уносит меня к седым афганским го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Нам не хватало воздуха на горных перевал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Мечтали о воде мы в пустыне Региста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Кричали мы от боли на койках медсанб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И все-таки по-доброму мы помним наш Афган</a:t>
            </a:r>
            <a:r>
              <a:rPr b="0" i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500720" y="1700280"/>
            <a:ext cx="4357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чал свою службу в разведроте старшим опер-разведчиком. Со своими обязанностями Николай справлялся четко. Приказы командиров выполнял точно в срок. И вскоре ему было присвоено звание ст. сержан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694880" y="18194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98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C:\Users\Марина\Desktop\аа\Рисунок1.jpg"/>
          <p:cNvPicPr/>
          <p:nvPr/>
        </p:nvPicPr>
        <p:blipFill>
          <a:blip r:embed="rId1"/>
          <a:stretch/>
        </p:blipFill>
        <p:spPr>
          <a:xfrm>
            <a:off x="428760" y="3000240"/>
            <a:ext cx="370368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ять тревога,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ять мы снова вступаем в бой,</a:t>
            </a:r>
            <a:endParaRPr b="0" lang="en-US" sz="32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42960" y="1500120"/>
            <a:ext cx="5000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т однажды утром пришла 9 рота, которая и заступила на охрану этой сопки. А мой отец вместе с другими солдатами стал спускаться с гор.  И в конце спуска они вдруг услышали выстрелы: на верху разгорелся бой. Был дан приказ снова подняться на сопку 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71680" y="4000680"/>
            <a:ext cx="42861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овершать восхождение, это не спускаться. И пока десантники из папиной роты всеми силами старались побыстрее вскарабкаться на верх, бой уже стал затих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5113440"/>
            <a:ext cx="2143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Users\Марина\Desktop\аа\Рисунок1.jpg"/>
          <p:cNvPicPr/>
          <p:nvPr/>
        </p:nvPicPr>
        <p:blipFill>
          <a:blip r:embed="rId1"/>
          <a:srcRect l="13442" t="3633" r="7205" b="13038"/>
          <a:stretch/>
        </p:blipFill>
        <p:spPr>
          <a:xfrm>
            <a:off x="6215040" y="1785960"/>
            <a:ext cx="23576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214200" y="57168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т я и вернулся, но на два года старш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0920" y="191628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щущения тех лет остались: вставал по тревоге, тяжесть РД за плечам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755640" y="3141720"/>
            <a:ext cx="4959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й отец награжден двумя боевыми  медалями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За отвагу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даль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Благодарность от афганского на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амотой Президиу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рховного Совета ССС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C:\Users\M@RIN@\Documents\Scanned Documents\Рисунок (29).jpg"/>
          <p:cNvPicPr/>
          <p:nvPr/>
        </p:nvPicPr>
        <p:blipFill>
          <a:blip r:embed="rId1"/>
          <a:stretch/>
        </p:blipFill>
        <p:spPr>
          <a:xfrm>
            <a:off x="5315040" y="1657440"/>
            <a:ext cx="337824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4:24:23Z</dcterms:created>
  <dc:creator>Света</dc:creator>
  <dc:description/>
  <dc:language>en-US</dc:language>
  <cp:lastModifiedBy>Марина</cp:lastModifiedBy>
  <dcterms:modified xsi:type="dcterms:W3CDTF">2019-01-13T08:55:45Z</dcterms:modified>
  <cp:revision>66</cp:revision>
  <dc:subject/>
  <dc:title>Афганский дневник моего от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