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6D1-7F0F-4BB0-A276-18EE27F2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8A3-04C5-456D-B4C2-51E53833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C90-0C54-46DE-9556-4DFEB3EB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D53-3639-4A39-B51B-C53EFD15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DFE-762F-4CAE-B021-F6AFE0D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CDA-7496-453A-8DBF-99F2414F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892-4986-49DF-B702-2CDC21BE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570-23CE-4A3F-BAF0-6C545D6D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3BE-D1AF-4104-B5ED-84B1B0FF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A9A-88D5-409B-A19D-2B42108E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CC2-00D6-44D9-A762-09893B6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365-2C96-4EAD-99BE-7F42ECB9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7241-E1C2-4CCF-8A9A-25DFCB1717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73120" y="615960"/>
            <a:ext cx="8967600" cy="377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0" y="993600"/>
            <a:ext cx="7772400" cy="1785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400" y="2703240"/>
            <a:ext cx="7848720" cy="384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Собрание такой формы подразумевает обсуждение одной проблемы с различных точек зрения, детализацией проблемы и возможных путей ее решения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активизации родителей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версионная мозговая атака или Разно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исок прилагательных и определ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ссоци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055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ллективная запи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ись на листа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вристические вопро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ини - эксперим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озговой штур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160" y="2597040"/>
            <a:ext cx="830556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метод коллективной мыслительной деятельности, позволяющий достичь понимания друг друга, когда общая проблема является личной для целой групп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Реверсионная мозговая атака, или Разнос»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метод отличается от « мозгового штурма» тем, что вместо отсрочки оценочных действий предлагается проявить максимальную критичность, указывая на все недочеты и слабые места процесса, системы, идеи. Этим обеспечивается подготовка идеи, направленной на преодоление недостат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писок прилагательных и определ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120" y="12949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й список прилагательных определяет различные качества, свойства и характеристики объекта, деятельности или личности, которые необходимо улучшить. Сначала предлагаются качества или характеристики   ( прилагательные) , затем они рассматриваются каждое в отдельности и решается каким путем можно улучшить или усилить соответствующую характеристи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Ассоциац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3160" y="2438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 листе бумаги рисуется символ, олицетворяющий проблему или ее существенный момент, затем по ассоциации изображают другой символ, пока не придет подходящая идея решени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оллективная запис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из участников получает записную книжку или лист бумаги, где сформулирована проблема и дается информация или рекомендации, необходимые для ее решения. Родители независимо друг от друга, определяют наиболее важные для них рекомендации, заносят в записную книжку. Затем записи передаются педагогу, он суммирует их  и группа проводит обсуждение. После этого приема можно использовать «мозговой штурм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апись на листах»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и обсуждении проблемы каждый из родителей получает листы бумаги для заметок. Педагог формулирует проблему и просит всех предлагать возможные решения. Каждое предложение записывается на отдельном листе. Проблему нужно формулировать четк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Эвристические вопросы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120" y="18288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К ним относятся 7 ключевых вопросов: кто, что, где, чем, как, когда? Если перемешать эти вопросы между собой, получится 21 вопрос. Последовательно вытягивая такие смешанные вопросы и отвечая на них , родители могут получить новый, интересный взгляд на проблему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ини- эксперимент»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25909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Этот метод позволяет включить родителей в исследовательскую деятельность, создать познавательный конфликт и использовать интеллектуальные чувства родителей                  ( интерес, любопытство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26"/>
          <p:cNvSpPr/>
          <p:nvPr/>
        </p:nvSpPr>
        <p:spPr>
          <a:xfrm>
            <a:off x="228600" y="685800"/>
            <a:ext cx="8763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радиционные форы работы с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Прямая со стрелкой 28"/>
          <p:cNvCxnSpPr/>
          <p:nvPr/>
        </p:nvCxnSpPr>
        <p:spPr>
          <a:xfrm flipH="1">
            <a:off x="837720" y="1447560"/>
            <a:ext cx="610560" cy="15246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44" name="Прямая со стрелкой 30"/>
          <p:cNvCxnSpPr/>
          <p:nvPr/>
        </p:nvCxnSpPr>
        <p:spPr>
          <a:xfrm flipH="1">
            <a:off x="2971440" y="1523880"/>
            <a:ext cx="381600" cy="15249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45" name="Прямая со стрелкой 33"/>
          <p:cNvCxnSpPr/>
          <p:nvPr/>
        </p:nvCxnSpPr>
        <p:spPr>
          <a:xfrm>
            <a:off x="4952880" y="1523880"/>
            <a:ext cx="457920" cy="144864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46" name="Прямая со стрелкой 35"/>
          <p:cNvCxnSpPr/>
          <p:nvPr/>
        </p:nvCxnSpPr>
        <p:spPr>
          <a:xfrm>
            <a:off x="7010280" y="1447560"/>
            <a:ext cx="457920" cy="14482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47" name="TextBox 39"/>
          <p:cNvSpPr/>
          <p:nvPr/>
        </p:nvSpPr>
        <p:spPr>
          <a:xfrm>
            <a:off x="0" y="2743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0"/>
          <p:cNvSpPr/>
          <p:nvPr/>
        </p:nvSpPr>
        <p:spPr>
          <a:xfrm>
            <a:off x="0" y="3048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2"/>
          <p:cNvSpPr/>
          <p:nvPr/>
        </p:nvSpPr>
        <p:spPr>
          <a:xfrm>
            <a:off x="2286000" y="30481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формацион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анали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4"/>
          <p:cNvSpPr/>
          <p:nvPr/>
        </p:nvSpPr>
        <p:spPr>
          <a:xfrm>
            <a:off x="4724280" y="3124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суг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5"/>
          <p:cNvSpPr/>
          <p:nvPr/>
        </p:nvSpPr>
        <p:spPr>
          <a:xfrm>
            <a:off x="6477120" y="30481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гля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о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56"/>
          <p:cNvSpPr/>
          <p:nvPr/>
        </p:nvSpPr>
        <p:spPr>
          <a:xfrm>
            <a:off x="228600" y="3733920"/>
            <a:ext cx="2057400" cy="29718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971800"/>
              <a:gd name="textAreaBottom" fmla="*/ 2871360 h 2971800"/>
            </a:gdLst>
            <a:ahLst/>
            <a:rect l="textAreaLeft" t="textAreaTop" r="textAreaRight" b="textAreaBottom"/>
            <a:pathLst>
              <a:path w="21600" h="31198">
                <a:moveTo>
                  <a:pt x="3600" y="0"/>
                </a:moveTo>
                <a:arcTo wR="3600" hR="3600" stAng="16200000" swAng="-5400000"/>
                <a:lnTo>
                  <a:pt x="0" y="27598"/>
                </a:lnTo>
                <a:arcTo wR="3600" hR="3600" stAng="10800000" swAng="-5400000"/>
                <a:lnTo>
                  <a:pt x="18000" y="31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инары-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ьский кл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ческая гости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ьски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7"/>
          <p:cNvSpPr/>
          <p:nvPr/>
        </p:nvSpPr>
        <p:spPr>
          <a:xfrm>
            <a:off x="2590920" y="3733920"/>
            <a:ext cx="2057400" cy="29718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971800"/>
              <a:gd name="textAreaBottom" fmla="*/ 2871360 h 2971800"/>
            </a:gdLst>
            <a:ahLst/>
            <a:rect l="textAreaLeft" t="textAreaTop" r="textAreaRight" b="textAreaBottom"/>
            <a:pathLst>
              <a:path w="21600" h="31198">
                <a:moveTo>
                  <a:pt x="3600" y="0"/>
                </a:moveTo>
                <a:arcTo wR="3600" hR="3600" stAng="16200000" swAng="-5400000"/>
                <a:lnTo>
                  <a:pt x="0" y="27598"/>
                </a:lnTo>
                <a:arcTo wR="3600" hR="3600" stAng="10800000" swAng="-5400000"/>
                <a:lnTo>
                  <a:pt x="18000" y="31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ке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циолог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ские 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8"/>
          <p:cNvSpPr/>
          <p:nvPr/>
        </p:nvSpPr>
        <p:spPr>
          <a:xfrm>
            <a:off x="4876920" y="3733920"/>
            <a:ext cx="1904760" cy="289548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2895480"/>
              <a:gd name="textAreaBottom" fmla="*/ 2802600 h 2895480"/>
            </a:gdLst>
            <a:ahLst/>
            <a:rect l="textAreaLeft" t="textAreaTop" r="textAreaRight" b="textAreaBottom"/>
            <a:pathLst>
              <a:path w="21600" h="32833">
                <a:moveTo>
                  <a:pt x="3600" y="0"/>
                </a:moveTo>
                <a:arcTo wR="3600" hR="3600" stAng="16200000" swAng="-5400000"/>
                <a:lnTo>
                  <a:pt x="0" y="29233"/>
                </a:lnTo>
                <a:arcTo wR="3600" hR="3600" stAng="10800000" swAng="-5400000"/>
                <a:lnTo>
                  <a:pt x="18000" y="32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местные дос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выставках, конкурсах, экскурс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59"/>
          <p:cNvSpPr/>
          <p:nvPr/>
        </p:nvSpPr>
        <p:spPr>
          <a:xfrm>
            <a:off x="6934320" y="3733920"/>
            <a:ext cx="1904760" cy="289548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2895480"/>
              <a:gd name="textAreaBottom" fmla="*/ 2802600 h 2895480"/>
            </a:gdLst>
            <a:ahLst/>
            <a:rect l="textAreaLeft" t="textAreaTop" r="textAreaRight" b="textAreaBottom"/>
            <a:pathLst>
              <a:path w="21600" h="32833">
                <a:moveTo>
                  <a:pt x="3600" y="0"/>
                </a:moveTo>
                <a:arcTo wR="3600" hR="3600" stAng="16200000" swAng="-5400000"/>
                <a:lnTo>
                  <a:pt x="0" y="29233"/>
                </a:lnTo>
                <a:arcTo wR="3600" hR="3600" stAng="10800000" swAng="-5400000"/>
                <a:lnTo>
                  <a:pt x="18000" y="32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ни откры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ьские уг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выст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пилка Добрых 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1255680"/>
            <a:ext cx="947268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3193920"/>
            <a:ext cx="785808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младшей групп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89000" y="676440"/>
            <a:ext cx="8534160" cy="2365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120" y="2881440"/>
            <a:ext cx="8153640" cy="34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Цель: Формирование у детей и родителей привычки к здоровому образу жизни, воспитание у детей КГН и педагогическое просвещение  родителей по теме собрания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ини-выступлени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спитателя по проблеме. Одна из задач воспитания детей раннего возраста  - воспитание культурно-гигиенических навыков – опрятности, аккуратности в быту, навыков культуры еды как неотъемлемой части культуры поведения.  Что бы облегчить ребенку освоение новых навыков, необходимо сделать этот процесс доступным, интересным и увлекательным. При этом обязательно учитывается возрастная особенность детей – стремление к самостоятель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66760"/>
            <a:ext cx="807732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700"/>
            </a:b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самообслуживания у детей младшего возрас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914400"/>
          <a:ext cx="8534520" cy="5456160"/>
        </p:xfrm>
        <a:graphic>
          <a:graphicData uri="http://schemas.openxmlformats.org/drawingml/2006/table">
            <a:tbl>
              <a:tblPr/>
              <a:tblGrid>
                <a:gridCol w="4419720"/>
                <a:gridCol w="1447920"/>
                <a:gridCol w="266688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итерии самообслужи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мостоятель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 помощью взросл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дит за собой (опрятность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куратен в быт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 пищ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ьзуется носовым платк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жет раздевать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жет одевать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ладывает свои вещ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бирает  за собой игруш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ет и вытирает ру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дит в туал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гра для активизации родител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« Список прилагательных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ому родителю предлагается назвать прилагательные или определения культурно-гигиенических навыков. Родителям задается вопрос: «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м вы видите ребенка владеющего навыками самообслуживания?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 предлагают качества и характеристики соответствующие их представлениям        (чистым, аккуратным, ухоженным и т.д.).  Далее рассматривается каждое прилагательное или определение в отдельности и совместно выносится решения,  каким путем можно этог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316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ь знакомит родителей с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ами и метод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спользуемыми в детском саду для воспитания культурно-гигиенических навы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гровая мотива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моциональный настр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растные особен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огократное повторение действ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 Продолжи предложени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ждому родителю предлагается продолжить предложение:  Мой ребенок умеет или делает….. ( назвать те качества, которыми обладает ребенок)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для родителе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арайтесь поддерживать стремление к самостоятельности  ребе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ощряйте, хвалите, своего ребенка даже за небольшие достиж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выки самообслуживания прививаются быстрее, если взрослый покажет и прокомментирует на примере, как, что и в каком порядке дел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льзя торопить ребенка с выполнением какого-либо действия, надо дать ему возможность выполнять все спокойно, самостоятельн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Если у малыша что- то не получается не спешите ему на помощь, пока он этого не попроси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арайтесь всегда поддерживать активность и эмоциональный настрой ребен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процессе воспитания используйте потешки, стишки, личный приме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арайтесь использовать игровую ситуац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сегда придерживайтесь доброжелательного эмоционального настро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 нетрадиционной форм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ая лаборато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тательская конфере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кци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05520" y="16761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инар – практик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шевный разгов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Мастер –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к – ш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чер вопросов 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0" y="-262080"/>
            <a:ext cx="7772400" cy="2097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Рекомендуется проводить в начале или в конце года. На них обсуждается участие родителей в различных мероприятиях. Проводится анкета «Родитель – ребенок – детский сад» Проходит обсуждение либо намеченных мероприятий, либо анализируются прошедшие и подводятся итог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0" y="480960"/>
            <a:ext cx="7772400" cy="2097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оводится подготовительный этап перед собранием, где родителям дается какое-либо задание по определенной теме. Подготовленное задание обсуждается с различных позици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0" y="1195560"/>
            <a:ext cx="7772400" cy="1584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120" y="2703600"/>
            <a:ext cx="7620120" cy="369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Собрание проходит в виде «продажи» полезных советов по выбранной теме в игровой форме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-438120" y="281160"/>
            <a:ext cx="8643960" cy="1657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аправлен на освоение родителями определенных приемов и методов. На собрании могут выступать не только воспитатель, но и родители и специалисты. Совместно с родителями происходит обыгрывание или решение проблемных ситуаций, могут присутствовать элементы тренинг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-201600" y="566640"/>
            <a:ext cx="8169120" cy="1822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120" y="2703240"/>
            <a:ext cx="8077320" cy="346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обрание рассчитано не на всех родителей, а лишь на тех, чьи дети имеют общие проблемы . Можно провести анкетирование по теме, в конце собрания родителям не дают рекомендаций, а они сами к ним приходят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0" y="195120"/>
            <a:ext cx="7772400" cy="1584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рание, на котором родители демонстрируют свои достижения в области воспитания детей. Предварительно воспитатель дает тему нескольким родителям и поручает каждому провести маленький урок, на котором они должны будут объяснить всем собравшимся родителям, как научить ребенка убирать за собой игрушки, умываться. В конце собрание подводится ит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9-01-14T16:00:29Z</dcterms:modified>
  <cp:revision>43</cp:revision>
  <dc:subject/>
  <dc:title>Нетрадиционные формы работы с родителями</dc:title>
</cp:coreProperties>
</file>