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8.wmf" ContentType="image/x-wmf"/>
  <Override PartName="/ppt/media/image12.jpeg" ContentType="image/jpeg"/>
  <Override PartName="/ppt/media/image7.jpeg" ContentType="image/jpeg"/>
  <Override PartName="/ppt/media/image6.wmf" ContentType="image/x-wmf"/>
  <Override PartName="/ppt/media/image19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23.png" ContentType="image/png"/>
  <Override PartName="/ppt/media/image28.wmf" ContentType="image/x-wmf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jpeg" ContentType="image/jpeg"/>
  <Override PartName="/ppt/media/image27.gif" ContentType="image/gif"/>
  <Override PartName="/ppt/media/image15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682C-9441-4BA2-BED0-7ED2FBD828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FECF-4BF8-4051-86C4-5487028F27F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5A36-8FF0-4246-B96B-28BF1CD6D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AC36-51D8-41D0-824F-B0758A1B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CEE3-5E18-484F-AE1C-3D24F7783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3DC8-0B84-4D66-91E1-4696A6309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5EF23-EB80-4A2C-9EF1-5CEF35871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DEDA9-D9A0-462D-9351-E5DC4F80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280DE-0229-4C36-BA83-8BEC66C4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7CD1D-66CD-4003-9C0B-617EBDCC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527B2-CDB7-4EF3-9CAB-6D0EE59C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1DAFD-9156-4F1E-98B2-358FBBF3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155C8-E13C-4C7A-8761-A9BA7A21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AD9C-44CA-42D6-B0A5-DEE11D06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DF67D-A049-452D-BBEF-C18AFA02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242BD-2C91-4D30-9C04-5E4B49D8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0629A-DE52-474E-B88F-C281FBE9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E8F19-545B-460F-A02D-E804FFC05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B579A-2768-44C9-931D-B187DBE8E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0DC0-82DE-449F-80D6-C1D06070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5D47-7807-4017-8EF6-7B164A74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2312-6DC3-4A53-BFCF-349A6597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8AB9-4EDE-4203-AD0F-D82071EC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141D-B17A-467E-97D9-8776DB54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3D65-348E-47CB-AF8E-C4A45FBB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6243-603A-4C9F-BA71-F1FE4332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9EB2-85BC-48DC-83A4-0F87846E56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79BD-2465-40C2-A475-1C5AAC53DFE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12.jpeg"/><Relationship Id="rId3" Type="http://schemas.openxmlformats.org/officeDocument/2006/relationships/slide" Target="slide27.xml"/><Relationship Id="rId4" Type="http://schemas.openxmlformats.org/officeDocument/2006/relationships/image" Target="../media/image13.jpeg"/><Relationship Id="rId5" Type="http://schemas.openxmlformats.org/officeDocument/2006/relationships/slide" Target="slide26.xml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57;&#1062;&#1045;&#1053;&#1040;&#1056;&#1048;&#1049;%20&#1052;&#1045;&#1056;&#1054;&#1055;&#1056;&#1048;&#1071;&#1058;&#1048;&#1071;.doc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642960" y="214200"/>
            <a:ext cx="835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осударственное бюджетное дошкольное образовательное учреждение детский сад 74 Кировского района Санкт-Петербург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508720" y="1413000"/>
            <a:ext cx="331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«Использование презентации в образовательном учреждении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920" y="2349000"/>
            <a:ext cx="7772400" cy="2374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лектронный дидактический материал по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еме:</a:t>
            </a:r>
            <a:br>
              <a:rPr sz="2000"/>
            </a:b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Прогулка по родному городу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Ростральные колонн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нятие для старшей группы детского сад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асть 1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759040" y="5857920"/>
            <a:ext cx="6384960" cy="84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втор: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уликова Наталия Леонидо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688000" cy="6597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C:\Documents and Settings\12.43.21\Local Settings\Temporary Internet Files\Content.IE5\ZRLK0E35\MC900151193[1].wmf"/>
          <p:cNvPicPr/>
          <p:nvPr/>
        </p:nvPicPr>
        <p:blipFill>
          <a:blip r:embed="rId2"/>
          <a:stretch/>
        </p:blipFill>
        <p:spPr>
          <a:xfrm>
            <a:off x="6804000" y="549360"/>
            <a:ext cx="1809720" cy="79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002_3"/>
          <p:cNvPicPr/>
          <p:nvPr/>
        </p:nvPicPr>
        <p:blipFill>
          <a:blip r:embed="rId1"/>
          <a:srcRect l="0" t="0" r="0" b="16856"/>
          <a:stretch/>
        </p:blipFill>
        <p:spPr>
          <a:xfrm>
            <a:off x="2195640" y="260280"/>
            <a:ext cx="4762440" cy="619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C:\Documents and Settings\12.43.21\Local Settings\Temporary Internet Files\Content.IE5\ZRLK0E35\MC900151193[1].wmf"/>
          <p:cNvPicPr/>
          <p:nvPr/>
        </p:nvPicPr>
        <p:blipFill>
          <a:blip r:embed="rId2"/>
          <a:stretch/>
        </p:blipFill>
        <p:spPr>
          <a:xfrm rot="2291400">
            <a:off x="7002000" y="5584320"/>
            <a:ext cx="18082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125 -0.0882 C -0.08298 -0.24283 -0.08472 -0.39746 -0.12465 -0.4882 C -0.16458 -0.57894 -0.28559 -0.60926 -0.32118 -0.63264 C -0.35677 -0.65602 -0.34739 -0.64213 -0.33784 -0.62825 E">
                                      <p:cBhvr>
                                        <p:cTn id="73" dur="3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1332000" y="620640"/>
            <a:ext cx="66754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C:\Documents and Settings\12.43.21\Local Settings\Temporary Internet Files\Content.IE5\96AVQ0UG\MP900110933[1]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4360" y="2060640"/>
            <a:ext cx="3657600" cy="1790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C:\Documents and Settings\12.43.21\Local Settings\Temporary Internet Files\Content.IE5\ZRLK0E35\MP900439340[1]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148360" y="1989000"/>
            <a:ext cx="3092400" cy="1727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C:\Documents and Settings\12.43.21\Local Settings\Temporary Internet Files\Content.IE5\8CQZELI7\MP900403246[1]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85880" y="4286160"/>
            <a:ext cx="3886200" cy="1800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C:\Documents and Settings\12.43.21\Local Settings\Temporary Internet Files\Content.IE5\96AVQ0UG\MP900407356[1].jpg"/>
          <p:cNvPicPr/>
          <p:nvPr/>
        </p:nvPicPr>
        <p:blipFill>
          <a:blip r:embed="rId7"/>
          <a:stretch/>
        </p:blipFill>
        <p:spPr>
          <a:xfrm>
            <a:off x="5148360" y="4149720"/>
            <a:ext cx="3168720" cy="17542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15"/>
          <p:cNvSpPr/>
          <p:nvPr/>
        </p:nvSpPr>
        <p:spPr>
          <a:xfrm>
            <a:off x="1403280" y="54936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ЙДИ ГДЕ НА КАРТИНКЕ ОСТРОВ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7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tretr765464"/>
          <p:cNvPicPr/>
          <p:nvPr/>
        </p:nvPicPr>
        <p:blipFill>
          <a:blip r:embed="rId1"/>
          <a:stretch/>
        </p:blipFill>
        <p:spPr>
          <a:xfrm>
            <a:off x="1042920" y="189000"/>
            <a:ext cx="6337440" cy="6497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C:\Documents and Settings\12.43.21\Local Settings\Temporary Internet Files\Content.IE5\BW2QCGEF\MC900151193[1].wmf"/>
          <p:cNvPicPr/>
          <p:nvPr/>
        </p:nvPicPr>
        <p:blipFill>
          <a:blip r:embed="rId2"/>
          <a:stretch/>
        </p:blipFill>
        <p:spPr>
          <a:xfrm>
            <a:off x="6875640" y="260280"/>
            <a:ext cx="1809720" cy="7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4" descr="repphoto_7170_1009"/>
          <p:cNvPicPr/>
          <p:nvPr/>
        </p:nvPicPr>
        <p:blipFill>
          <a:blip r:embed="rId1"/>
          <a:stretch/>
        </p:blipFill>
        <p:spPr>
          <a:xfrm>
            <a:off x="468360" y="620640"/>
            <a:ext cx="82548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3743280" cy="5329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sfsef54y6"/>
          <p:cNvPicPr/>
          <p:nvPr/>
        </p:nvPicPr>
        <p:blipFill>
          <a:blip r:embed="rId2"/>
          <a:stretch/>
        </p:blipFill>
        <p:spPr>
          <a:xfrm>
            <a:off x="4648320" y="907920"/>
            <a:ext cx="4038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repphoto_7173_1243"/>
          <p:cNvPicPr/>
          <p:nvPr/>
        </p:nvPicPr>
        <p:blipFill>
          <a:blip r:embed="rId1"/>
          <a:stretch/>
        </p:blipFill>
        <p:spPr>
          <a:xfrm>
            <a:off x="1187280" y="404640"/>
            <a:ext cx="633744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rostral_kol"/>
          <p:cNvPicPr/>
          <p:nvPr/>
        </p:nvPicPr>
        <p:blipFill>
          <a:blip r:embed="rId1"/>
          <a:stretch/>
        </p:blipFill>
        <p:spPr>
          <a:xfrm>
            <a:off x="1692360" y="333360"/>
            <a:ext cx="5715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457200" y="260280"/>
            <a:ext cx="822960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Прогулка по родному городу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Ростральные колонн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нятие для старшей группы детского са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"/>
          <p:cNvPicPr/>
          <p:nvPr/>
        </p:nvPicPr>
        <p:blipFill>
          <a:blip r:embed="rId1"/>
          <a:srcRect l="0" t="2540" r="0" b="0"/>
          <a:stretch/>
        </p:blipFill>
        <p:spPr>
          <a:xfrm>
            <a:off x="611280" y="692280"/>
            <a:ext cx="822960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0_1193a_c5904b2a_XL"/>
          <p:cNvPicPr/>
          <p:nvPr/>
        </p:nvPicPr>
        <p:blipFill>
          <a:blip r:embed="rId1"/>
          <a:stretch/>
        </p:blipFill>
        <p:spPr>
          <a:xfrm>
            <a:off x="762120" y="260280"/>
            <a:ext cx="7619760" cy="60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4" descr="photo76"/>
          <p:cNvPicPr/>
          <p:nvPr/>
        </p:nvPicPr>
        <p:blipFill>
          <a:blip r:embed="rId1"/>
          <a:stretch/>
        </p:blipFill>
        <p:spPr>
          <a:xfrm>
            <a:off x="395280" y="333360"/>
            <a:ext cx="828036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неваып"/>
          <p:cNvPicPr/>
          <p:nvPr/>
        </p:nvPicPr>
        <p:blipFill>
          <a:blip r:embed="rId1"/>
          <a:stretch/>
        </p:blipFill>
        <p:spPr>
          <a:xfrm>
            <a:off x="2071800" y="333360"/>
            <a:ext cx="500040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285840" y="571680"/>
            <a:ext cx="885816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Цифровые образовательные ресурсы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http://al-spbphoto.narod.ru/index.htm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http://www.citywalls.ru/ http://leningradlions.narod.ru/index.htm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http://www.encspb.ru/article.php?kod=2804019757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http://mify.org/dictionary.shtm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http://www.ckazka.com/myth/grec/grec.htm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ИЛЬ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Стрелка вверх 7"/>
          <p:cNvSpPr/>
          <p:nvPr/>
        </p:nvSpPr>
        <p:spPr>
          <a:xfrm>
            <a:off x="611280" y="6237360"/>
            <a:ext cx="431640" cy="2872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45" descr="C:\Users\юзер\AppData\Local\Microsoft\Windows\Temporary Internet Files\Content.IE5\IQG9747T\MM900356716[1].gif"/>
          <p:cNvPicPr/>
          <p:nvPr/>
        </p:nvPicPr>
        <p:blipFill>
          <a:blip r:embed="rId1"/>
          <a:stretch/>
        </p:blipFill>
        <p:spPr>
          <a:xfrm>
            <a:off x="1476360" y="2492280"/>
            <a:ext cx="4064040" cy="406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ПРАВИЛЬ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5" descr="C:\Documents and Settings\12.43.21\Local Settings\Temporary Internet Files\Content.IE5\ZRLK0E35\MC900438016[1].wmf"/>
          <p:cNvPicPr/>
          <p:nvPr/>
        </p:nvPicPr>
        <p:blipFill>
          <a:blip r:embed="rId1"/>
          <a:stretch/>
        </p:blipFill>
        <p:spPr>
          <a:xfrm>
            <a:off x="3981600" y="2517840"/>
            <a:ext cx="2084400" cy="3214800"/>
          </a:xfrm>
          <a:prstGeom prst="rect">
            <a:avLst/>
          </a:prstGeom>
          <a:ln w="0">
            <a:noFill/>
          </a:ln>
        </p:spPr>
      </p:pic>
      <p:sp>
        <p:nvSpPr>
          <p:cNvPr id="146" name="Стрелка вверх 7"/>
          <p:cNvSpPr/>
          <p:nvPr/>
        </p:nvSpPr>
        <p:spPr>
          <a:xfrm>
            <a:off x="250920" y="6237360"/>
            <a:ext cx="360360" cy="2872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Актуальность тем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125360"/>
            <a:ext cx="8229600" cy="48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таршем дошкольном возрасте у детей развивается интерес к Родине на эмоционально-чувственном уровне. Для развития интереса необходимо обеспечить накопление конкретных представлений об особенностях родного города, края, страны. С этой целью мы разработали цикл игр-путешествий по Санкт-Петербургу. Для работы по данной теме необходимо руководствоваться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сценарием мероприят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юзер\AppData\Local\Microsoft\Windows\Temporary Internet Files\Content.IE5\0X4VCF3V\MC900431536[1].png"/>
          <p:cNvPicPr/>
          <p:nvPr/>
        </p:nvPicPr>
        <p:blipFill>
          <a:blip r:embed="rId1"/>
          <a:stretch/>
        </p:blipFill>
        <p:spPr>
          <a:xfrm>
            <a:off x="2228760" y="2305080"/>
            <a:ext cx="3486240" cy="3427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Documents and Settings\12.43.21\Local Settings\Temporary Internet Files\Content.IE5\ZRLK0E35\MC900151193[1].wmf"/>
          <p:cNvPicPr/>
          <p:nvPr/>
        </p:nvPicPr>
        <p:blipFill>
          <a:blip r:embed="rId2"/>
          <a:stretch/>
        </p:blipFill>
        <p:spPr>
          <a:xfrm>
            <a:off x="7093080" y="189000"/>
            <a:ext cx="1807920" cy="79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781 0.06551 C -0.13333 0.08148 -0.15885 0.09768 -0.16945 0.11875 C -0.18004 0.13981 -0.16875 0.16111 -0.17118 0.19213 C -0.17361 0.22315 -0.16788 0.27106 -0.18455 0.30555 C -0.20122 0.34004 -0.22726 0.37639 -0.27118 0.39884 C -0.3151 0.42129 -0.39219 0.43403 -0.44774 0.44097 C -0.5033 0.44791 -0.5526 0.4206 -0.60451 0.44097 C -0.65642 0.46134 -0.70816 0.52014 -0.75955 0.56296 C -0.81094 0.60625 -0.88733 0.67616 -0.91285 0.69884 E">
                                      <p:cBhvr>
                                        <p:cTn id="10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1270064269_28fregate_isla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4" descr="62951876_1282301699_strevo3"/>
          <p:cNvPicPr/>
          <p:nvPr/>
        </p:nvPicPr>
        <p:blipFill>
          <a:blip r:embed="rId1"/>
          <a:stretch/>
        </p:blipFill>
        <p:spPr>
          <a:xfrm>
            <a:off x="-139680" y="0"/>
            <a:ext cx="96505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C:\Users\юзер\AppData\Local\Microsoft\Windows\Temporary Internet Files\Content.IE5\0ODDNSI6\MC900413684[1].wmf"/>
          <p:cNvPicPr/>
          <p:nvPr/>
        </p:nvPicPr>
        <p:blipFill>
          <a:blip r:embed="rId1"/>
          <a:stretch/>
        </p:blipFill>
        <p:spPr>
          <a:xfrm>
            <a:off x="1403280" y="836640"/>
            <a:ext cx="6396120" cy="51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Rostralnye_kolonny_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C:\Documents and Settings\12.43.21\Local Settings\Temporary Internet Files\Content.IE5\ZRLK0E35\MC900151193[1].wmf"/>
          <p:cNvPicPr/>
          <p:nvPr/>
        </p:nvPicPr>
        <p:blipFill>
          <a:blip r:embed="rId2"/>
          <a:stretch/>
        </p:blipFill>
        <p:spPr>
          <a:xfrm>
            <a:off x="7093080" y="189000"/>
            <a:ext cx="1807920" cy="796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Documents and Settings\12.43.21\Local Settings\Temporary Internet Files\Content.IE5\ZRLK0E35\MC900151193[1].wmf"/>
          <p:cNvPicPr/>
          <p:nvPr/>
        </p:nvPicPr>
        <p:blipFill>
          <a:blip r:embed="rId3"/>
          <a:stretch/>
        </p:blipFill>
        <p:spPr>
          <a:xfrm flipH="1">
            <a:off x="642600" y="2500200"/>
            <a:ext cx="1808280" cy="79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C -0.08959 -0.00672 -0.179 -0.01343 -0.26632 -0.00162 C -0.35365 0.01018 -0.46007 0.03426 -0.52448 0.07037 C -0.58889 0.10648 -0.62379 0.17176 -0.65278 0.21458 C -0.68178 0.2574 -0.69028 0.29259 -0.69879 0.32801 E">
                                      <p:cBhvr>
                                        <p:cTn id="25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6 0.08356 C 0.05173 0.16273 0.10087 0.24189 0.1592 0.29074 C 0.21753 0.33958 0.27465 0.36481 0.3526 0.37708 C 0.43055 0.38981 0.56493 0.4037 0.62691 0.36643 C 0.68889 0.32893 0.71632 0.24259 0.72413 0.15208 C 0.73194 0.06157 0.68246 -0.1213 0.67413 -0.17593 E">
                                      <p:cBhvr>
                                        <p:cTn id="35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0" descr="C:\Users\юзер\AppData\Local\Microsoft\Windows\Temporary Internet Files\Content.IE5\DFSKS1IN\MC900104460[1].wmf"/>
          <p:cNvPicPr/>
          <p:nvPr/>
        </p:nvPicPr>
        <p:blipFill>
          <a:blip r:embed="rId1"/>
          <a:stretch/>
        </p:blipFill>
        <p:spPr>
          <a:xfrm>
            <a:off x="3276720" y="476280"/>
            <a:ext cx="2158920" cy="6121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Documents and Settings\12.43.21\Local Settings\Temporary Internet Files\Content.IE5\ZRLK0E35\MC900151193[1].wmf"/>
          <p:cNvPicPr/>
          <p:nvPr/>
        </p:nvPicPr>
        <p:blipFill>
          <a:blip r:embed="rId2"/>
          <a:stretch/>
        </p:blipFill>
        <p:spPr>
          <a:xfrm>
            <a:off x="7072200" y="500040"/>
            <a:ext cx="1808280" cy="797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C:\Documents and Settings\12.43.21\Local Settings\Temporary Internet Files\Content.IE5\ZRLK0E35\MC900151193[1].wmf"/>
          <p:cNvPicPr/>
          <p:nvPr/>
        </p:nvPicPr>
        <p:blipFill>
          <a:blip r:embed="rId3"/>
          <a:stretch/>
        </p:blipFill>
        <p:spPr>
          <a:xfrm flipH="1">
            <a:off x="642600" y="2500200"/>
            <a:ext cx="1808280" cy="7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C -0.08959 -0.00672 -0.179 -0.01343 -0.26632 -0.00162 C -0.35365 0.01018 -0.46007 0.03426 -0.52448 0.07037 C -0.58889 0.10648 -0.62379 0.17176 -0.65278 0.21458 C -0.68178 0.2574 -0.69028 0.29259 -0.69879 0.32801 E">
                                      <p:cBhvr>
                                        <p:cTn id="41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6 0.08356 C 0.05173 0.16273 0.10087 0.24189 0.1592 0.29074 C 0.21753 0.33958 0.27465 0.36481 0.3526 0.37708 C 0.43055 0.38981 0.56493 0.4037 0.62691 0.36643 C 0.68889 0.32893 0.71632 0.24259 0.72413 0.15208 C 0.73194 0.06157 0.68246 -0.1213 0.67413 -0.17593 E">
                                      <p:cBhvr>
                                        <p:cTn id="51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19:05:55Z</dcterms:created>
  <dc:creator>Саша</dc:creator>
  <dc:description/>
  <dc:language>en-US</dc:language>
  <cp:lastModifiedBy>Наталия</cp:lastModifiedBy>
  <dcterms:modified xsi:type="dcterms:W3CDTF">2019-01-14T10:28:42Z</dcterms:modified>
  <cp:revision>98</cp:revision>
  <dc:subject/>
  <dc:title>Ростральные колонны</dc:title>
</cp:coreProperties>
</file>