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565-7C22-4271-B214-446FC7D0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C84-2F6B-43E7-A374-3A1626D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F96-7F60-4908-B76F-4284CAB8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B2F-0E59-4A3F-8764-BA9AA5CD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4B6F6-D267-4F0E-BF49-5008CE28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A971-3E9B-4D17-AED2-C449331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A1D1C-3308-4592-90EE-15477E38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A3131-D2D0-4072-833B-B1DE3522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59FF9-72B8-4552-A188-6B018454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8D1F1-0BDB-4640-B916-FC615F0C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13B2B-745F-45F4-9545-20A54B7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A77-7D6D-43BE-A8EB-7B0F0A1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12E69-88A0-4D60-A169-F2ED430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CCD72-32E5-414B-90D9-F4C2F94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62203-1D9B-4018-86FD-D60BA93A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34823-37CA-4DFA-8052-8AE27621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34C89-11B7-41AE-AC18-FE03D150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EA4-5D06-429D-BD7B-C2A6149A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3CE-46C8-4BF9-9531-B8485D8F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862-2B2A-42F0-81EF-64B3ED8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87A-3B7B-41CF-B8EF-A97CF679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396-A57C-4BAD-8A0E-C90A985C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E10-3819-4E06-9D98-1128931E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E82-6BDF-4D64-93E9-8B4FBA5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CF5C-5761-4831-9422-A4BBEE7D1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F9E9-C7F0-4C19-BC91-7BD22CFE18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642960" y="21420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ое бюджетное образовательное учреждение дополнительного профессионального образования центр повышения квалификации специалистов Санкт-Петербурга «Региональный центр оценки качества образования и информационных технологи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508720" y="1413000"/>
            <a:ext cx="33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Использование презентации в образовательном учреждени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ектронный дидактический материал п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е:</a:t>
            </a:r>
            <a:br>
              <a:rPr sz="20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84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12.43.21., воспитатель,  ДОУ №74, Куликова Наталия Леонид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подаватель: Воронова Александра Серг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85840" y="571680"/>
            <a:ext cx="88581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ифровые образовательные ресур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al-spbphoto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itywalls.ru/ http://leningradlions.narod.ru/index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encspb.ru/article.php?kod=280401975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mify.org/dictionary.s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http://www.ckazka.com/myth/grec/grec.htm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рогулка по родному городу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остральные колон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ие для старшей группы детского са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ь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1128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643280" y="1844640"/>
            <a:ext cx="9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11280" y="1557360"/>
          <a:ext cx="8064360" cy="477828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4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643280" y="1844640"/>
            <a:ext cx="900360" cy="92880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5"/>
          <p:cNvSpPr/>
          <p:nvPr/>
        </p:nvSpPr>
        <p:spPr>
          <a:xfrm>
            <a:off x="1979640" y="5418000"/>
            <a:ext cx="576360" cy="1251000"/>
          </a:xfrm>
          <a:prstGeom prst="rightArrow">
            <a:avLst>
              <a:gd name="adj1" fmla="val 50000"/>
              <a:gd name="adj2" fmla="val 51509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68360" y="1557360"/>
          <a:ext cx="80661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320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1400"/>
                <a:gridCol w="6732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6"/>
          <p:cNvSpPr/>
          <p:nvPr/>
        </p:nvSpPr>
        <p:spPr>
          <a:xfrm>
            <a:off x="1979640" y="5418000"/>
            <a:ext cx="576360" cy="1251000"/>
          </a:xfrm>
          <a:prstGeom prst="rightArrow">
            <a:avLst>
              <a:gd name="adj1" fmla="val 50000"/>
              <a:gd name="adj2" fmla="val 51509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repphoto_7170_1009"/>
          <p:cNvPicPr/>
          <p:nvPr/>
        </p:nvPicPr>
        <p:blipFill>
          <a:blip r:embed="rId2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68360" y="1557360"/>
          <a:ext cx="80661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3200"/>
                <a:gridCol w="671400"/>
                <a:gridCol w="671400"/>
                <a:gridCol w="673200"/>
                <a:gridCol w="671400"/>
                <a:gridCol w="671760"/>
                <a:gridCol w="672840"/>
                <a:gridCol w="671760"/>
                <a:gridCol w="671400"/>
                <a:gridCol w="6732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6"/>
          <p:cNvSpPr/>
          <p:nvPr/>
        </p:nvSpPr>
        <p:spPr>
          <a:xfrm>
            <a:off x="1979640" y="5418000"/>
            <a:ext cx="576360" cy="1251000"/>
          </a:xfrm>
          <a:prstGeom prst="rightArrow">
            <a:avLst>
              <a:gd name="adj1" fmla="val 50000"/>
              <a:gd name="adj2" fmla="val 51509"/>
            </a:avLst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repphoto_7170_1009"/>
          <p:cNvPicPr/>
          <p:nvPr/>
        </p:nvPicPr>
        <p:blipFill>
          <a:blip r:embed="rId2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юзер\AppData\Local\Microsoft\Windows\Temporary Internet Files\Content.IE5\IQG9747T\MC900361630[1].wmf"/>
          <p:cNvPicPr/>
          <p:nvPr/>
        </p:nvPicPr>
        <p:blipFill>
          <a:blip r:embed="rId3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760"/>
                <a:gridCol w="672840"/>
                <a:gridCol w="671760"/>
                <a:gridCol w="671400"/>
                <a:gridCol w="673200"/>
                <a:gridCol w="67140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юзер\AppData\Local\Microsoft\Windows\Temporary Internet Files\Content.IE5\DFSKS1IN\MC900432618[1].png"/>
          <p:cNvPicPr/>
          <p:nvPr/>
        </p:nvPicPr>
        <p:blipFill>
          <a:blip r:embed="rId2"/>
          <a:stretch/>
        </p:blipFill>
        <p:spPr>
          <a:xfrm>
            <a:off x="1835280" y="558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repphoto_7170_1009"/>
          <p:cNvPicPr/>
          <p:nvPr/>
        </p:nvPicPr>
        <p:blipFill>
          <a:blip r:embed="rId3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юзер\AppData\Local\Microsoft\Windows\Temporary Internet Files\Content.IE5\IQG9747T\MC900361630[1].wmf"/>
          <p:cNvPicPr/>
          <p:nvPr/>
        </p:nvPicPr>
        <p:blipFill>
          <a:blip r:embed="rId4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юзер\AppData\Local\Microsoft\Windows\Temporary Internet Files\Content.IE5\0ODDNSI6\MC900353989[1].wmf"/>
          <p:cNvPicPr/>
          <p:nvPr/>
        </p:nvPicPr>
        <p:blipFill>
          <a:blip r:embed="rId5"/>
          <a:stretch/>
        </p:blipFill>
        <p:spPr>
          <a:xfrm>
            <a:off x="5867280" y="2852640"/>
            <a:ext cx="11955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6836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760"/>
                <a:gridCol w="672840"/>
                <a:gridCol w="671760"/>
                <a:gridCol w="671400"/>
                <a:gridCol w="673200"/>
                <a:gridCol w="67140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юзер\AppData\Local\Microsoft\Windows\Temporary Internet Files\Content.IE5\DFSKS1IN\MC900432618[1].png"/>
          <p:cNvPicPr/>
          <p:nvPr/>
        </p:nvPicPr>
        <p:blipFill>
          <a:blip r:embed="rId2"/>
          <a:stretch/>
        </p:blipFill>
        <p:spPr>
          <a:xfrm>
            <a:off x="1835280" y="558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repphoto_7170_1009"/>
          <p:cNvPicPr/>
          <p:nvPr/>
        </p:nvPicPr>
        <p:blipFill>
          <a:blip r:embed="rId3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юзер\AppData\Local\Microsoft\Windows\Temporary Internet Files\Content.IE5\IQG9747T\MC900361630[1].wmf"/>
          <p:cNvPicPr/>
          <p:nvPr/>
        </p:nvPicPr>
        <p:blipFill>
          <a:blip r:embed="rId4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юзер\AppData\Local\Microsoft\Windows\Temporary Internet Files\Content.IE5\0ODDNSI6\MC900353989[1].wmf"/>
          <p:cNvPicPr/>
          <p:nvPr/>
        </p:nvPicPr>
        <p:blipFill>
          <a:blip r:embed="rId5"/>
          <a:stretch/>
        </p:blipFill>
        <p:spPr>
          <a:xfrm>
            <a:off x="5867280" y="2852640"/>
            <a:ext cx="1195560" cy="106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юзер\AppData\Local\Microsoft\Windows\Temporary Internet Files\Content.IE5\0ODDNSI6\MC900192165[1].wmf"/>
          <p:cNvPicPr/>
          <p:nvPr/>
        </p:nvPicPr>
        <p:blipFill>
          <a:blip r:embed="rId6"/>
          <a:stretch/>
        </p:blipFill>
        <p:spPr>
          <a:xfrm>
            <a:off x="7308720" y="5805360"/>
            <a:ext cx="1614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68360" y="1557360"/>
          <a:ext cx="8064360" cy="4896000"/>
        </p:xfrm>
        <a:graphic>
          <a:graphicData uri="http://schemas.openxmlformats.org/drawingml/2006/table">
            <a:tbl>
              <a:tblPr/>
              <a:tblGrid>
                <a:gridCol w="596880"/>
                <a:gridCol w="747720"/>
                <a:gridCol w="671400"/>
                <a:gridCol w="671760"/>
                <a:gridCol w="672840"/>
                <a:gridCol w="671760"/>
                <a:gridCol w="671400"/>
                <a:gridCol w="673200"/>
                <a:gridCol w="671400"/>
                <a:gridCol w="673200"/>
                <a:gridCol w="671400"/>
                <a:gridCol w="671400"/>
              </a:tblGrid>
              <a:tr h="612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9"/>
          <p:cNvSpPr/>
          <p:nvPr/>
        </p:nvSpPr>
        <p:spPr>
          <a:xfrm>
            <a:off x="1042920" y="476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ОССВОР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" descr="C:\Documents and Settings\12.43.21\Local Settings\Temporary Internet Files\Content.IE5\8CQZELI7\MC900397851[1].wmf"/>
          <p:cNvPicPr/>
          <p:nvPr/>
        </p:nvPicPr>
        <p:blipFill>
          <a:blip r:embed="rId1"/>
          <a:stretch/>
        </p:blipFill>
        <p:spPr>
          <a:xfrm>
            <a:off x="4572000" y="1844640"/>
            <a:ext cx="900000" cy="9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юзер\AppData\Local\Microsoft\Windows\Temporary Internet Files\Content.IE5\DFSKS1IN\MC900432618[1].png"/>
          <p:cNvPicPr/>
          <p:nvPr/>
        </p:nvPicPr>
        <p:blipFill>
          <a:blip r:embed="rId2"/>
          <a:stretch/>
        </p:blipFill>
        <p:spPr>
          <a:xfrm>
            <a:off x="1835280" y="5589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repphoto_7170_1009"/>
          <p:cNvPicPr/>
          <p:nvPr/>
        </p:nvPicPr>
        <p:blipFill>
          <a:blip r:embed="rId3"/>
          <a:srcRect l="81998" t="32851" r="558" b="20917"/>
          <a:stretch/>
        </p:blipFill>
        <p:spPr>
          <a:xfrm>
            <a:off x="2195640" y="2924280"/>
            <a:ext cx="85536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юзер\AppData\Local\Microsoft\Windows\Temporary Internet Files\Content.IE5\IQG9747T\MC900361630[1].wmf"/>
          <p:cNvPicPr/>
          <p:nvPr/>
        </p:nvPicPr>
        <p:blipFill>
          <a:blip r:embed="rId4"/>
          <a:stretch/>
        </p:blipFill>
        <p:spPr>
          <a:xfrm>
            <a:off x="7935840" y="3560760"/>
            <a:ext cx="1028880" cy="116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юзер\AppData\Local\Microsoft\Windows\Temporary Internet Files\Content.IE5\0ODDNSI6\MC900353989[1].wmf"/>
          <p:cNvPicPr/>
          <p:nvPr/>
        </p:nvPicPr>
        <p:blipFill>
          <a:blip r:embed="rId5"/>
          <a:stretch/>
        </p:blipFill>
        <p:spPr>
          <a:xfrm>
            <a:off x="5867280" y="2852640"/>
            <a:ext cx="1195560" cy="106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юзер\AppData\Local\Microsoft\Windows\Temporary Internet Files\Content.IE5\0ODDNSI6\MC900192165[1].wmf"/>
          <p:cNvPicPr/>
          <p:nvPr/>
        </p:nvPicPr>
        <p:blipFill>
          <a:blip r:embed="rId6"/>
          <a:stretch/>
        </p:blipFill>
        <p:spPr>
          <a:xfrm>
            <a:off x="7308720" y="5805360"/>
            <a:ext cx="16146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9:05:55Z</dcterms:created>
  <dc:creator>Саша</dc:creator>
  <dc:description/>
  <dc:language>en-US</dc:language>
  <cp:lastModifiedBy>Наталия</cp:lastModifiedBy>
  <dcterms:modified xsi:type="dcterms:W3CDTF">2019-01-14T12:06:13Z</dcterms:modified>
  <cp:revision>90</cp:revision>
  <dc:subject/>
  <dc:title>Ростральные колонны</dc:title>
</cp:coreProperties>
</file>