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824-A0CF-4FCD-BAAA-3EE1C0B4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1C8-F915-4A5F-A7F4-D0F36C1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BBF-B59D-485A-A879-2D514896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77-9917-45FB-BDA0-D2A8F3FF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C133A-326E-4851-9C30-94C5ADF6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9BEA0-6CF5-4AD3-ADF5-B9D7C1E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6490-DC2F-446C-A46C-F55D66BB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FE9F-5E66-4BF2-AEEF-944CC70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E48B6-31B5-465A-A5AF-BFE274B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423E-3074-4429-A2E7-749DAB39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5073-4831-4BBB-96DB-A29539D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75B-141C-4357-BC65-75AE59D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1248-C204-4445-9C41-F26F6C7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4EA7-0E2E-49F9-BB68-A4D4C6F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DBF65-C338-4367-BF1F-6E07834F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88D5-ECCB-4245-95E7-C327B812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1C9D-448F-4C53-BF08-94AE341C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DBE-A5C6-4BE3-92BF-875550E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D4F-14E2-440A-B2A7-46D8B2AC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BA3-B94F-4657-90AA-4CE0B84D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7D5-D35B-4A2F-9DD8-924C50D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0E6-949D-41AD-A743-3050E59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A50-1B66-4867-A7F3-4004040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0DB-0219-4A75-9756-396903B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ECC-AE34-4B7E-9FCA-F05FA4D9D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E1D-28FF-40BD-B401-1FA8B0790C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42960" y="21420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ое бюджетное образовательное учреждение дополнительного профессионального образования центр повышения квалификации специалистов Санкт-Петербурга «Региональный центр оценки качества образования и информационных технолог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508720" y="14130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спользование презентации в образовательном учрежден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нный дидактический материал п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е: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12.43.21., воспитатель,  ДОУ №74, Куликова Наталия Леонид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подаватель: Воронова Александра Серг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85840" y="571680"/>
            <a:ext cx="8858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ифровые образовательные ресур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al-spbphoto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itywalls.ru/ http://leningradlions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encspb.ru/article.php?kod=280401975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mify.org/dictionary.s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kazka.com/myth/grec/grec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ь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1128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643280" y="1844640"/>
            <a:ext cx="9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1280" y="1557360"/>
          <a:ext cx="8064360" cy="477828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643280" y="1844640"/>
            <a:ext cx="900360" cy="92880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1557360"/>
          <a:ext cx="80661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320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1400"/>
                <a:gridCol w="6732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6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repphoto_7170_1009"/>
          <p:cNvPicPr/>
          <p:nvPr/>
        </p:nvPicPr>
        <p:blipFill>
          <a:blip r:embed="rId2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68360" y="1557360"/>
          <a:ext cx="80661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320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1400"/>
                <a:gridCol w="6732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6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repphoto_7170_1009"/>
          <p:cNvPicPr/>
          <p:nvPr/>
        </p:nvPicPr>
        <p:blipFill>
          <a:blip r:embed="rId2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юзер\AppData\Local\Microsoft\Windows\Temporary Internet Files\Content.IE5\IQG9747T\MC900361630[1].wmf"/>
          <p:cNvPicPr/>
          <p:nvPr/>
        </p:nvPicPr>
        <p:blipFill>
          <a:blip r:embed="rId3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юзер\AppData\Local\Microsoft\Windows\Temporary Internet Files\Content.IE5\0ODDNSI6\MC900192165[1].wmf"/>
          <p:cNvPicPr/>
          <p:nvPr/>
        </p:nvPicPr>
        <p:blipFill>
          <a:blip r:embed="rId6"/>
          <a:stretch/>
        </p:blipFill>
        <p:spPr>
          <a:xfrm>
            <a:off x="7308720" y="5805360"/>
            <a:ext cx="1614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юзер\AppData\Local\Microsoft\Windows\Temporary Internet Files\Content.IE5\0ODDNSI6\MC900192165[1].wmf"/>
          <p:cNvPicPr/>
          <p:nvPr/>
        </p:nvPicPr>
        <p:blipFill>
          <a:blip r:embed="rId6"/>
          <a:stretch/>
        </p:blipFill>
        <p:spPr>
          <a:xfrm>
            <a:off x="7308720" y="5805360"/>
            <a:ext cx="1614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9:05:55Z</dcterms:created>
  <dc:creator>Саша</dc:creator>
  <dc:description/>
  <dc:language>en-US</dc:language>
  <cp:lastModifiedBy>Наталия</cp:lastModifiedBy>
  <dcterms:modified xsi:type="dcterms:W3CDTF">2019-01-14T12:06:13Z</dcterms:modified>
  <cp:revision>90</cp:revision>
  <dc:subject/>
  <dc:title>Ростральные колонны</dc:title>
</cp:coreProperties>
</file>