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A83-E244-4274-B339-8EC8D55B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50B-9BF6-444C-93C6-3D749A14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875-19D6-437A-A6E8-8845C5E2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F63-297A-4BA1-98F7-9482EAC9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B073-3765-417E-BA70-B068598E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001E-DB20-4479-9280-1845DCC9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6742-8F66-4BAC-8781-66E30280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306D-FDA6-4075-A953-9F45874E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ACFA-E86D-4C99-9004-A608D0BD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8786-DA5B-47C3-B7DB-C01B144E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8BE3-49BB-48E9-B04F-3301303C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47A-A034-4743-8EBB-D6E065F4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F100-F9BB-4CC2-A696-93C778B8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F6DE-6154-434E-B781-9AA927B8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F75B-3819-406E-804E-E3655249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E001-1DE8-4014-A940-2AD9C46F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AFEC-B970-4B99-A58D-A62DC6C0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7C8-1F4E-42DB-986E-CB04E52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03B-7CA4-4163-AFD7-6380B3B2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2CC-89C0-4644-AC69-63B19F2E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0FA-60AD-4E0D-BD31-5447599F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809-10A8-4519-BADB-BC54B0B3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02C-721A-46A1-A500-AA090E4D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610-78E5-4328-A2E1-8E7233F5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FACD-25C8-4E97-BBCA-D0C556E03DA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DC98-57DE-40E0-9352-E1157B2D5D93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two-schoolsev.ucoz.ru/images/img122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13002.rimg.info/icon/1777501000d09386badf73c1fc226616ad709c626a.gif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rasnsc.ucoz.ru/_nw/0/90565465.pn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materinstvo.ru/uploads/1236385780/post-70101-1236449698_thumb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rum.materinstvo.ru/uploads/1236385780/post-70101-1236449698_thumb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8944_c410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7/oops358.1e/0_17376_1f10d9cf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ousosh7.ucoz.ru/_ph/4/2/77992589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.cap.ru/home/4610/839688d5541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273.edusite.ru/images/62286315.pn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1219320" y="-195120"/>
            <a:ext cx="7991280" cy="227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715000" y="21430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85840" y="5786280"/>
            <a:ext cx="86439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хорошева Наталья Владимировн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2289240"/>
            <a:ext cx="3714840" cy="388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5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6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6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60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ученики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0" name="Picture 8" descr="1777501000d09386badf73c1fc226616ad709c62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3429000"/>
            <a:ext cx="2745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75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1.Подлежащее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(сущ. или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местоимение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2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m, is, ar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3.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дополнение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( сущ., прилаг., числительное)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7" descr="Картинка 25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27400"/>
            <a:ext cx="4572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не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Picture 7" descr="Картинка 1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Ему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Picture 7" descr="Картинка 1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ца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ая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Ей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7" descr="Картинка 167 из 64000"/>
          <p:cNvPicPr/>
          <p:nvPr/>
        </p:nvPicPr>
        <p:blipFill>
          <a:blip r:embed="rId1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а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9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ебе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3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И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7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560" y="103320"/>
            <a:ext cx="831708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ставьте из слов предложение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56000" y="2133360"/>
            <a:ext cx="46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,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i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pupi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pilo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teach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cosmonau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1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0" y="2214720"/>
            <a:ext cx="4330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57240" y="3143160"/>
            <a:ext cx="72867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«to be»= 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m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s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,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are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- </a:t>
            </a:r>
            <a:r>
              <a:rPr b="1" lang="en-US" sz="36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6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(один) –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72"/>
                </a:solidFill>
                <a:latin typeface="Verdana"/>
              </a:rPr>
              <a:t>(много)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85960" y="142920"/>
            <a:ext cx="657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181440" y="102960"/>
            <a:ext cx="9325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Проверь себя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9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ilo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teach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smonau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4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179280" y="2276640"/>
            <a:ext cx="37083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кращенные формы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071600" y="1643040"/>
            <a:ext cx="5072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m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H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h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t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 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You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They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7" name="Picture 8" descr="Картинка 1043 из 64000"/>
          <p:cNvPicPr/>
          <p:nvPr/>
        </p:nvPicPr>
        <p:blipFill>
          <a:blip r:embed="rId1"/>
          <a:stretch/>
        </p:blipFill>
        <p:spPr>
          <a:xfrm>
            <a:off x="0" y="1773360"/>
            <a:ext cx="410832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сточник информации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ttps://www.google.com/search?q=%D0%BA%D0%B0%D1%80%D1%82%D0%B8%D0%BD%D0%BA%D0%B8+%D0%B1%D1%83%D1%80%D0%B0%D1%82%D0%B8%D0%BD%D0%BE+%D0%B8%D0%B7+%D0%BC%D1%83%D0%BB%D1%8C%D1%82%D0%B8%D0%BA%D0%B0&amp;rlz=1C1NHXL_ruRU762RU764&amp;tbm=isch&amp;tbo=u&amp;source=univ&amp;sa=X&amp;ved=2ahUKEwi5jt3Ooe_fAhVPpIsKHUfZDaEQsAR6BAgCEAE&amp;biw=1024&amp;bih=626#imgrc=9S0uWL6TXQU54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560" y="102960"/>
            <a:ext cx="7885080" cy="17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br>
              <a:rPr sz="4000"/>
            </a:b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200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7" descr="188-d2teo"/>
          <p:cNvPicPr/>
          <p:nvPr/>
        </p:nvPicPr>
        <p:blipFill>
          <a:blip r:embed="rId1"/>
          <a:stretch/>
        </p:blipFill>
        <p:spPr>
          <a:xfrm>
            <a:off x="2411280" y="3068640"/>
            <a:ext cx="525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Verdana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730872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0" lang="ru-RU" sz="7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ченик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10" descr="Картинка 3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2440" y="1557360"/>
            <a:ext cx="29415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ученица 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11" descr="Картинка 11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3286080"/>
            <a:ext cx="2233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99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684720" y="3357720"/>
            <a:ext cx="741708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80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8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8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8000" spc="-1" strike="noStrike">
                <a:solidFill>
                  <a:srgbClr val="3333cc"/>
                </a:solidFill>
                <a:latin typeface="Verdana"/>
              </a:rPr>
              <a:t>a dog</a:t>
            </a:r>
            <a:r>
              <a:rPr b="0" lang="ru-RU" sz="80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8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Это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 с</a:t>
            </a:r>
            <a:r>
              <a:rPr b="0" lang="ru-RU" sz="5400" spc="-1" strike="noStrike">
                <a:solidFill>
                  <a:srgbClr val="3333cc"/>
                </a:solidFill>
                <a:latin typeface="Verdana"/>
              </a:rPr>
              <a:t>О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бака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8" descr="Картинка 125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7152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pupil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Ты/Вы</a:t>
            </a:r>
            <a:r>
              <a:rPr b="0" lang="ru-RU" sz="5400" spc="-1" strike="noStrike">
                <a:solidFill>
                  <a:srgbClr val="3333cc"/>
                </a:solidFill>
                <a:latin typeface="Verdana"/>
              </a:rPr>
              <a:t> ученик. </a:t>
            </a:r>
            <a:r>
              <a:rPr b="0" lang="ru-RU" sz="6000" spc="-1" strike="noStrike">
                <a:solidFill>
                  <a:srgbClr val="3333cc"/>
                </a:solidFill>
                <a:latin typeface="Verdana"/>
              </a:rPr>
              <a:t>/и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-142920" y="2786040"/>
            <a:ext cx="36385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lang="ru-RU" sz="8400" spc="-1" strike="noStrike">
                <a:solidFill>
                  <a:srgbClr val="9999ff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356840"/>
            <a:ext cx="8929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             </a:t>
            </a:r>
            <a:r>
              <a:rPr b="1" lang="en-US" sz="66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6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Picture 8" descr="Картинка 1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3000240"/>
            <a:ext cx="2916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25804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Picture 8" descr="Картинка 5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4720" y="3778200"/>
            <a:ext cx="58831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АНГЛИЙСКИЙ ЯЗЫК</cp:lastModifiedBy>
  <dcterms:modified xsi:type="dcterms:W3CDTF">2019-01-15T07:50:39Z</dcterms:modified>
  <cp:revision>47</cp:revision>
  <dc:subject/>
  <dc:title>Глагол “to be” в английском языке</dc:title>
</cp:coreProperties>
</file>