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445-9BB2-453E-8295-07E5A514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885-6EC7-413D-AC29-20D83066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144-35C2-4620-B639-4C1EE703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EEB-B009-4C9C-B03A-F08F3185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F891-79BF-476E-AE0D-DF7B9F46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4378-370C-44B9-A834-E365BC4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A1A4-851C-4AD6-A094-D0C7E108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4E26-E4A3-4B28-83D3-970FF0D4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D08D-0686-42C4-BAB8-CB7C91D5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D71D-7E43-4C10-A2B8-178FF767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6B49-0354-4A26-9657-1243CCB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A03-27C3-46D4-AF4F-C012943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04CC-F6CA-47E2-A072-31B91377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D3B-BF3F-4955-A3F5-EE2C84F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B3DD-A022-4EB3-A3AD-4C2C0DB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A0A7-7166-4DCB-BADC-8EA7726A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DAB5-BF7F-4DBA-8713-985F4259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531-9282-425C-A70A-1BCD36C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FA5-A4FD-4460-898C-4ECF5A24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E9C-2B3C-4E7C-8966-3ED5E63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A6F-2B79-4760-A135-97CEE7C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488-F0F0-4492-A654-91D3A3C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182-B2FA-4E78-9A1E-EC894AB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A02-EE46-4E1E-BFCE-F0DAA81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21B-E927-474E-B0FA-360B0027901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76BB-B5ED-401B-9782-E9A5BCFEF920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two-schoolsev.ucoz.ru/images/img122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13002.rimg.info/icon/1777501000d09386badf73c1fc226616ad709c626a.gi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rasnsc.ucoz.ru/_nw/0/90565465.p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8944_c41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7/oops358.1e/0_17376_1f10d9cf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usosh7.ucoz.ru/_ph/4/2/77992589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cap.ru/home/4610/839688d5541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273.edusite.ru/images/62286315.pn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1219320" y="-195120"/>
            <a:ext cx="7991280" cy="227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715000" y="21430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5840" y="5786280"/>
            <a:ext cx="8643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хорошева Наталья Владимиро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2289240"/>
            <a:ext cx="3714840" cy="388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5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6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к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0" name="Picture 8" descr="1777501000d09386badf73c1fc226616ad709c62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3429000"/>
            <a:ext cx="2745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75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1.Подлежащее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(сущ. или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местоимени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2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m, is, a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3.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дополнение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( сущ., прилаг., числительное)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7" descr="Картинка 25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27400"/>
            <a:ext cx="4572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н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му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ца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ая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й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7" descr="Картинка 167 из 64000"/>
          <p:cNvPicPr/>
          <p:nvPr/>
        </p:nvPicPr>
        <p:blipFill>
          <a:blip r:embed="rId1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еб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И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560" y="103320"/>
            <a:ext cx="831708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ставьте из слов предложение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1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57240" y="3143160"/>
            <a:ext cx="7286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«to be»=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m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s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are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- </a:t>
            </a:r>
            <a:r>
              <a:rPr b="1" lang="en-US" sz="36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(один) –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Verdana"/>
              </a:rPr>
              <a:t>(много)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85960" y="142920"/>
            <a:ext cx="65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4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кращенные формы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71600" y="1643040"/>
            <a:ext cx="5072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 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Picture 8" descr="Картинка 1043 из 64000"/>
          <p:cNvPicPr/>
          <p:nvPr/>
        </p:nvPicPr>
        <p:blipFill>
          <a:blip r:embed="rId1"/>
          <a:stretch/>
        </p:blipFill>
        <p:spPr>
          <a:xfrm>
            <a:off x="0" y="1773360"/>
            <a:ext cx="41083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сточник информации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ttps://www.google.com/search?q=%D0%BA%D0%B0%D1%80%D1%82%D0%B8%D0%BD%D0%BA%D0%B8+%D0%B1%D1%83%D1%80%D0%B0%D1%82%D0%B8%D0%BD%D0%BE+%D0%B8%D0%B7+%D0%BC%D1%83%D0%BB%D1%8C%D1%82%D0%B8%D0%BA%D0%B0&amp;rlz=1C1NHXL_ruRU762RU764&amp;tbm=isch&amp;tbo=u&amp;source=univ&amp;sa=X&amp;ved=2ahUKEwi5jt3Ooe_fAhVPpIsKHUfZDaEQsAR6BAgCEAE&amp;biw=1024&amp;bih=626#imgrc=9S0uWL6TXQU54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102960"/>
            <a:ext cx="788508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br>
              <a:rPr sz="4000"/>
            </a:b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20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7" descr="188-d2teo"/>
          <p:cNvPicPr/>
          <p:nvPr/>
        </p:nvPicPr>
        <p:blipFill>
          <a:blip r:embed="rId1"/>
          <a:stretch/>
        </p:blipFill>
        <p:spPr>
          <a:xfrm>
            <a:off x="2411280" y="3068640"/>
            <a:ext cx="525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Verdana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730872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0" lang="ru-RU" sz="7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ченик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0" descr="Картинка 3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2440" y="1557360"/>
            <a:ext cx="2941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ца 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1" descr="Картинка 11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3286080"/>
            <a:ext cx="2233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684720" y="3357720"/>
            <a:ext cx="741708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8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8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8000" spc="-1" strike="noStrike">
                <a:solidFill>
                  <a:srgbClr val="3333cc"/>
                </a:solidFill>
                <a:latin typeface="Verdana"/>
              </a:rPr>
              <a:t>a dog</a:t>
            </a:r>
            <a:r>
              <a:rPr b="0" lang="ru-RU" sz="80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Эт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с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бака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8" descr="Картинка 125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715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Ты/Вы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 ученик. </a:t>
            </a:r>
            <a:r>
              <a:rPr b="0" lang="ru-RU" sz="6000" spc="-1" strike="noStrike">
                <a:solidFill>
                  <a:srgbClr val="3333cc"/>
                </a:solidFill>
                <a:latin typeface="Verdana"/>
              </a:rPr>
              <a:t>/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42920" y="2786040"/>
            <a:ext cx="36385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lang="ru-RU" sz="8400" spc="-1" strike="noStrike">
                <a:solidFill>
                  <a:srgbClr val="9999ff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8929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             </a:t>
            </a:r>
            <a:r>
              <a:rPr b="1" lang="en-US" sz="6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6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Picture 8" descr="Картинка 1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3000240"/>
            <a:ext cx="2916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25804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Picture 8" descr="Картинка 5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4720" y="3778200"/>
            <a:ext cx="5883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АНГЛИЙСКИЙ ЯЗЫК</cp:lastModifiedBy>
  <dcterms:modified xsi:type="dcterms:W3CDTF">2019-01-15T07:50:39Z</dcterms:modified>
  <cp:revision>47</cp:revision>
  <dc:subject/>
  <dc:title>Глагол “to be” в английском языке</dc:title>
</cp:coreProperties>
</file>