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BB6-09EF-4943-9687-1A38C165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938-775A-4A76-83BE-5DFD8B45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841-BE78-48D6-9499-6B65A64F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18F-59CA-4444-A1D6-DC139EB9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3B53-DAE2-4AEB-A673-A9BBDC9F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3811-535E-4E4B-B61C-4A16942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5271-5F3F-42DB-B58E-DFEC3B10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671E-C960-44FF-90A8-759AC9E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9023-45BC-44FB-810B-7CA54EF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B94-3AB5-40F0-BAFC-31FFA09B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1E8D-8EC2-47FD-B275-DB749516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320-2707-47D8-987B-8D57F1A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94D6-F4DA-4E9F-A030-3DCFA6B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485D-530C-4AC0-8100-19DEE65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4298-B5F4-4E32-B03E-25BF7369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C3EE-603C-46CD-91B0-C0F36A65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49D1-549D-449B-9C61-FE1E7C6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828-6FA4-4E60-8D31-BA1532A1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0E-DBA6-4DD2-A013-F5FEFAFC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2F9-E6EE-4A24-98B6-ADCE2A5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D05-B912-4D41-9264-1331A64B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BC9-B945-496F-85AC-3E573EC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996-81AA-4E45-95B3-7AA97C0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948-BBAB-4057-9E54-0F04841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C40B-C243-4365-AF03-415DAB438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65D-427E-4383-931F-0B84711327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Поселок, </a:t>
            </a: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 в котором </a:t>
            </a: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        я живу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P1030612"/>
          <p:cNvPicPr/>
          <p:nvPr/>
        </p:nvPicPr>
        <p:blipFill>
          <a:blip r:embed="rId1"/>
          <a:stretch/>
        </p:blipFill>
        <p:spPr>
          <a:xfrm>
            <a:off x="324000" y="260280"/>
            <a:ext cx="8551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Добыча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SC_0527"/>
          <p:cNvPicPr/>
          <p:nvPr/>
        </p:nvPicPr>
        <p:blipFill>
          <a:blip r:embed="rId1"/>
          <a:stretch/>
        </p:blipFill>
        <p:spPr>
          <a:xfrm>
            <a:off x="179280" y="189000"/>
            <a:ext cx="87505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Рисунок3"/>
          <p:cNvPicPr/>
          <p:nvPr/>
        </p:nvPicPr>
        <p:blipFill>
          <a:blip r:embed="rId1"/>
          <a:stretch/>
        </p:blipFill>
        <p:spPr>
          <a:xfrm>
            <a:off x="324000" y="260280"/>
            <a:ext cx="8551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MG0105A"/>
          <p:cNvPicPr/>
          <p:nvPr/>
        </p:nvPicPr>
        <p:blipFill>
          <a:blip r:embed="rId1"/>
          <a:stretch/>
        </p:blipFill>
        <p:spPr>
          <a:xfrm>
            <a:off x="611280" y="189000"/>
            <a:ext cx="812628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20"/>
          <p:cNvPicPr/>
          <p:nvPr/>
        </p:nvPicPr>
        <p:blipFill>
          <a:blip r:embed="rId1"/>
          <a:stretch/>
        </p:blipFill>
        <p:spPr>
          <a:xfrm>
            <a:off x="1908000" y="1484280"/>
            <a:ext cx="5473800" cy="4022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-45864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Поселок, </a:t>
            </a: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 в котором    я                    живу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Герб нашего посел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10" descr="GERB-OK"/>
          <p:cNvPicPr/>
          <p:nvPr/>
        </p:nvPicPr>
        <p:blipFill>
          <a:blip r:embed="rId1"/>
          <a:stretch/>
        </p:blipFill>
        <p:spPr>
          <a:xfrm>
            <a:off x="2195640" y="1628640"/>
            <a:ext cx="5441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9"/>
          <p:cNvPicPr/>
          <p:nvPr/>
        </p:nvPicPr>
        <p:blipFill>
          <a:blip r:embed="rId1"/>
          <a:stretch/>
        </p:blipFill>
        <p:spPr>
          <a:xfrm>
            <a:off x="539640" y="189000"/>
            <a:ext cx="822024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F-35"/>
          <p:cNvPicPr/>
          <p:nvPr/>
        </p:nvPicPr>
        <p:blipFill>
          <a:blip r:embed="rId1"/>
          <a:stretch/>
        </p:blipFill>
        <p:spPr>
          <a:xfrm>
            <a:off x="250920" y="189000"/>
            <a:ext cx="8661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-19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Поселок"/>
          <p:cNvPicPr/>
          <p:nvPr/>
        </p:nvPicPr>
        <p:blipFill>
          <a:blip r:embed="rId1"/>
          <a:stretch/>
        </p:blipFill>
        <p:spPr>
          <a:xfrm>
            <a:off x="324000" y="260280"/>
            <a:ext cx="8551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SKOOL"/>
          <p:cNvPicPr/>
          <p:nvPr/>
        </p:nvPicPr>
        <p:blipFill>
          <a:blip r:embed="rId1"/>
          <a:stretch/>
        </p:blipFill>
        <p:spPr>
          <a:xfrm>
            <a:off x="179280" y="333360"/>
            <a:ext cx="8731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F-33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P1030565"/>
          <p:cNvPicPr/>
          <p:nvPr/>
        </p:nvPicPr>
        <p:blipFill>
          <a:blip r:embed="rId1"/>
          <a:stretch/>
        </p:blipFill>
        <p:spPr>
          <a:xfrm>
            <a:off x="250920" y="189000"/>
            <a:ext cx="86677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36:39Z</dcterms:created>
  <dc:creator>Димон</dc:creator>
  <dc:description/>
  <dc:language>en-US</dc:language>
  <cp:lastModifiedBy>Башмаковы</cp:lastModifiedBy>
  <dcterms:modified xsi:type="dcterms:W3CDTF">2019-01-15T15:31:24Z</dcterms:modified>
  <cp:revision>8</cp:revision>
  <dc:subject/>
  <dc:title>Поселок, в котором я живу</dc:title>
</cp:coreProperties>
</file>