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3FB-07D5-49B8-8409-0DE416A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FB4-C2EA-406D-B341-77E44B5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DCE-E105-4841-A9E1-ECB08AF1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0AF-25DD-4555-8FE9-40E2B88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3EF-4CF5-43D5-A3A8-5E91925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256E-FE6B-4772-B8B6-507F4C1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273A-89C0-4B81-A1DD-8A1FC9A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201C-24CF-49B4-AF52-5A4E05A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38D-34E7-4F06-AB7F-163D008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2F46-2173-4E18-809F-C5E997CE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B19B-69CA-4088-B09D-770999E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C39-30A6-4A21-999A-CD02973D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6D1-E09F-4214-92A8-19CD862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A27-7F5E-475F-B3A6-84A93F0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E472-DE5A-4FB7-92F1-CEC0E3E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ECD-D0D0-4899-9AA6-2DC1EF19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B2FA-1398-4426-8ADE-39D960BC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10E-2581-4F85-8DC5-131B46B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CC0-2E0F-4AE9-994F-D4DCCD1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D68-461D-4085-834B-7ECBB988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DE9-8B89-46C7-A029-34F0F61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83C-7F1D-4F11-925E-977AB3A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A1E-4702-4A2D-BE2D-82FD022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5F1-76A0-47CC-A425-1691AE7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2FF1-8468-46B4-B98B-7F44965EC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E5C-592E-4173-A16E-77173D699B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Поселок,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в котором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       я живу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P1030612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Добыч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SC_0527"/>
          <p:cNvPicPr/>
          <p:nvPr/>
        </p:nvPicPr>
        <p:blipFill>
          <a:blip r:embed="rId1"/>
          <a:stretch/>
        </p:blipFill>
        <p:spPr>
          <a:xfrm>
            <a:off x="179280" y="189000"/>
            <a:ext cx="8750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Рисунок3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MG0105A"/>
          <p:cNvPicPr/>
          <p:nvPr/>
        </p:nvPicPr>
        <p:blipFill>
          <a:blip r:embed="rId1"/>
          <a:stretch/>
        </p:blipFill>
        <p:spPr>
          <a:xfrm>
            <a:off x="611280" y="189000"/>
            <a:ext cx="812628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20"/>
          <p:cNvPicPr/>
          <p:nvPr/>
        </p:nvPicPr>
        <p:blipFill>
          <a:blip r:embed="rId1"/>
          <a:stretch/>
        </p:blipFill>
        <p:spPr>
          <a:xfrm>
            <a:off x="1908000" y="1484280"/>
            <a:ext cx="5473800" cy="4022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-45864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Поселок, </a:t>
            </a:r>
            <a:br>
              <a:rPr sz="9600"/>
            </a:br>
            <a:r>
              <a:rPr b="1" lang="ru-RU" sz="9600" spc="-1" strike="noStrike">
                <a:solidFill>
                  <a:srgbClr val="ffcc00"/>
                </a:solidFill>
                <a:latin typeface="Arial Black"/>
              </a:rPr>
              <a:t> в котором    я                    живу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Герб нашего посел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10" descr="GERB-OK"/>
          <p:cNvPicPr/>
          <p:nvPr/>
        </p:nvPicPr>
        <p:blipFill>
          <a:blip r:embed="rId1"/>
          <a:stretch/>
        </p:blipFill>
        <p:spPr>
          <a:xfrm>
            <a:off x="2195640" y="1628640"/>
            <a:ext cx="5441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9"/>
          <p:cNvPicPr/>
          <p:nvPr/>
        </p:nvPicPr>
        <p:blipFill>
          <a:blip r:embed="rId1"/>
          <a:stretch/>
        </p:blipFill>
        <p:spPr>
          <a:xfrm>
            <a:off x="539640" y="189000"/>
            <a:ext cx="822024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F-35"/>
          <p:cNvPicPr/>
          <p:nvPr/>
        </p:nvPicPr>
        <p:blipFill>
          <a:blip r:embed="rId1"/>
          <a:stretch/>
        </p:blipFill>
        <p:spPr>
          <a:xfrm>
            <a:off x="250920" y="189000"/>
            <a:ext cx="8661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-19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Поселок"/>
          <p:cNvPicPr/>
          <p:nvPr/>
        </p:nvPicPr>
        <p:blipFill>
          <a:blip r:embed="rId1"/>
          <a:stretch/>
        </p:blipFill>
        <p:spPr>
          <a:xfrm>
            <a:off x="324000" y="260280"/>
            <a:ext cx="85518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SKOOL"/>
          <p:cNvPicPr/>
          <p:nvPr/>
        </p:nvPicPr>
        <p:blipFill>
          <a:blip r:embed="rId1"/>
          <a:stretch/>
        </p:blipFill>
        <p:spPr>
          <a:xfrm>
            <a:off x="179280" y="333360"/>
            <a:ext cx="8731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F-33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1030565"/>
          <p:cNvPicPr/>
          <p:nvPr/>
        </p:nvPicPr>
        <p:blipFill>
          <a:blip r:embed="rId1"/>
          <a:stretch/>
        </p:blipFill>
        <p:spPr>
          <a:xfrm>
            <a:off x="250920" y="189000"/>
            <a:ext cx="86677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36:39Z</dcterms:created>
  <dc:creator>Димон</dc:creator>
  <dc:description/>
  <dc:language>en-US</dc:language>
  <cp:lastModifiedBy>Башмаковы</cp:lastModifiedBy>
  <dcterms:modified xsi:type="dcterms:W3CDTF">2019-01-15T15:31:24Z</dcterms:modified>
  <cp:revision>8</cp:revision>
  <dc:subject/>
  <dc:title>Поселок, в котором я живу</dc:title>
</cp:coreProperties>
</file>