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11D-30B3-419B-95D7-3FB792F9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148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30D-CCA9-4D52-80FD-0D6D4C3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00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968-91A1-4F55-ABF9-2154698C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000" y="176796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000" y="4371480"/>
            <a:ext cx="30963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F93-F001-4C87-BA01-D80F2F2E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C1B-FC7E-4F68-8C54-4BC3575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826-C12F-40E7-A4FB-FDC7C6BB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012-4A40-4AC8-AE18-E688C268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EDB-1F07-46EA-B250-493A495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1680"/>
            <a:ext cx="96170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1B7-7026-423D-AE89-D0FED6E7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BAC-C5AE-47E3-AB7F-C771A6A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000" y="437148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90A-25F4-4EC8-B91D-5DDF55C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000" y="1767960"/>
            <a:ext cx="4692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1480"/>
            <a:ext cx="9617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2E6-56D2-458C-B548-B018CC87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1680"/>
            <a:ext cx="9617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7960"/>
            <a:ext cx="9617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6440"/>
            <a:ext cx="248616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5800" y="6886440"/>
            <a:ext cx="338436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5840" y="6886440"/>
            <a:ext cx="2485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619C-FAFB-409E-8512-3B3A2A27060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1240" y="480600"/>
            <a:ext cx="833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0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Правовая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грамотность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     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	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15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Выполнила: классный руководитель</a:t>
            </a:r>
            <a:br>
              <a:rPr sz="1500"/>
            </a:br>
            <a:r>
              <a:rPr b="1" lang="ru-RU" sz="15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 Нанарова Оксана Александров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920" y="471600"/>
            <a:ext cx="5473440" cy="543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10120" y="3816360"/>
            <a:ext cx="4781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fdfd"/>
                </a:solidFill>
                <a:latin typeface="Times New Roman"/>
                <a:ea typeface="Microsoft YaHei"/>
              </a:rPr>
              <a:t>шестикласс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704000" y="4176720"/>
            <a:ext cx="2735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6000" y="525600"/>
            <a:ext cx="3276360" cy="2282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600" y="287280"/>
            <a:ext cx="10058400" cy="70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ahoma"/>
                <a:ea typeface="Microsoft YaHei"/>
              </a:rPr>
              <a:t>Правонарушения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</a:t>
            </a:r>
            <a:br>
              <a:rPr sz="37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реступления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Microsoft YaHei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- общественн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пасно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деяние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(уголовная ответственность) 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проступки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-это действие (бездействие), отличающиеся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небольшой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 общественной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пасностью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Microsoft YaHei"/>
              </a:rPr>
              <a:t>(административная ответствен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46960" y="5184720"/>
            <a:ext cx="2165400" cy="2282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" y="144360"/>
            <a:ext cx="10774080" cy="74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дминистративная ответственн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мышленное причинение телесного поврежд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лкое хищ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мышленные уничтожение либо повреждение имуще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рушение требований пожарной безопасности в лесах или на торфяник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зжигание костров в запрещенных мест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лкое хулиганств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рушение правил пользования транспортным средст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ничтожение, повреждение либо утрату историко-культурных цен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законные действияв отношении холодного оружия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ответственности привлекаются с 16 лет.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штраф, предупреждение, исправительные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96000" y="4518000"/>
            <a:ext cx="3657600" cy="275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874800"/>
            <a:ext cx="107791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бийство , причинение смерти по неосторо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мышленное причинение тяжкого телесного поврежд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насилование , похищение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ажа,  грабеж,  разбой, вымога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гон транспортного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мышленные уничтожение либо повреждение 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хват заложника,  хулига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ведомо ложное сообщение об опас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сквернение сооружений и порча 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276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71360"/>
            <a:ext cx="102232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оловн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5840" y="5688000"/>
            <a:ext cx="105282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ественные работы;   штраф;   исправительные работы;  арест;   ограничение свободы; лишение своб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казание наступает с  14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7200" y="19836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171360"/>
            <a:ext cx="10223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5840" y="5688000"/>
            <a:ext cx="10528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6000" y="222120"/>
            <a:ext cx="1045044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о на защиту от применения методов физического и психологического на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сциплина в образовательном учреждении поддерживается на основе уважения человеческого достоинства обучающихся, воспитанников, педагогов. Применение методов физического и психического насилия по отношению к обучающимся, воспитанникам не допускается..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кон РФ “Об образовании”, ст.50, п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          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</a:rPr>
              <a:t>Цифры   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Росстата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947880"/>
            <a:ext cx="106077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учете стоит боле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330 тыс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есовершеннолетних и около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50 тыс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 уголовной ответственности каждый год привлекаетс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олее 80 тыс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ц в возраст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4 –18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280" y="482436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00360" y="4824360"/>
            <a:ext cx="6777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655640"/>
            <a:ext cx="5256000" cy="57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35280" y="396720"/>
            <a:ext cx="6048360" cy="65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езнание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закона   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е освобождает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от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ответственности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а  умышленное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 нарушение</a:t>
            </a: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приводи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к тяжелым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последств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ЗАКОН</a:t>
            </a:r>
            <a:r>
              <a:rPr b="1" lang="ru-RU" sz="4000" spc="-1" strike="noStrike">
                <a:solidFill>
                  <a:srgbClr val="fefdfd"/>
                </a:solidFill>
                <a:latin typeface="Tahoma"/>
                <a:ea typeface="Microsoft YaHei"/>
              </a:rPr>
              <a:t> – нормативно-правовой акт, содержащий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  <a:ea typeface="Microsoft YaHei"/>
              </a:rPr>
              <a:t>общеобязательные правила поведения</a:t>
            </a:r>
            <a:r>
              <a:rPr b="1" lang="ru-RU" sz="4000" spc="-1" strike="noStrike">
                <a:solidFill>
                  <a:srgbClr val="fefdfd"/>
                </a:solidFill>
                <a:latin typeface="Tahoma"/>
                <a:ea typeface="Microsoft YaHei"/>
              </a:rPr>
              <a:t> общественной жизни, принятый правитель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59280" y="934920"/>
            <a:ext cx="460872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69440" y="4548240"/>
            <a:ext cx="2031840" cy="287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24880" y="1440000"/>
            <a:ext cx="2066760" cy="264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032360"/>
            <a:ext cx="4524480" cy="3397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520" y="157320"/>
            <a:ext cx="984240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2760" indent="-212760"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нормативные документы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Конституция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«Конвенция о правах ребенка» «Семейны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«Граждански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«Трудовой кодекс» 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«Уголовный кодекс»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0000" y="4759200"/>
            <a:ext cx="38876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9640" y="36360"/>
            <a:ext cx="1630440" cy="7378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080" y="160200"/>
            <a:ext cx="9936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равонарушение  —</a:t>
            </a:r>
            <a:r>
              <a:rPr b="1" lang="ru-RU" sz="4000" spc="-1" strike="noStrike">
                <a:solidFill>
                  <a:srgbClr val="ff0000"/>
                </a:solidFill>
                <a:latin typeface="Tw Cen MT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любое деяние, нарушающее какие-либо нормы пра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00" y="2203560"/>
            <a:ext cx="1035828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онарушителями могут быть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н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раждане, достигшие к моменту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ерше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равонарушени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  убийство, кражу, разбой, похищение человека, вымогательство, умышленное причинение вреда здоровью, захват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ложника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угон автомобиля, вандализм, уголовная ответственность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14-летнего возра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3960" y="396360"/>
            <a:ext cx="10058400" cy="69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К несовершеннолетним применяется   наказание,</a:t>
            </a:r>
            <a:br>
              <a:rPr sz="3700"/>
            </a:br>
            <a:r>
              <a:rPr b="1" lang="ru-RU" sz="3700" spc="-1" strike="noStrike">
                <a:solidFill>
                  <a:srgbClr val="fefdfd"/>
                </a:solidFill>
                <a:latin typeface="Tw Cen MT"/>
                <a:ea typeface="Microsoft YaHei"/>
              </a:rPr>
              <a:t> а  при освобождении от наказания судом возможно помещение их в  </a:t>
            </a:r>
            <a:r>
              <a:rPr b="1" lang="ru-RU" sz="3700" spc="-1" strike="noStrike">
                <a:solidFill>
                  <a:srgbClr val="ff0000"/>
                </a:solidFill>
                <a:latin typeface="Tw Cen MT"/>
                <a:ea typeface="Microsoft YaHei"/>
              </a:rPr>
              <a:t>специальное учебно-воспитательное учреждение закрытого    типа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7280" y="446400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14720" y="4392720"/>
            <a:ext cx="59212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10691640" cy="72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c83"/>
            </a:gs>
            <a:gs pos="100000">
              <a:srgbClr val="01293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583560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360" y="216000"/>
            <a:ext cx="10547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21:28:45Z</dcterms:created>
  <dc:creator>Андрей Андреев</dc:creator>
  <dc:description/>
  <dc:language>en-US</dc:language>
  <cp:lastModifiedBy>Андрей Андреев</cp:lastModifiedBy>
  <dcterms:modified xsi:type="dcterms:W3CDTF">2019-01-13T01:13:53Z</dcterms:modified>
  <cp:revision>4</cp:revision>
  <dc:subject/>
  <dc:title/>
</cp:coreProperties>
</file>