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556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16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-360"/>
            <a:ext cx="32720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16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320"/>
            <a:ext cx="32720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6FCDB-97BF-4236-91A9-85906F627D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AEE-4BA3-4B7E-94C3-E81989B0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30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480"/>
            <a:ext cx="90630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9CD-FBDD-4900-A768-2251BD71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796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48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148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D39-19C0-4555-A5DA-C903BCD1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1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7960"/>
            <a:ext cx="29181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7960"/>
            <a:ext cx="29181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480"/>
            <a:ext cx="29181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1480"/>
            <a:ext cx="29181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1480"/>
            <a:ext cx="29181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911-3AA4-4F47-B8CC-EDAA322D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30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34E-AED9-4072-8B6F-099242ED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30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981-C45A-43CB-B259-C1FB17EC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2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7960"/>
            <a:ext cx="4422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476-3FA1-49C1-A66C-664E47AB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EC6-BF92-47A4-AD9E-FD7BAC40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300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CB0-B035-4B0F-95DB-1BFCB3B7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7960"/>
            <a:ext cx="4422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48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6BE-7C78-42C1-AE06-CC6CE1E6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2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796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148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8A9-4149-41E0-81EA-EE4852B5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7960"/>
            <a:ext cx="4422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480"/>
            <a:ext cx="90630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A1B5-B41E-486C-B7B3-3230C81D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30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4195A-7FF8-4B94-BD75-386A1DEC6B2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0000" y="360360"/>
            <a:ext cx="7200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Александ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0000ff"/>
                </a:solidFill>
                <a:latin typeface="Arial"/>
              </a:rPr>
              <a:t>Бл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к   поэ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«Двенадца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5940360"/>
            <a:ext cx="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7215120"/>
            <a:ext cx="181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60360" y="4500720"/>
            <a:ext cx="792000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Черный веч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Белый с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Ветер, вете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На ногах не стоит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Ветер, ветер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На всем божьем све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5600" y="0"/>
            <a:ext cx="9823320" cy="7559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-181080"/>
            <a:ext cx="1979640" cy="774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Черное, черное не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лоб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устая зл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ипит в груд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Черная злоба. Святая злоб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варищ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ляди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б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99280" y="-34920"/>
            <a:ext cx="2879640" cy="759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тарушка, как курица, кой-как перемотнулась через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Ох, Матушка-Заступн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Ох, большевики загонят в гроб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Что нынче  невеселый,  Товарищ по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н барыня в каракуле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Уж мы плакали, плакал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277920"/>
            <a:ext cx="48610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Вся власть Учредительному Собр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4140360"/>
            <a:ext cx="1979280" cy="32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А рядом жмется  шерстью жестк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Поджавши хвост  паршивый п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38920" y="0"/>
            <a:ext cx="3240000" cy="755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переди  -  с кровавым флаг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И за вьюгой неви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И от пули невред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ежной поступью надвьюжной, Снежной россыпью жемчужн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 белом венчике  из роз - Вперед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Иисус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3240000" cy="755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варищ,  винтовку держи, не тру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альнем-ка пулей в Святую Русь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 кондов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 избян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 толстозаду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Эх, ты, горе-горьк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ладкое жит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ваное пальтиш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стрийское руж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 Андреев</cp:lastModifiedBy>
  <dcterms:modified xsi:type="dcterms:W3CDTF">2019-01-09T19:05:20Z</dcterms:modified>
  <cp:revision>1</cp:revision>
  <dc:subject/>
  <dc:title/>
</cp:coreProperties>
</file>