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6280" y="812520"/>
            <a:ext cx="5335560" cy="400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39000" cy="48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16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dt" idx="4"/>
          </p:nvPr>
        </p:nvSpPr>
        <p:spPr>
          <a:xfrm>
            <a:off x="4277880" y="-360"/>
            <a:ext cx="327204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0" y="10156320"/>
            <a:ext cx="32716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320"/>
            <a:ext cx="327204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863E72-A2CB-4AF2-BB2D-0BE4E751D4F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36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36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36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D5429-B256-40B9-BB5C-3179D610B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300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6300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1480"/>
            <a:ext cx="906300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855AF-DDCC-45D0-BF5F-C2F0C9121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300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260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6920" y="1767960"/>
            <a:ext cx="442260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1480"/>
            <a:ext cx="442260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6920" y="4371480"/>
            <a:ext cx="442260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02996-8BB6-4335-864E-D31628F77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300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291816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7240" y="1767960"/>
            <a:ext cx="291816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1920" y="1767960"/>
            <a:ext cx="291816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1480"/>
            <a:ext cx="291816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7240" y="4371480"/>
            <a:ext cx="291816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1920" y="4371480"/>
            <a:ext cx="291816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AED4E-6A4F-4370-9E36-034998571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300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7960"/>
            <a:ext cx="906300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57E30-23A6-4C45-80A5-0BB576DCF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300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6300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A64E0-3527-46BC-8753-ECFCB5F79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300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260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6920" y="1767960"/>
            <a:ext cx="442260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F6B59-3909-4435-9636-748E28AE3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300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D24A9-2CA2-4D2C-8AA5-2A4A19256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300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260C3-8C2D-4E80-84FA-DCCD6EB76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300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260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6920" y="1767960"/>
            <a:ext cx="442260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1480"/>
            <a:ext cx="442260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34D29-D7D7-4105-A8AB-583756B26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300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260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6920" y="1767960"/>
            <a:ext cx="442260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6920" y="4371480"/>
            <a:ext cx="442260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030FE-CFD7-4A3A-8C85-64544C397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300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260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6920" y="1767960"/>
            <a:ext cx="442260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1480"/>
            <a:ext cx="906300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2B9EA-D454-4C3F-9E98-AB459D62F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300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7960"/>
            <a:ext cx="906300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76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3820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76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76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8600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76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76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3856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76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76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7290C8-D509-4666-B068-8A928FE2ECBE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008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440000" y="360360"/>
            <a:ext cx="7200720" cy="35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0" lang="en-GB" sz="4400" spc="-1" strike="noStrike">
                <a:solidFill>
                  <a:srgbClr val="0000ff"/>
                </a:solidFill>
                <a:latin typeface="Arial"/>
              </a:rPr>
              <a:t>Александ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5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GB" sz="5400" spc="-1" strike="noStrike">
                <a:solidFill>
                  <a:srgbClr val="0000ff"/>
                </a:solidFill>
                <a:latin typeface="Arial"/>
              </a:rPr>
              <a:t>Блок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Arial"/>
              </a:rPr>
              <a:t>к   поэм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GB" sz="4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GB" sz="4400" spc="-1" strike="noStrike">
                <a:solidFill>
                  <a:srgbClr val="ff0000"/>
                </a:solidFill>
                <a:latin typeface="Arial"/>
              </a:rPr>
              <a:t>«Двенадцать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780000" y="5940360"/>
            <a:ext cx="144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979640" y="7215120"/>
            <a:ext cx="18108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260360" y="4500720"/>
            <a:ext cx="7920000" cy="24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Черный вече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Белый сне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Ветер, ветер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На ногах не стоит челове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Ветер, ветер 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На всем божьем свете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55600" y="0"/>
            <a:ext cx="9823320" cy="75596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0" y="-181080"/>
            <a:ext cx="1979640" cy="7740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Черное, черное неб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Злоб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густая злоб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Кипит в груди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Черная злоба. Святая злоба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Товарищ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Гляди 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оба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199280" y="-34920"/>
            <a:ext cx="2879640" cy="75945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Старушка, как курица, кой-как перемотнулась через сугроб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 Ох, Матушка-Заступница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Ох, большевики загонят в гроб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...Что нынче  невеселый,  Товарищ поп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Вон барыня в каракуле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 Уж мы плакали, плакали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340000" y="277920"/>
            <a:ext cx="4861080" cy="8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Вся власть Учредительному Собрани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00720" y="4140360"/>
            <a:ext cx="1979280" cy="32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А рядом жмется  шерстью жесткой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Поджавши хвост  паршивый пе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78920" cy="755964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6838920" y="0"/>
            <a:ext cx="3240000" cy="75596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Впереди  -  с кровавым флагом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И за вьюгой невиди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И от пули невредим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Нежной поступью надвьюжной, Снежной россыпью жемчужной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В белом венчике  из роз - Вперед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Иисус Христо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0" y="0"/>
            <a:ext cx="3240000" cy="75596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Товарищ,  винтовку держи, не трусь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Пальнем-ка пулей в Святую Русь -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В кондов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ю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В избян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ю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В толстозадую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Эх, ты, горе-горько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Сладкое житье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Рваное пальтишко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Австрийское ружье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Андрей Андреев</cp:lastModifiedBy>
  <dcterms:modified xsi:type="dcterms:W3CDTF">2019-01-09T19:05:20Z</dcterms:modified>
  <cp:revision>1</cp:revision>
  <dc:subject/>
  <dc:title/>
</cp:coreProperties>
</file>