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45B-305B-4591-8024-B4BEFA06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F73-A2C9-45F5-A0CA-BAC6488A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259-32EE-4B10-9502-E50817E2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C9E-6B6A-449B-B238-AF06E2C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C4A-8EC5-41BC-A172-BB7CE5D0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9AA0-1492-406D-871D-1030FFE8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48A6-E842-4981-BF50-EDE501C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E19-27D5-4732-A359-4E9483DE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8647-1634-41F0-AC82-65DFEB2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EB69-3E05-42E6-95AB-7E087DB0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2D8D-66FE-4A75-A9C6-BB53CDD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E69-102E-4A8C-9A2D-AED3B033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58E9-F2EF-4128-928A-FFE714F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A558-85CB-4CC6-B688-F387761C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930C-BE4A-41A9-AF61-D771891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8034-C4C5-48B6-B779-51FECFD8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0555-E739-4AF0-8CE8-D972A782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707-3792-4E24-8280-BDED61E4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3F4-4E85-4ABD-971E-D4D3511F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893-4746-48C2-A3E9-DEBB5D27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B16-56B9-4E2F-96E6-29BFE7B6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AF1-5835-4A1A-A206-6F0978AC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5B6-5505-4250-BDB9-C83AABAB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299-4C0C-46F8-8CCE-87EAB7E0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F960-6067-41F9-8753-C6AE59FE16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FAED-C642-413A-92D5-036DDD4C5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arrfz4hk17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earningapps.org/display?v=pr9mz9qpn1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648320" y="609480"/>
            <a:ext cx="3657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Интерактиная игра на сервере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LearningApps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Викторина с вводом текста  "The Present Simple Tensе" (отрицательные предлож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learningapps.org/display?v=parrfz4hk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Содержимое 5" descr="p_F_3.jpg"/>
          <p:cNvPicPr/>
          <p:nvPr/>
        </p:nvPicPr>
        <p:blipFill>
          <a:blip r:embed="rId2"/>
          <a:stretch/>
        </p:blipFill>
        <p:spPr>
          <a:xfrm>
            <a:off x="2209680" y="388620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Интерактиная игра на сервере 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LearningApps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Викторина с выбором ответа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"The Present Simple Tensе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d4500"/>
                </a:solidFill>
                <a:latin typeface="Times New Roman"/>
              </a:rPr>
              <a:t>(отрицательные предлож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 http://learningapps.org/display?v=pr9mz9qpn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Содержимое 5" descr="1.png"/>
          <p:cNvPicPr/>
          <p:nvPr/>
        </p:nvPicPr>
        <p:blipFill>
          <a:blip r:embed="rId2"/>
          <a:stretch/>
        </p:blipFill>
        <p:spPr>
          <a:xfrm>
            <a:off x="3276720" y="4071960"/>
            <a:ext cx="2528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Источник информации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://www.google.com/search?q=%D0%BA%D0%B0%D1%80%D1%82%D0%B8%D0%BD%D0%BA%D0%B8+%D0%B1%D1%83%D1%80%D0%B0%D1%82%D0%B8%D0%BD%D0%BE+%D0%B8%D0%B7+%D0%BC%D1%83%D0%BB%D1%8C%D1%82%D0%B8%D0%BA%D0%B0&amp;rlz=1C1NHXL_ruRU762RU764&amp;tbm=isch&amp;tbo=u&amp;source=univ&amp;sa=X&amp;ved=2ahUKEwi5jt3Ooe_fAhVPpIsKHUfZDaEQsAR6BAgCEAE&amp;biw=1024&amp;bih=626#imgdii=xOEsKu91Gs0ccM:&amp;imgrc=2atr-f4w3nqTG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ом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>
            <a:off x="5105520" y="2666880"/>
            <a:ext cx="3809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23351556_1208878086_33"/>
          <p:cNvPicPr/>
          <p:nvPr/>
        </p:nvPicPr>
        <p:blipFill>
          <a:blip r:embed="rId1"/>
          <a:stretch/>
        </p:blipFill>
        <p:spPr>
          <a:xfrm>
            <a:off x="5638680" y="26668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3123720"/>
            <a:ext cx="4190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04920" y="1066320"/>
            <a:ext cx="967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Если  в предложении говорится об одном человеке, животном, предмете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he, she it)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 кроме Я) , то есть глагол стоит в 3 лице единственном числе, к глаголу добавляется окончание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–s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– 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К глаголу добавляется окончание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– es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, есл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лово заканч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на буквы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76520" y="33526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819520" y="44956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+ -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" descr="23351570_1208878157_0701151701590"/>
          <p:cNvPicPr/>
          <p:nvPr/>
        </p:nvPicPr>
        <p:blipFill>
          <a:blip r:embed="rId1"/>
          <a:stretch/>
        </p:blipFill>
        <p:spPr>
          <a:xfrm>
            <a:off x="5105520" y="3048120"/>
            <a:ext cx="34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строение отрицательного предложен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отрицательном предложении употребляется вспомогательный глаго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спомогательный глагол- это глагол, который  помогает построить предложение, но на русский язык не перевод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, we, they,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, she,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нчание у глагола не пишется, переходит к вспомогательному глагол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[d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Λ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11848d1011bc"/>
          <p:cNvPicPr/>
          <p:nvPr/>
        </p:nvPicPr>
        <p:blipFill>
          <a:blip r:embed="rId1"/>
          <a:stretch/>
        </p:blipFill>
        <p:spPr>
          <a:xfrm>
            <a:off x="5943600" y="2297160"/>
            <a:ext cx="27432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отрица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 сказуемое без окончания 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7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70eca185658et"/>
          <p:cNvPicPr/>
          <p:nvPr/>
        </p:nvPicPr>
        <p:blipFill>
          <a:blip r:embed="rId1"/>
          <a:stretch/>
        </p:blipFill>
        <p:spPr>
          <a:xfrm>
            <a:off x="5938920" y="1523880"/>
            <a:ext cx="3205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562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граю в теннис каждый д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шь в тенни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те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бычно  не играем в теннис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е играют в тенни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1591_b"/>
          <p:cNvPicPr/>
          <p:nvPr/>
        </p:nvPicPr>
        <p:blipFill>
          <a:blip r:embed="rId1"/>
          <a:stretch/>
        </p:blipFill>
        <p:spPr>
          <a:xfrm>
            <a:off x="5715000" y="20574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6553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 не играет в теннис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а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Лен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Саш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Моя сестр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0701151724330"/>
          <p:cNvPicPr/>
          <p:nvPr/>
        </p:nvPicPr>
        <p:blipFill>
          <a:blip r:embed="rId1"/>
          <a:stretch/>
        </p:blipFill>
        <p:spPr>
          <a:xfrm>
            <a:off x="5105520" y="10666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162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е друг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го пап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не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не 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 cousi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9f2c5b3e1e5ef0691588b6ee97db31224d7ff761887318"/>
          <p:cNvPicPr/>
          <p:nvPr/>
        </p:nvPicPr>
        <p:blipFill>
          <a:blip r:embed="rId1"/>
          <a:stretch/>
        </p:blipFill>
        <p:spPr>
          <a:xfrm>
            <a:off x="5791320" y="1600200"/>
            <a:ext cx="311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АНГЛИЙСКИЙ ЯЗЫК</cp:lastModifiedBy>
  <dcterms:modified xsi:type="dcterms:W3CDTF">2019-01-15T07:43:3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