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D8F4-365D-4FF7-A5D8-BF59EA5E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568B-A260-4DC9-8ED8-49C3892E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EEA3-86A7-4032-A21B-501D300D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0568-3116-4806-A822-E741C375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CE7C-EA95-4B51-B830-5E4A0368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0803-244E-474E-A6D8-E4B33420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FEAA-CD52-456B-8C70-C9946CCC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5336-637C-48EE-BD3B-E5425676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B46B-748B-4F1E-824B-4D60FF77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95ED-FA7D-4C0A-ACB4-8F8BEFE0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A27F-94AD-4F48-BA80-E3B7B824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F0B4-5339-4221-AA0F-D2C55841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64E1-2EA3-4F47-B15F-777464E4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FAF5-89AB-461C-AD85-EB9363D9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B066-E3B6-4C3E-B7D9-FA34E69A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E3FF-F608-4526-ABB3-1C9ED44A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EA4B-6B34-4088-9288-0B89FEE9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5EAE-A2E1-48E4-B04A-1C67CA4D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619B-E939-4ABE-ADB3-34827C96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A49F-A824-4D30-B86E-AF5910D0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42C7-D134-431A-9FD0-A9F8F4CF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A949-BD75-4244-8956-E8E73C19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8BB2-6602-4004-BCE4-1A2087C7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03EB-08CD-4B70-83C1-A5E0ACAF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0A92-46B1-48D8-9BA4-5BC58C8C21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C8D5-8C6B-47DF-9ECC-E1D32D4169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earningapps.org/display?v=parrfz4hk17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earningapps.org/display?v=pr9mz9qpn1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21" name="Picture 4" descr="301cb490028fbf2a0fc2a297271_prev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4648320" y="609480"/>
            <a:ext cx="3657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The Present Simple </a:t>
            </a: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Tens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Отрицательные предлож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0" y="6095880"/>
            <a:ext cx="5029200" cy="762120"/>
          </a:xfrm>
          <a:prstGeom prst="roundRect">
            <a:avLst>
              <a:gd name="adj" fmla="val 16667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хорошева Н.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Гимназия имени Подольских курсантов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Интерактиная игра на сервере 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LearningApps</a:t>
            </a:r>
            <a:endParaRPr b="1" lang="en-US" sz="6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d4500"/>
                </a:solidFill>
                <a:latin typeface="Times New Roman"/>
              </a:rPr>
              <a:t>Викторина с вводом текста  "The Present Simple Tensе" (отрицательные предложени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learningapps.org/display?v=parrfz4hk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Содержимое 5" descr="p_F_3.jpg"/>
          <p:cNvPicPr/>
          <p:nvPr/>
        </p:nvPicPr>
        <p:blipFill>
          <a:blip r:embed="rId2"/>
          <a:stretch/>
        </p:blipFill>
        <p:spPr>
          <a:xfrm>
            <a:off x="2209680" y="3886200"/>
            <a:ext cx="4572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Интерактиная игра на сервере 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LearningApps</a:t>
            </a:r>
            <a:endParaRPr b="1" lang="en-US" sz="6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d4500"/>
                </a:solidFill>
                <a:latin typeface="Times New Roman"/>
              </a:rPr>
              <a:t>Викторина с выбором ответа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d4500"/>
                </a:solidFill>
                <a:latin typeface="Times New Roman"/>
              </a:rPr>
              <a:t>"The Present Simple Tensе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d45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6d4500"/>
                </a:solidFill>
                <a:latin typeface="Times New Roman"/>
              </a:rPr>
              <a:t>(отрицательные предложени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 http://learningapps.org/display?v=pr9mz9qpn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Содержимое 5" descr="1.png"/>
          <p:cNvPicPr/>
          <p:nvPr/>
        </p:nvPicPr>
        <p:blipFill>
          <a:blip r:embed="rId2"/>
          <a:stretch/>
        </p:blipFill>
        <p:spPr>
          <a:xfrm>
            <a:off x="3276720" y="4071960"/>
            <a:ext cx="25286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Источник информации</a:t>
            </a:r>
            <a:endParaRPr b="1" lang="en-US" sz="6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s://www.google.com/search?q=%D0%BA%D0%B0%D1%80%D1%82%D0%B8%D0%BD%D0%BA%D0%B8+%D0%B1%D1%83%D1%80%D0%B0%D1%82%D0%B8%D0%BD%D0%BE+%D0%B8%D0%B7+%D0%BC%D1%83%D0%BB%D1%8C%D1%82%D0%B8%D0%BA%D0%B0&amp;rlz=1C1NHXL_ruRU762RU764&amp;tbm=isch&amp;tbo=u&amp;source=univ&amp;sa=X&amp;ved=2ahUKEwi5jt3Ooe_fAhVPpIsKHUfZDaEQsAR6BAgCEAE&amp;biw=1024&amp;bih=626#imgdii=xOEsKu91Gs0ccM:&amp;imgrc=2atr-f4w3nqTG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The Present Simple Tense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настоящее простое врем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228600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Слова подсказки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ually [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ju: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З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u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ə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l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o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бычн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lway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ə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:lweiz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се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ften  [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ə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:f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ча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ldom  [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eld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]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дк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ometimes [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Λ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taimz]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н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Эти слова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 утвердительном предложениях стоят после подлежащег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372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Действие происходит регулярно, через        определенный промежуток врем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3" descr="10deac4b3cfbt"/>
          <p:cNvPicPr/>
          <p:nvPr/>
        </p:nvPicPr>
        <p:blipFill>
          <a:blip r:embed="rId1"/>
          <a:stretch/>
        </p:blipFill>
        <p:spPr>
          <a:xfrm>
            <a:off x="5105520" y="2666880"/>
            <a:ext cx="38098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The Present Simple Tense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Словосочетания стоят в конце предлож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[ evri ]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каждый д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orning, evening, aftern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ummer, winter, spring, autum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morning, evening, aftern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a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7 o’clock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23351556_1208878086_33"/>
          <p:cNvPicPr/>
          <p:nvPr/>
        </p:nvPicPr>
        <p:blipFill>
          <a:blip r:embed="rId1"/>
          <a:stretch/>
        </p:blipFill>
        <p:spPr>
          <a:xfrm>
            <a:off x="5638680" y="2666880"/>
            <a:ext cx="304812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The Present Simple Tense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560" y="3123720"/>
            <a:ext cx="4190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-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-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-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-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04920" y="1066320"/>
            <a:ext cx="96775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0" lang="ru-RU" sz="600" spc="-1" strike="noStrike">
                <a:solidFill>
                  <a:srgbClr val="0099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Если  в предложении говорится об одном человеке, животном, предмете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(he, she it)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( кроме Я) , то есть глагол стоит в 3 лице единственном числе, к глаголу добавляется окончание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–s 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или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– 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0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К глаголу добавляется окончание</a:t>
            </a:r>
            <a:r>
              <a:rPr b="0" lang="en-US" sz="2400" spc="-1" strike="noStrike" u="sng">
                <a:solidFill>
                  <a:srgbClr val="0099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Times New Roman"/>
              </a:rPr>
              <a:t>– es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, если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слово заканчи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на буквы: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1676520" y="3352680"/>
            <a:ext cx="1143000" cy="3276720"/>
          </a:xfrm>
          <a:custGeom>
            <a:avLst/>
            <a:gdLst>
              <a:gd name="textAreaLeft" fmla="*/ 0 w 1143000"/>
              <a:gd name="textAreaRight" fmla="*/ 412560 w 11430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2819520" y="44956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+ -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0" descr="23351570_1208878157_0701151701590"/>
          <p:cNvPicPr/>
          <p:nvPr/>
        </p:nvPicPr>
        <p:blipFill>
          <a:blip r:embed="rId1"/>
          <a:stretch/>
        </p:blipFill>
        <p:spPr>
          <a:xfrm>
            <a:off x="5105520" y="3048120"/>
            <a:ext cx="34146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Построение отрицательного предложени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410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В отрицательном предложении употребляется вспомогательный глагол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Вспомогательный глагол- это глагол, который  помогает построить предложение, но на русский язык не переводи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you, we, they,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e, she,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кончание у глагола не пишется, переходит к вспомогательному глагол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[d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Λ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6" descr="11848d1011bc"/>
          <p:cNvPicPr/>
          <p:nvPr/>
        </p:nvPicPr>
        <p:blipFill>
          <a:blip r:embed="rId1"/>
          <a:stretch/>
        </p:blipFill>
        <p:spPr>
          <a:xfrm>
            <a:off x="5943600" y="2297160"/>
            <a:ext cx="274320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Порядок слов в отрицательном предложени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5638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одлежаще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вспомогательный глагол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, d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4.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глагол – сказуемое без окончания –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или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-es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(смысловой глаго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5. допол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6.обстоятельство ме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7.обстоятельство време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6" descr="70eca185658et"/>
          <p:cNvPicPr/>
          <p:nvPr/>
        </p:nvPicPr>
        <p:blipFill>
          <a:blip r:embed="rId1"/>
          <a:stretch/>
        </p:blipFill>
        <p:spPr>
          <a:xfrm>
            <a:off x="5938920" y="1523880"/>
            <a:ext cx="320508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Отрицательные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5562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lay tennis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Я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не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играю в теннис каждый ден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often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lay tennis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ы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часто не  играешь в теннис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do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often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lay ten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Вы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часто не  играете в тенни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do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lay ten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Мы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обычно  не играем в теннис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hey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lay tenni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не играют в теннис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7" descr="1591_b"/>
          <p:cNvPicPr/>
          <p:nvPr/>
        </p:nvPicPr>
        <p:blipFill>
          <a:blip r:embed="rId1"/>
          <a:stretch/>
        </p:blipFill>
        <p:spPr>
          <a:xfrm>
            <a:off x="5715000" y="20574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Отрицательные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65530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He 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Он не играет в теннис.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he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Она не играет в теннис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Lena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Лена не играет в тенни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asha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Саша не играет в тенни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y sister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tennis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Моя сестра не играет в тенни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7" descr="0701151724330"/>
          <p:cNvPicPr/>
          <p:nvPr/>
        </p:nvPicPr>
        <p:blipFill>
          <a:blip r:embed="rId1"/>
          <a:stretch/>
        </p:blipFill>
        <p:spPr>
          <a:xfrm>
            <a:off x="5105520" y="1066680"/>
            <a:ext cx="358128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Отрицательные предложен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162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Your friend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ten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Ее друг не играет в теннис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His father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Его папа не играет в тенни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ur brother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аш брат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ет не в теннис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ir aunt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х тетя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не играет в теннис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 cousin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е двоюродный брат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н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ет в теннис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7" descr="9f2c5b3e1e5ef0691588b6ee97db31224d7ff761887318"/>
          <p:cNvPicPr/>
          <p:nvPr/>
        </p:nvPicPr>
        <p:blipFill>
          <a:blip r:embed="rId1"/>
          <a:stretch/>
        </p:blipFill>
        <p:spPr>
          <a:xfrm>
            <a:off x="5791320" y="1600200"/>
            <a:ext cx="311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talia</dc:creator>
  <dc:description/>
  <dc:language>en-US</dc:language>
  <cp:lastModifiedBy>АНГЛИЙСКИЙ ЯЗЫК</cp:lastModifiedBy>
  <dcterms:modified xsi:type="dcterms:W3CDTF">2019-01-15T07:43:37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