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9D7F-0C09-4F2C-AFA8-58905589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BFEB-59FF-4F04-840C-5650F5A5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43A-8FF1-45D5-AEB5-39BC67C5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94E9-BF58-4598-9C96-EC2F693C9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738C-5286-4D03-A26F-B63205F4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E41-21B3-4919-B97D-126FEE8E0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9F45-A869-460B-B936-84AF6F794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3FCD-5A9D-4F0D-AA2C-A24DA275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6816E-1FE5-4C66-8BCF-A3BA7B35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D7ED-6368-495E-B19D-F73838B1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FB51-B1C4-4726-9B66-4CD74989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B408-5E64-4C33-94B4-63B691C3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C3B-72CA-4D3E-9F0C-F98650BA2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5C5F-3870-444C-82CC-96B67555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318F-6A80-4E83-8468-567380851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17D4-5B2A-4A17-B933-5F5941F45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B6FC-2A64-44ED-BA91-38398951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9900-4877-42F5-9551-5D20E59E1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563-AA96-455A-B067-719896540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78B6-DAF5-45C4-B524-BBCAC882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731-DDFB-411E-9D8B-BD809DE86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0380-FD20-4C88-A838-CEAA1748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71EB-E7CE-4FB0-8791-EE8197A9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12C5-BAAC-4D8A-80F9-269AA727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E342-F3DF-48C1-95E7-1E2CE7484C2A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3A39-A5BA-4F58-AC63-6B8D0BE6C479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ЭМОЦИИ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РЕЗЕНТАЦИЯ для дошкольник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016 го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85840" y="3370320"/>
            <a:ext cx="7812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ДОБРОГО ВАМ ОБЩЕНИЯ!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2012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Составитель: Лисинко О.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32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129200" y="2857680"/>
            <a:ext cx="8856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КОММЕНТАР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моции – важная составляющая межличностного общени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ногда не столь важно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говорит человек, как то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как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 это говорит, какие эмоции передаё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авильно «читать» эмоции – значит, правильно понимать собеседни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чимся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ДОБРЫЙ, ДОВОЛЬ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6212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ЗЛОЙ, РАССЕРЖ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6338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ОБИЖЕННЫЙ, НЕДОВОЛЬ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36708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УДИВЛЁННЫЙ, ОЗАДАЧ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32200" y="1447920"/>
            <a:ext cx="3417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ИСПУГАННЫЙ, ТРУСЛИВ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86120" y="1447920"/>
            <a:ext cx="3478320" cy="510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ПЕЧАЛЬНЫЙ, РАССТРО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5974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ВЕСЁЛЫЙ, РАДОСТ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370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6T10:43:56Z</dcterms:created>
  <dc:creator>Мамулька</dc:creator>
  <dc:description/>
  <dc:language>en-US</dc:language>
  <cp:lastModifiedBy>Мамулька</cp:lastModifiedBy>
  <dcterms:modified xsi:type="dcterms:W3CDTF">2019-01-17T04:5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