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1FF1-F081-4897-AD7A-A3141D592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47CE-7FD3-480B-BA8E-D12EA7D34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0E60-5625-4433-917B-EBAF2D42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008B-BEB7-4C6A-8D4F-47B6C828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9FDE-EC5C-4E22-BE50-E52B908F0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597C-43DB-4192-82A5-1FE0312E7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052B-ECE9-4DFC-8FC7-BCACD17F9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CECA4-6D91-47D9-8DA7-06E99E70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067DE-4424-4DBB-A142-F2A4ED4F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3DA98-F49D-47AB-B396-25D4ADD8D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5563-4D8E-4FCF-BABF-4FBD0BA2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6C0E-105D-49B3-9253-2EB085DE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BD9D-B5F8-4F6C-8255-0122D7FE0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59CDF-29BF-42F4-81E4-97D62A22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D7EB-EB4B-4CD8-BCD5-824FA1B1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65BE5-D8ED-4F64-82A7-FCF9E0C26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08D8C-0672-4287-8D78-9C05F4A5B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38D1-C7F7-423A-90A1-ACAEB1F78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0E74-5789-4B4E-A120-1FD7EC28F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E81-A073-40B3-A4B9-E4B86257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1053-D6E6-4396-AD78-39C93142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6D2B-F715-4070-ADE1-E726B8F8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F710-CF2F-4DE7-A34C-CE04EEE8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5C55-6F02-429B-BF53-AB61F552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81B99-6929-4A16-B90D-0FF058858E95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3904-E974-41F6-ACF8-939FA42D21E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66"/>
                </a:solidFill>
                <a:latin typeface="Verdana"/>
              </a:rPr>
              <a:t>ЭМОЦИИ</a:t>
            </a:r>
            <a:endParaRPr b="0" lang="en-US" sz="6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ПРЕЗЕНТАЦИЯ для дошкольников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            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2016 год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085840" y="3370320"/>
            <a:ext cx="781200" cy="9144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99036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Verdana"/>
              </a:rPr>
              <a:t>ДОБРОГО ВАМ ОБЩЕНИЯ!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4343400"/>
            <a:ext cx="7620120" cy="17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Составитель: Лисинко О.В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772400" cy="320040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4129200" y="2857680"/>
            <a:ext cx="8856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Verdana"/>
              </a:rPr>
              <a:t>КОММЕНТАРИЙ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Эмоции – важная составляющая межличностного общения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Иногда не столь важно,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что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говорит человек, как то, </a:t>
            </a: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как 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он это говорит, какие эмоции передаёт.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равильно «читать» эмоции – значит, правильно понимать собеседника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Учимся…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ransition spd="med"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ДОБРЫЙ, ДОВОЛЬНЫЙ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3621240" cy="5334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ЗЛОЙ, РАССЕРЖЕННЫЙ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895480" y="1447920"/>
            <a:ext cx="363384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ОБИЖЕННЫЙ, НЕДОВОЛЬНЫЙ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971800" y="1523880"/>
            <a:ext cx="3367080" cy="495324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УДИВЛЁННЫЙ, ОЗАДАЧЕННЫЙ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932200" y="1447920"/>
            <a:ext cx="3417840" cy="4952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ИСПУГАННЫЙ, ТРУСЛИВЫЙ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886120" y="1447920"/>
            <a:ext cx="3478320" cy="510516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ПЕЧАЛЬНЫЙ, РАССТРОЕННЫЙ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895480" y="1371600"/>
            <a:ext cx="359748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Verdana"/>
              </a:rPr>
              <a:t>ВЕСЁЛЫЙ, РАДОСТНЫЙ</a:t>
            </a:r>
            <a:endParaRPr b="0" lang="en-US" sz="2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971800" y="1447920"/>
            <a:ext cx="3537000" cy="52578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26T10:43:56Z</dcterms:created>
  <dc:creator>Мамулька</dc:creator>
  <dc:description/>
  <dc:language>en-US</dc:language>
  <cp:lastModifiedBy>Мамулька</cp:lastModifiedBy>
  <dcterms:modified xsi:type="dcterms:W3CDTF">2019-01-17T04:52:2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