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83BC-3E65-4A44-87A1-441E29C0E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EF07-E6BF-410A-A66A-796EF24D5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3CF6-7DB4-42C2-A516-E91B8E328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0722-87E6-47FA-9EDC-9DEB44F89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4C8AC-218E-4C5D-BE07-DA8BD7FFD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B96AA-5D78-4039-8978-D7A66AF7E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69A6B-9D9B-4909-9A37-CEBD307AF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685CB-83FE-4458-80A2-482D0210D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722B5-3EF7-41A9-84CF-704682257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A4061-46B2-4779-AF44-A53255B0C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EB8DE-A605-404B-A145-79E035A7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96D9-625A-4EFF-A225-4AED73297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78681-7C30-4D3B-84AA-0918C6029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213C8-3B0D-4047-ADD9-ABE7A0E05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86AD3-0562-42E3-8AF1-29D510C83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32FD1-6794-44F5-861A-346607E1A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E3B1F-F11E-413C-9C48-19664579F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CC13-6057-4A1C-AEE3-3C44EAE96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F4CA-FA1C-4CAD-BF0F-48886D683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1B75-1989-44CD-862B-249F47D4C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28F9-AB5A-425E-BB07-FAA0ACABE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1C88-66AF-4FF7-9E16-E085ADA5D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C459-4E3D-4E73-AE1E-15C8967E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81F4-A5C3-47DE-BC0D-41F185028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DC31D-CDBC-4574-92F5-8480092D449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FE410-47BB-440C-9EFD-C797B6AD72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197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Monotype Corsiva"/>
              </a:rPr>
              <a:t>ГБОУ СОШ №2  с.Обшаров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2205000"/>
            <a:ext cx="6400800" cy="34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Monotype Corsiva"/>
              </a:rPr>
              <a:t>Опыт работы по гражданско-патриотическому  воспитанию обучающихся с ОВЗ на уроках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Monotype Corsiva"/>
              </a:rPr>
              <a:t>в начальных классах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2060"/>
                </a:solidFill>
                <a:latin typeface="Monotype Corsiva"/>
              </a:rPr>
              <a:t>Учитель начальных классов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2060"/>
                </a:solidFill>
                <a:latin typeface="Monotype Corsiva"/>
              </a:rPr>
              <a:t>Т.А. Рябцева.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10920" y="764640"/>
            <a:ext cx="784836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Monotype Corsiva"/>
              </a:rPr>
              <a:t>Спасибо за внимание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4" descr="E:\Ринат\b7uUkn0kN_c.jpg"/>
          <p:cNvPicPr/>
          <p:nvPr/>
        </p:nvPicPr>
        <p:blipFill>
          <a:blip r:embed="rId1"/>
          <a:stretch/>
        </p:blipFill>
        <p:spPr>
          <a:xfrm>
            <a:off x="1692360" y="2421000"/>
            <a:ext cx="3240000" cy="4032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E:\Ринат\tLhCgLDhXZs.jpg"/>
          <p:cNvPicPr/>
          <p:nvPr/>
        </p:nvPicPr>
        <p:blipFill>
          <a:blip r:embed="rId2"/>
          <a:stretch/>
        </p:blipFill>
        <p:spPr>
          <a:xfrm>
            <a:off x="5508720" y="2421000"/>
            <a:ext cx="324000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610920" y="404280"/>
            <a:ext cx="784836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lnSpc>
                <a:spcPct val="150000"/>
              </a:lnSpc>
              <a:spcBef>
                <a:spcPts val="70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Слово «патриот» - греческое, означает земляк, соотечественник, человек, преданный своему Отечеству, служащий его интересам. Патриотизм – чувство любви к своей Родине, к Отечеству, готовность к его защите от врагов. Значит, патриотизм необходим при любой общественно-экономической формации, при любой вла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10920" y="260280"/>
            <a:ext cx="7848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7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Патриотизм закладывается в человеке с малых лет. Это процесс не одномоментный. Его нельзя вдруг приобрести или потерять. Это состояние души, это мировоззрен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7120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Таким образом, я реализую следующую эффективную воспитательную цепочку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Любовь к родителям, родному дому, к родным и близким людя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40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Воспитание и уважение к старшим, к людям труда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 </a:t>
            </a:r>
            <a:r>
              <a:rPr b="0" lang="ru-RU" sz="1600" spc="-1" strike="noStrike">
                <a:solidFill>
                  <a:srgbClr val="c00000"/>
                </a:solidFill>
                <a:latin typeface="Times New Roman"/>
              </a:rPr>
              <a:t>(приобщение детей к традициям народа, стремление чтить память погибших воинов, проявление уважения к людям пожилого возраста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40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Любовь к родной природе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 </a:t>
            </a:r>
            <a:r>
              <a:rPr b="0" lang="ru-RU" sz="1600" spc="-1" strike="noStrike">
                <a:solidFill>
                  <a:srgbClr val="c00000"/>
                </a:solidFill>
                <a:latin typeface="Times New Roman"/>
              </a:rPr>
              <a:t>(охрана окружающей среды) 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40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Моя Родина - Россия. Моя малая родина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 </a:t>
            </a:r>
            <a:r>
              <a:rPr b="0" lang="ru-RU" sz="1600" spc="-1" strike="noStrike">
                <a:solidFill>
                  <a:srgbClr val="c00000"/>
                </a:solidFill>
                <a:latin typeface="Times New Roman"/>
              </a:rPr>
              <a:t>( расширение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 </a:t>
            </a:r>
            <a:r>
              <a:rPr b="0" lang="ru-RU" sz="1600" spc="-1" strike="noStrike">
                <a:solidFill>
                  <a:srgbClr val="c00000"/>
                </a:solidFill>
                <a:latin typeface="Times New Roman"/>
              </a:rPr>
              <a:t>представлений о нашей Родине – России, воспитание любви к своей “малой” родине , к родному селу, городу 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40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Человек – защитник своего Отечества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 </a:t>
            </a:r>
            <a:r>
              <a:rPr b="0" lang="ru-RU" sz="1600" spc="-1" strike="noStrike">
                <a:solidFill>
                  <a:srgbClr val="c00000"/>
                </a:solidFill>
                <a:latin typeface="Times New Roman"/>
              </a:rPr>
              <a:t>(любовь, забота и сохранение своей родины, формирование чувства патриотизма, уважения и симпатии к другим народам, гордости    за   Российскую армию, желание служить своему Отечеству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10920" y="549360"/>
            <a:ext cx="784836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90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</a:rPr>
              <a:t>Данную работу стараюсь внедрять во все виды деятельности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90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</a:rPr>
              <a:t>учебного процесс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2" descr="E:\Ринат\V0IHBi8MBiA.jpg"/>
          <p:cNvPicPr/>
          <p:nvPr/>
        </p:nvPicPr>
        <p:blipFill>
          <a:blip r:embed="rId1"/>
          <a:stretch/>
        </p:blipFill>
        <p:spPr>
          <a:xfrm>
            <a:off x="5076720" y="2637000"/>
            <a:ext cx="367200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878508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60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Для более успешной организации    гражданско-   патриотического       образования  необходимо учитывать следующие 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правил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spcAft>
                <a:spcPts val="751"/>
              </a:spcAft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</a:rPr>
              <a:t>Использовать наглядные средства: живые примеры, художественные образы, инсценировки, ролевые игры, поскольку детям интересно инсценировать различные ситуации, сценки из сказок, рассказы, а исполнение той или иной роли помогает усвоить нормы, правила поведения персонажей, «перенося» их на себ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spcAft>
                <a:spcPts val="751"/>
              </a:spcAft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</a:rPr>
              <a:t>Обеспечить активность детей на занятиях, уроках: рисование, сочинение сказок, рассказов, отгадывание загадок, работа над пословицами и поговоркам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spcAft>
                <a:spcPts val="751"/>
              </a:spcAft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</a:rPr>
              <a:t>Стараться делать упор на положительное, соблюдать меру в использовании    отрицательных пример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10920" y="549360"/>
            <a:ext cx="626436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601"/>
              </a:spcBef>
              <a:spcAft>
                <a:spcPts val="751"/>
              </a:spcAft>
              <a:buClr>
                <a:srgbClr val="c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Стараться преодолеть назидательность, однообразие, скук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spcAft>
                <a:spcPts val="751"/>
              </a:spcAft>
              <a:buClr>
                <a:srgbClr val="c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Преподносить материал так, чтобы стимулировать желание изучать и познава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spcAft>
                <a:spcPts val="751"/>
              </a:spcAft>
              <a:buClr>
                <a:srgbClr val="c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Постоянно следить за гражданско-патриотическим развитием дет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spcAft>
                <a:spcPts val="751"/>
              </a:spcAft>
              <a:buClr>
                <a:srgbClr val="c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Важна тактичность педагога в оценках детей, их высказываний, неудач, поступк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12" descr="E:\Ринат\cfMfVVD4aiE.jpg"/>
          <p:cNvPicPr/>
          <p:nvPr/>
        </p:nvPicPr>
        <p:blipFill>
          <a:blip r:embed="rId1"/>
          <a:stretch/>
        </p:blipFill>
        <p:spPr>
          <a:xfrm>
            <a:off x="6156360" y="1844640"/>
            <a:ext cx="25923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24000" y="549360"/>
            <a:ext cx="42480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lnSpc>
                <a:spcPct val="15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Опыт работы показывает, что нашим «особенным» детям доступно чувство любви к родному городу, родной природе, своей Родине. Это и есть начало патриотизма, который рождается в познании, а формируется в процессе целенаправленного воспитания.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spcAft>
                <a:spcPts val="1001"/>
              </a:spcAft>
              <a:buClr>
                <a:srgbClr val="c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9" descr="E:\Ринат\4di2jixGuDQ.jpg"/>
          <p:cNvPicPr/>
          <p:nvPr/>
        </p:nvPicPr>
        <p:blipFill>
          <a:blip r:embed="rId1"/>
          <a:stretch/>
        </p:blipFill>
        <p:spPr>
          <a:xfrm>
            <a:off x="4716360" y="189000"/>
            <a:ext cx="4032360" cy="3240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E:\Ринат\xw3VL8Z-KVo.jpg"/>
          <p:cNvPicPr/>
          <p:nvPr/>
        </p:nvPicPr>
        <p:blipFill>
          <a:blip r:embed="rId2"/>
          <a:stretch/>
        </p:blipFill>
        <p:spPr>
          <a:xfrm>
            <a:off x="4716360" y="3429000"/>
            <a:ext cx="4032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1"/>
          <p:cNvSpPr/>
          <p:nvPr/>
        </p:nvSpPr>
        <p:spPr>
          <a:xfrm>
            <a:off x="468360" y="122724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Monotype Corsiva"/>
              </a:rPr>
              <a:t>«Моя семья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8" descr="E:\Ринат\2tyDATM93Qc.jpg"/>
          <p:cNvPicPr/>
          <p:nvPr/>
        </p:nvPicPr>
        <p:blipFill>
          <a:blip r:embed="rId1"/>
          <a:stretch/>
        </p:blipFill>
        <p:spPr>
          <a:xfrm>
            <a:off x="433440" y="404640"/>
            <a:ext cx="8315280" cy="56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20:41:41Z</dcterms:created>
  <dc:creator>Елена</dc:creator>
  <dc:description/>
  <dc:language>en-US</dc:language>
  <cp:lastModifiedBy>User</cp:lastModifiedBy>
  <dcterms:modified xsi:type="dcterms:W3CDTF">2019-01-18T16:01:27Z</dcterms:modified>
  <cp:revision>47</cp:revision>
  <dc:subject/>
  <dc:title>Слайд 1</dc:title>
</cp:coreProperties>
</file>