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11.jpeg" ContentType="image/jpeg"/>
  <Override PartName="/ppt/media/image37.jpeg" ContentType="image/jpeg"/>
  <Override PartName="/ppt/media/image3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293-33AE-4E2B-A908-A6174FC15F73}" type="slidenum">
              <a:rPr b="0" i="1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FEEE-65AD-41F4-A167-C1D5D2BF6EFC}" type="slidenum">
              <a:rPr b="0" i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A5E-5D91-4AAF-A37E-3BCFA5CD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47B-5A0F-459C-A1FE-85C3F13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F4E-B0E3-4478-9E04-C6F84786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0FD-BFCA-4F72-B406-7F1078DB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CE2-21A3-4F80-AF40-25AD4ECA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4A52-4C0C-4F56-9A47-2CFA128B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6A59-4222-4A7D-A1F0-47EA9F6A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2A31-EE72-4EBF-8E6F-21BFF20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223-5750-4B77-8BD5-E9C24D32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6728-7388-46F9-85CC-6E40C5A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D2BE-AAFB-4861-A788-8265B8E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0BB-BA34-4FC4-8246-7A3E8A0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C356-53DE-47EA-B8BC-E7442A2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196-D2AA-40E6-B291-65B39A8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7CE1-FCE9-4254-8B0A-FE000E0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BD3-8F81-4555-9555-8044DE1B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D28C-24FF-4D69-B5B9-10D29438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A64-DDB5-4D1D-96FE-85257E29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B17-2DBE-4CBA-B6EB-138E041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6BA-C788-48E5-92BB-0CF7041B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297-57AC-4FA9-BA1D-8622D33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A65-9290-4E72-89A2-A60305F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9F1-A2CB-419C-AA6E-0D3E77D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548-618F-4EAB-9FB2-A96802F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B8F9-8630-477A-855F-67D49280C21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B92-58F5-46FE-BCC5-39F073F2E8D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oschkolu.ru/" TargetMode="External"/><Relationship Id="rId2" Type="http://schemas.openxmlformats.org/officeDocument/2006/relationships/hyperlink" Target="http://www.proschkolu.ru/" TargetMode="External"/><Relationship Id="rId3" Type="http://schemas.openxmlformats.org/officeDocument/2006/relationships/hyperlink" Target="http://www.proschkolu.ru/" TargetMode="External"/><Relationship Id="rId4" Type="http://schemas.openxmlformats.org/officeDocument/2006/relationships/hyperlink" Target="http://www.proschkolu.ru/" TargetMode="External"/><Relationship Id="rId5" Type="http://schemas.openxmlformats.org/officeDocument/2006/relationships/hyperlink" Target="http://www.proschkolu.ru/" TargetMode="External"/><Relationship Id="rId6" Type="http://schemas.openxmlformats.org/officeDocument/2006/relationships/hyperlink" Target="https://nsportal.ru/" TargetMode="External"/><Relationship Id="rId7" Type="http://schemas.openxmlformats.org/officeDocument/2006/relationships/hyperlink" Target="https://nsportal.ru/" TargetMode="External"/><Relationship Id="rId8" Type="http://schemas.openxmlformats.org/officeDocument/2006/relationships/hyperlink" Target="http:///" TargetMode="External"/><Relationship Id="rId9" Type="http://schemas.openxmlformats.org/officeDocument/2006/relationships/hyperlink" Target="http://multiurok.ru/" TargetMode="External"/><Relationship Id="rId10" Type="http://schemas.openxmlformats.org/officeDocument/2006/relationships/hyperlink" Target="http://multiurok.ru/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152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Министерство образования</a:t>
            </a:r>
            <a:r>
              <a:rPr b="0" i="1" lang="ru-RU" sz="4000" spc="-1" strike="noStrike">
                <a:solidFill>
                  <a:srgbClr val="cc0000"/>
                </a:solidFill>
                <a:latin typeface="Arial"/>
              </a:rPr>
              <a:t> Р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911840" y="200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2571840" y="3357720"/>
            <a:ext cx="61434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 математики МБОУ «Курташкинская средняя общеобразовательная школа» Атюрьевского района Республики Мордовия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500040" y="1500120"/>
            <a:ext cx="53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ртфолио</a:t>
            </a:r>
            <a:endParaRPr b="0" i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71680" y="2357280"/>
            <a:ext cx="6286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овой 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наиды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ны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5715000" y="1643040"/>
            <a:ext cx="2009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277920"/>
            <a:ext cx="857268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Применение информационно-коммуникационных технолог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4" descr="C:\Users\Тамара\Documents\Портфолио документы\орн.jpg"/>
          <p:cNvPicPr/>
          <p:nvPr/>
        </p:nvPicPr>
        <p:blipFill>
          <a:blip r:embed="rId1"/>
          <a:stretch/>
        </p:blipFill>
        <p:spPr>
          <a:xfrm>
            <a:off x="3071880" y="1785960"/>
            <a:ext cx="3076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50104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Реализация: -программ углубленного изучения предмета; -профильного обуч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Участие в инновационной (экспериментальной)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Результаты участия обучающихся во Всероссийской предметной олимпиад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239840" y="1300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-1065240" y="223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251000" y="1341360"/>
            <a:ext cx="52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униципальный уровень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8" descr="C:\Users\Тамара\Documents\Портфолио документы\грам3.jpg"/>
          <p:cNvPicPr/>
          <p:nvPr/>
        </p:nvPicPr>
        <p:blipFill>
          <a:blip r:embed="rId1"/>
          <a:stretch/>
        </p:blipFill>
        <p:spPr>
          <a:xfrm>
            <a:off x="4714920" y="2071800"/>
            <a:ext cx="2884320" cy="4000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:\Users\Тамара\Documents\Портфолио документы\онг.jpg"/>
          <p:cNvPicPr/>
          <p:nvPr/>
        </p:nvPicPr>
        <p:blipFill>
          <a:blip r:embed="rId2"/>
          <a:stretch/>
        </p:blipFill>
        <p:spPr>
          <a:xfrm>
            <a:off x="785880" y="2071800"/>
            <a:ext cx="28573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501040" cy="1428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озитивные результаты внеурочной деятельности обучающихся по учебным предмета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121040" y="13003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6" descr="C:\Users\Тамара\Documents\Портфолио документы\грам.jpg"/>
          <p:cNvPicPr/>
          <p:nvPr/>
        </p:nvPicPr>
        <p:blipFill>
          <a:blip r:embed="rId1"/>
          <a:stretch/>
        </p:blipFill>
        <p:spPr>
          <a:xfrm>
            <a:off x="1214280" y="2000160"/>
            <a:ext cx="3000600" cy="416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Users\Тамара\Documents\Портфолио документы\грам 2.jpg"/>
          <p:cNvPicPr/>
          <p:nvPr/>
        </p:nvPicPr>
        <p:blipFill>
          <a:blip r:embed="rId2"/>
          <a:stretch/>
        </p:blipFill>
        <p:spPr>
          <a:xfrm>
            <a:off x="5299200" y="2000160"/>
            <a:ext cx="29876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C:\Users\Тамара\Documents\Портфолио документы\диплом.jpg"/>
          <p:cNvPicPr/>
          <p:nvPr/>
        </p:nvPicPr>
        <p:blipFill>
          <a:blip r:embed="rId1"/>
          <a:stretch/>
        </p:blipFill>
        <p:spPr>
          <a:xfrm>
            <a:off x="5000760" y="642960"/>
            <a:ext cx="3214440" cy="445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Тамара\Documents\Портфолио документы\грам6.jpg"/>
          <p:cNvPicPr/>
          <p:nvPr/>
        </p:nvPicPr>
        <p:blipFill>
          <a:blip r:embed="rId2"/>
          <a:stretch/>
        </p:blipFill>
        <p:spPr>
          <a:xfrm>
            <a:off x="1071720" y="571680"/>
            <a:ext cx="329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Наличие публикац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14200" y="171468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ий уровень: методические разработки на портале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urok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u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3214800" y="2857680"/>
            <a:ext cx="2357280" cy="333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5786280" y="3465360"/>
            <a:ext cx="2286000" cy="3230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2306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929040" y="1643040"/>
            <a:ext cx="4267080" cy="30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2786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:\Users\Тамара\Documents\Портфолио документы\12324.jpg"/>
          <p:cNvPicPr/>
          <p:nvPr/>
        </p:nvPicPr>
        <p:blipFill>
          <a:blip r:embed="rId1"/>
          <a:stretch/>
        </p:blipFill>
        <p:spPr>
          <a:xfrm>
            <a:off x="4572000" y="3500280"/>
            <a:ext cx="4267080" cy="300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Тамара\Documents\Портфолио документы\мы.jpg"/>
          <p:cNvPicPr/>
          <p:nvPr/>
        </p:nvPicPr>
        <p:blipFill>
          <a:blip r:embed="rId2"/>
          <a:stretch/>
        </p:blipFill>
        <p:spPr>
          <a:xfrm>
            <a:off x="285840" y="285840"/>
            <a:ext cx="40528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Наличие авторских программ, методических пособий, методических рекомендаций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100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Общие свед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2920" y="1492200"/>
          <a:ext cx="8786880" cy="5315040"/>
        </p:xfrm>
        <a:graphic>
          <a:graphicData uri="http://schemas.openxmlformats.org/drawingml/2006/table">
            <a:tbl>
              <a:tblPr/>
              <a:tblGrid>
                <a:gridCol w="3809880"/>
                <a:gridCol w="4977000"/>
              </a:tblGrid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b0043"/>
                          </a:solidFill>
                          <a:latin typeface="Times New Roman"/>
                          <a:ea typeface="Calibri"/>
                        </a:rPr>
                        <a:t>Фамилия, имя, отчество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кова Зинаида Ивановна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ата рождения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.10.1970 год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азвание образовательного учреждения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БОУ «Курташкинская средняя общеобразовательная школа»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ведения об образовании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иплома.., дата выдачи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шее, 1993 г., МГПИ имени  М.Е. Евсевьева, по специальности «Физика с дополнительной специальностью математика».  Присуждена квалификация «Учитель физики и математики». 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плом ЦВ 345584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олжность по штатному расписанию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MS Gothic"/>
                        </a:rPr>
                        <a:t>У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итель математики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валификационная категория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ответствие занимаемой должности, 2016 г.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бщий педагогический стаж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лет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аж педагогической работы (по специальности):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лет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43920" cy="141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Выступления на научно-практических конференциях, педагогических чтениях, семинарах, секциях, методических объединениях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20" y="1401840"/>
            <a:ext cx="2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824720" y="148428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7" descr="C:\Users\Тамара\Documents\Портфолио документы\бон.jpg"/>
          <p:cNvPicPr/>
          <p:nvPr/>
        </p:nvPicPr>
        <p:blipFill>
          <a:blip r:embed="rId1"/>
          <a:stretch/>
        </p:blipFill>
        <p:spPr>
          <a:xfrm>
            <a:off x="1000080" y="1857240"/>
            <a:ext cx="3000600" cy="416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Тамара\Documents\Портфолио документы\ннн.jpg"/>
          <p:cNvPicPr/>
          <p:nvPr/>
        </p:nvPicPr>
        <p:blipFill>
          <a:blip r:embed="rId2"/>
          <a:stretch/>
        </p:blipFill>
        <p:spPr>
          <a:xfrm>
            <a:off x="5286240" y="1928880"/>
            <a:ext cx="2928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8648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Проведение открытых уроков, мастер-классов, мероприят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247840" y="1660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6" descr="C:\Users\Тамара\Documents\Портфолио документы\бжж.jpg"/>
          <p:cNvPicPr/>
          <p:nvPr/>
        </p:nvPicPr>
        <p:blipFill>
          <a:blip r:embed="rId1"/>
          <a:stretch/>
        </p:blipFill>
        <p:spPr>
          <a:xfrm>
            <a:off x="857160" y="192888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C:\Users\Тамара\Documents\Портфолио документы\ж.жз.jpg"/>
          <p:cNvPicPr/>
          <p:nvPr/>
        </p:nvPicPr>
        <p:blipFill>
          <a:blip r:embed="rId2"/>
          <a:stretch/>
        </p:blipFill>
        <p:spPr>
          <a:xfrm>
            <a:off x="4462560" y="1928880"/>
            <a:ext cx="3038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Общественно-педагогическая активность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762560" y="12812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-1281240" y="2092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7" descr="C:\Users\Тамара\Documents\Портфолио документы\дщ.jpg"/>
          <p:cNvPicPr/>
          <p:nvPr/>
        </p:nvPicPr>
        <p:blipFill>
          <a:blip r:embed="rId1"/>
          <a:stretch/>
        </p:blipFill>
        <p:spPr>
          <a:xfrm>
            <a:off x="642960" y="192888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Тамара\Documents\Портфолио документы\справка.jpg"/>
          <p:cNvPicPr/>
          <p:nvPr/>
        </p:nvPicPr>
        <p:blipFill>
          <a:blip r:embed="rId2"/>
          <a:stretch/>
        </p:blipFill>
        <p:spPr>
          <a:xfrm>
            <a:off x="4714920" y="1857240"/>
            <a:ext cx="3076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C:\Users\Тамара\Documents\Портфолио документы\сертиф.jpg"/>
          <p:cNvPicPr/>
          <p:nvPr/>
        </p:nvPicPr>
        <p:blipFill>
          <a:blip r:embed="rId1"/>
          <a:stretch/>
        </p:blipFill>
        <p:spPr>
          <a:xfrm>
            <a:off x="4929120" y="714240"/>
            <a:ext cx="3500640" cy="485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Тамара\Documents\Портфолио документы\лщ.jpg"/>
          <p:cNvPicPr/>
          <p:nvPr/>
        </p:nvPicPr>
        <p:blipFill>
          <a:blip r:embed="rId2"/>
          <a:stretch/>
        </p:blipFill>
        <p:spPr>
          <a:xfrm>
            <a:off x="785880" y="714240"/>
            <a:ext cx="35002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C:\Users\Тамара\Documents\Портфолио документы\сертификат.jpg"/>
          <p:cNvPicPr/>
          <p:nvPr/>
        </p:nvPicPr>
        <p:blipFill>
          <a:blip r:embed="rId1"/>
          <a:stretch/>
        </p:blipFill>
        <p:spPr>
          <a:xfrm>
            <a:off x="642960" y="114300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Тамара\Documents\Портфолио документы\СВИЛ.jpg"/>
          <p:cNvPicPr/>
          <p:nvPr/>
        </p:nvPicPr>
        <p:blipFill>
          <a:blip r:embed="rId2"/>
          <a:stretch/>
        </p:blipFill>
        <p:spPr>
          <a:xfrm>
            <a:off x="4643280" y="3500280"/>
            <a:ext cx="3981600" cy="287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Тамара\Documents\Портфолио документы\сертифи.jpg"/>
          <p:cNvPicPr/>
          <p:nvPr/>
        </p:nvPicPr>
        <p:blipFill>
          <a:blip r:embed="rId3"/>
          <a:stretch/>
        </p:blipFill>
        <p:spPr>
          <a:xfrm>
            <a:off x="4714920" y="500040"/>
            <a:ext cx="3838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2357280" cy="3332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2"/>
          <a:stretch/>
        </p:blipFill>
        <p:spPr>
          <a:xfrm>
            <a:off x="3357720" y="1785960"/>
            <a:ext cx="2286000" cy="3230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3"/>
          <a:stretch/>
        </p:blipFill>
        <p:spPr>
          <a:xfrm>
            <a:off x="6286680" y="2643120"/>
            <a:ext cx="2428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2857680" cy="404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857840" y="2000160"/>
            <a:ext cx="2862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7920"/>
            <a:ext cx="835812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Награды и поощрения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0601280" y="2092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6" descr="C:\Users\Тамара\Documents\Портфолио документы\грам 5.jpg"/>
          <p:cNvPicPr/>
          <p:nvPr/>
        </p:nvPicPr>
        <p:blipFill>
          <a:blip r:embed="rId1"/>
          <a:stretch/>
        </p:blipFill>
        <p:spPr>
          <a:xfrm>
            <a:off x="4994280" y="1857240"/>
            <a:ext cx="3089160" cy="428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C:\Users\Тамара\Documents\Портфолио документы\грам 4.jpg"/>
          <p:cNvPicPr/>
          <p:nvPr/>
        </p:nvPicPr>
        <p:blipFill>
          <a:blip r:embed="rId2"/>
          <a:stretch/>
        </p:blipFill>
        <p:spPr>
          <a:xfrm>
            <a:off x="928800" y="1857240"/>
            <a:ext cx="3076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6760" y="277920"/>
            <a:ext cx="857268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овышение квалификации, профессиональная переподготовка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C:\Users\Тамара\Documents\Портфолио документы\удост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721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157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Представление собственного инновационного педагогического опы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C:\Users\Тамара\Documents\Портфолио документы\пуб 1.jpg"/>
          <p:cNvPicPr/>
          <p:nvPr/>
        </p:nvPicPr>
        <p:blipFill>
          <a:blip r:embed="rId1"/>
          <a:stretch/>
        </p:blipFill>
        <p:spPr>
          <a:xfrm>
            <a:off x="857160" y="2000160"/>
            <a:ext cx="3076560" cy="426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Тамара\Documents\Портфолио документы\пуб2.jpg"/>
          <p:cNvPicPr/>
          <p:nvPr/>
        </p:nvPicPr>
        <p:blipFill>
          <a:blip r:embed="rId2"/>
          <a:stretch/>
        </p:blipFill>
        <p:spPr>
          <a:xfrm>
            <a:off x="4786200" y="1973160"/>
            <a:ext cx="307188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C:\Users\Тамара\Documents\Портфолио документы\пуб 3.jpg"/>
          <p:cNvPicPr/>
          <p:nvPr/>
        </p:nvPicPr>
        <p:blipFill>
          <a:blip r:embed="rId1"/>
          <a:stretch/>
        </p:blipFill>
        <p:spPr>
          <a:xfrm>
            <a:off x="4786200" y="857160"/>
            <a:ext cx="3295800" cy="457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Users\Тамара\Documents\Портфолио документы\пуб3.jpg"/>
          <p:cNvPicPr/>
          <p:nvPr/>
        </p:nvPicPr>
        <p:blipFill>
          <a:blip r:embed="rId2"/>
          <a:stretch/>
        </p:blipFill>
        <p:spPr>
          <a:xfrm>
            <a:off x="571680" y="857160"/>
            <a:ext cx="33336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5075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2"/>
              </a:rPr>
              <a:t>:</a:t>
            </a:r>
            <a:r>
              <a:rPr b="0" lang="en-US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3"/>
              </a:rPr>
              <a:t>//www.proschkolu</a:t>
            </a:r>
            <a:r>
              <a:rPr b="0" lang="ru-RU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www.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7"/>
              </a:rPr>
              <a:t>nsportal.r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5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www.Schoolrm.ru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ols_at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rt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642960" y="2214720"/>
            <a:ext cx="56228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8"/>
              </a:rPr>
              <a:t>http://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ww.</a:t>
            </a:r>
            <a:r>
              <a:rPr b="0" i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9"/>
              </a:rPr>
              <a:t>multiurok.ru</a:t>
            </a:r>
            <a:r>
              <a:rPr b="0" i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1"/>
          <a:stretch/>
        </p:blipFill>
        <p:spPr>
          <a:xfrm>
            <a:off x="2714760" y="3071880"/>
            <a:ext cx="2325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3895920" cy="312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38005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1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Качество знаний по итогам внутреннего мониторинга учебных достижений обучающихся за межаттестационный период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3" descr="C:\Users\Тамара\Desktop\вапе.tif"/>
          <p:cNvPicPr/>
          <p:nvPr/>
        </p:nvPicPr>
        <p:blipFill>
          <a:blip r:embed="rId1"/>
          <a:stretch/>
        </p:blipFill>
        <p:spPr>
          <a:xfrm>
            <a:off x="5000760" y="1857240"/>
            <a:ext cx="3143160" cy="435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Тамара\Documents\Портфолио документы\справка4.jpg"/>
          <p:cNvPicPr/>
          <p:nvPr/>
        </p:nvPicPr>
        <p:blipFill>
          <a:blip r:embed="rId2"/>
          <a:stretch/>
        </p:blipFill>
        <p:spPr>
          <a:xfrm>
            <a:off x="857160" y="1928880"/>
            <a:ext cx="302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13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Качество знаний по итогам внешнего мониторинга учебных достижений обучающихся за межаттестационный период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C:\Users\Тамара\Documents\Портфолио документы\вапе.jpg"/>
          <p:cNvPicPr/>
          <p:nvPr/>
        </p:nvPicPr>
        <p:blipFill>
          <a:blip r:embed="rId1"/>
          <a:stretch/>
        </p:blipFill>
        <p:spPr>
          <a:xfrm>
            <a:off x="4572000" y="1928880"/>
            <a:ext cx="2832120" cy="392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Тамара\Documents\Портфолио документы\спр.jpg"/>
          <p:cNvPicPr/>
          <p:nvPr/>
        </p:nvPicPr>
        <p:blipFill>
          <a:blip r:embed="rId2"/>
          <a:stretch/>
        </p:blipFill>
        <p:spPr>
          <a:xfrm>
            <a:off x="714240" y="2027160"/>
            <a:ext cx="2786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:\Users\Тамара\Documents\Портфолио документы\всеросс.jpg"/>
          <p:cNvPicPr/>
          <p:nvPr/>
        </p:nvPicPr>
        <p:blipFill>
          <a:blip r:embed="rId1"/>
          <a:stretch/>
        </p:blipFill>
        <p:spPr>
          <a:xfrm>
            <a:off x="1000080" y="1214280"/>
            <a:ext cx="3076560" cy="426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Тамара\Documents\Портфолио документы\результ.jpg"/>
          <p:cNvPicPr/>
          <p:nvPr/>
        </p:nvPicPr>
        <p:blipFill>
          <a:blip r:embed="rId2"/>
          <a:stretch/>
        </p:blipFill>
        <p:spPr>
          <a:xfrm>
            <a:off x="4908600" y="1214280"/>
            <a:ext cx="302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16:17:07Z</dcterms:created>
  <dc:creator>Кабановы</dc:creator>
  <dc:description/>
  <dc:language>en-US</dc:language>
  <cp:lastModifiedBy>Тамара</cp:lastModifiedBy>
  <dcterms:modified xsi:type="dcterms:W3CDTF">2019-01-18T18:04:33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