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4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47.jpeg" ContentType="image/jpeg"/>
  <Override PartName="/ppt/media/image12.jpeg" ContentType="image/jpeg"/>
  <Override PartName="/ppt/media/image4.jpeg" ContentType="image/jpeg"/>
  <Override PartName="/ppt/media/image8.wmf" ContentType="image/x-wmf"/>
  <Override PartName="/ppt/media/image11.jpeg" ContentType="image/jpeg"/>
  <Override PartName="/ppt/media/image37.jpeg" ContentType="image/jpeg"/>
  <Override PartName="/ppt/media/image3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B81A-3A70-464E-8A88-A8623D269EB4}" type="slidenum">
              <a:rPr b="0" i="1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9512-1F2B-4D7B-BD29-7A977855231F}" type="slidenum">
              <a:rPr b="0" i="1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308-135A-4C99-A985-798A8CD7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020-7022-4076-A2E7-49E70458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2623-7313-4115-B3DD-1D29A4A7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FBE-9652-4981-B3CD-FF4A6140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9EFF-EFE6-4C1E-A44B-9576B59E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F944-DB13-482B-9F76-B7936976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3290-DB5E-4846-A71A-C484C3BD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2458-72AD-4330-BADC-D03446AA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3401-243A-46DC-B2A2-9C26408A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CA90-424F-4804-B0F0-6EF306B1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6AA8-0470-4781-86FC-FBD33780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776-F4C6-4E7B-B794-726DAA36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4769-8FCF-46C4-AF81-19BE2105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9608-2E04-480E-A345-CAA8680A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BE71-1F9C-4733-8C1E-0FC677E0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BB1D-C470-414D-BC31-B126A518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1E4B-9880-4251-A279-A2A78E0A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F15-DBE7-46F5-BB2A-4A6C8AE6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4EC-0FE3-429B-A794-6368EFBB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A2E-2E81-41F8-A07C-6F219F40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CF9-8E18-432F-94FA-484C5630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D5B-798D-4DAB-AFFB-92CAC26D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C45-0AAF-4759-8D81-FD13E60C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030-E036-4C7C-B121-407F0E5A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8589-D4BF-4772-8F91-23CB7D427F3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43AC-3603-4133-A309-2701E1BBD3E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roschkolu.ru/" TargetMode="External"/><Relationship Id="rId2" Type="http://schemas.openxmlformats.org/officeDocument/2006/relationships/hyperlink" Target="http://www.proschkolu.ru/" TargetMode="External"/><Relationship Id="rId3" Type="http://schemas.openxmlformats.org/officeDocument/2006/relationships/hyperlink" Target="http://www.proschkolu.ru/" TargetMode="External"/><Relationship Id="rId4" Type="http://schemas.openxmlformats.org/officeDocument/2006/relationships/hyperlink" Target="http://www.proschkolu.ru/" TargetMode="External"/><Relationship Id="rId5" Type="http://schemas.openxmlformats.org/officeDocument/2006/relationships/hyperlink" Target="http://www.proschkolu.ru/" TargetMode="External"/><Relationship Id="rId6" Type="http://schemas.openxmlformats.org/officeDocument/2006/relationships/hyperlink" Target="https://nsportal.ru/" TargetMode="External"/><Relationship Id="rId7" Type="http://schemas.openxmlformats.org/officeDocument/2006/relationships/hyperlink" Target="https://nsportal.ru/" TargetMode="External"/><Relationship Id="rId8" Type="http://schemas.openxmlformats.org/officeDocument/2006/relationships/hyperlink" Target="http:///" TargetMode="External"/><Relationship Id="rId9" Type="http://schemas.openxmlformats.org/officeDocument/2006/relationships/hyperlink" Target="http://multiurok.ru/" TargetMode="External"/><Relationship Id="rId10" Type="http://schemas.openxmlformats.org/officeDocument/2006/relationships/hyperlink" Target="http://multiurok.ru/" TargetMode="Externa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1520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Arial"/>
              </a:rPr>
              <a:t>Министерство образования</a:t>
            </a:r>
            <a:r>
              <a:rPr b="0" i="1" lang="ru-RU" sz="4000" spc="-1" strike="noStrike">
                <a:solidFill>
                  <a:srgbClr val="cc0000"/>
                </a:solidFill>
                <a:latin typeface="Arial"/>
              </a:rPr>
              <a:t> РМ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911840" y="200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2571840" y="3357720"/>
            <a:ext cx="614340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я математики МБОУ «Курташкинская средняя общеобразовательная школа» Атюрьевского района Республики Мордовия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500040" y="1500120"/>
            <a:ext cx="533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ортфолио</a:t>
            </a:r>
            <a:endParaRPr b="0" i="1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571680" y="2357280"/>
            <a:ext cx="6286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лковой </a:t>
            </a: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инаиды</a:t>
            </a: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новны</a:t>
            </a: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5715000" y="1643040"/>
            <a:ext cx="20098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6760" y="277920"/>
            <a:ext cx="857268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Применение информационно-коммуникационных технологи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4" descr="C:\Users\Тамара\Documents\Портфолио документы\орн.jpg"/>
          <p:cNvPicPr/>
          <p:nvPr/>
        </p:nvPicPr>
        <p:blipFill>
          <a:blip r:embed="rId1"/>
          <a:stretch/>
        </p:blipFill>
        <p:spPr>
          <a:xfrm>
            <a:off x="3071880" y="1785960"/>
            <a:ext cx="3076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50104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Реализация: -программ углубленного изучения предмета; -профильного обуче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Участие в инновационной (экспериментальной) деятельност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Результаты участия обучающихся во Всероссийской предметной олимпиаде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239840" y="1300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-1065240" y="2236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251000" y="1341360"/>
            <a:ext cx="52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Муниципальный уровень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8" descr="C:\Users\Тамара\Documents\Портфолио документы\грам3.jpg"/>
          <p:cNvPicPr/>
          <p:nvPr/>
        </p:nvPicPr>
        <p:blipFill>
          <a:blip r:embed="rId1"/>
          <a:stretch/>
        </p:blipFill>
        <p:spPr>
          <a:xfrm>
            <a:off x="4714920" y="2071800"/>
            <a:ext cx="2884320" cy="4000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C:\Users\Тамара\Documents\Портфолио документы\онг.jpg"/>
          <p:cNvPicPr/>
          <p:nvPr/>
        </p:nvPicPr>
        <p:blipFill>
          <a:blip r:embed="rId2"/>
          <a:stretch/>
        </p:blipFill>
        <p:spPr>
          <a:xfrm>
            <a:off x="785880" y="2071800"/>
            <a:ext cx="28573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501040" cy="1428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озитивные результаты внеурочной деятельности обучающихся по учебным предметам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121040" y="130032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          </a:t>
            </a: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6" descr="C:\Users\Тамара\Documents\Портфолио документы\грам.jpg"/>
          <p:cNvPicPr/>
          <p:nvPr/>
        </p:nvPicPr>
        <p:blipFill>
          <a:blip r:embed="rId1"/>
          <a:stretch/>
        </p:blipFill>
        <p:spPr>
          <a:xfrm>
            <a:off x="1214280" y="2000160"/>
            <a:ext cx="3000600" cy="4160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Users\Тамара\Documents\Портфолио документы\грам 2.jpg"/>
          <p:cNvPicPr/>
          <p:nvPr/>
        </p:nvPicPr>
        <p:blipFill>
          <a:blip r:embed="rId2"/>
          <a:stretch/>
        </p:blipFill>
        <p:spPr>
          <a:xfrm>
            <a:off x="5299200" y="2000160"/>
            <a:ext cx="298764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C:\Users\Тамара\Documents\Портфолио документы\диплом.jpg"/>
          <p:cNvPicPr/>
          <p:nvPr/>
        </p:nvPicPr>
        <p:blipFill>
          <a:blip r:embed="rId1"/>
          <a:stretch/>
        </p:blipFill>
        <p:spPr>
          <a:xfrm>
            <a:off x="5000760" y="642960"/>
            <a:ext cx="3214440" cy="4459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Тамара\Documents\Портфолио документы\грам6.jpg"/>
          <p:cNvPicPr/>
          <p:nvPr/>
        </p:nvPicPr>
        <p:blipFill>
          <a:blip r:embed="rId2"/>
          <a:stretch/>
        </p:blipFill>
        <p:spPr>
          <a:xfrm>
            <a:off x="1071720" y="571680"/>
            <a:ext cx="3295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Наличие публикаци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Прямоугольник 5"/>
          <p:cNvSpPr/>
          <p:nvPr/>
        </p:nvSpPr>
        <p:spPr>
          <a:xfrm>
            <a:off x="214200" y="171468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сийский уровень: методические разработки на портале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urok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ru 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3214800" y="2857680"/>
            <a:ext cx="2357280" cy="3330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5786280" y="3465360"/>
            <a:ext cx="2286000" cy="3230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"/>
          <p:cNvPicPr/>
          <p:nvPr/>
        </p:nvPicPr>
        <p:blipFill>
          <a:blip r:embed="rId3"/>
          <a:stretch/>
        </p:blipFill>
        <p:spPr>
          <a:xfrm>
            <a:off x="500040" y="2286000"/>
            <a:ext cx="23065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3929040" y="1643040"/>
            <a:ext cx="4267080" cy="3019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500040" y="1357200"/>
            <a:ext cx="27860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C:\Users\Тамара\Documents\Портфолио документы\12324.jpg"/>
          <p:cNvPicPr/>
          <p:nvPr/>
        </p:nvPicPr>
        <p:blipFill>
          <a:blip r:embed="rId1"/>
          <a:stretch/>
        </p:blipFill>
        <p:spPr>
          <a:xfrm>
            <a:off x="4572000" y="3500280"/>
            <a:ext cx="4267080" cy="300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Users\Тамара\Documents\Портфолио документы\мы.jpg"/>
          <p:cNvPicPr/>
          <p:nvPr/>
        </p:nvPicPr>
        <p:blipFill>
          <a:blip r:embed="rId2"/>
          <a:stretch/>
        </p:blipFill>
        <p:spPr>
          <a:xfrm>
            <a:off x="285840" y="285840"/>
            <a:ext cx="40528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Наличие авторских программ, методических пособий, методических рекомендаций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229600" cy="100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Общие сведен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42920" y="1492200"/>
          <a:ext cx="8786880" cy="5315040"/>
        </p:xfrm>
        <a:graphic>
          <a:graphicData uri="http://schemas.openxmlformats.org/drawingml/2006/table">
            <a:tbl>
              <a:tblPr/>
              <a:tblGrid>
                <a:gridCol w="3809880"/>
                <a:gridCol w="4977000"/>
              </a:tblGrid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ab0043"/>
                          </a:solidFill>
                          <a:latin typeface="Times New Roman"/>
                          <a:ea typeface="Calibri"/>
                        </a:rPr>
                        <a:t>Фамилия, имя, отчество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лкова Зинаида Ивановна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ата рождения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.10.1970 год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Название образовательного учреждения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БОУ «Курташкинская средняя общеобразовательная школа»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Сведения об образовании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иплома.., дата выдачи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сшее, 1993 г., МГПИ имени  М.Е. Евсевьева, по специальности «Физика с дополнительной специальностью математика».  Присуждена квалификация «Учитель физики и математики».  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плом ЦВ 345584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Должность по штатному расписанию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MS Gothic"/>
                        </a:rPr>
                        <a:t>У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читель математики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валификационная категория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оответствие занимаемой должности, 2016 г.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Общий педагогический стаж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 лет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таж педагогической работы (по специальности):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 лет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143920" cy="1417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Выступления на научно-практических конференциях, педагогических чтениях, семинарах, секциях, методических объединениях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1520" y="1401840"/>
            <a:ext cx="2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824720" y="1484280"/>
            <a:ext cx="3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i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7" descr="C:\Users\Тамара\Documents\Портфолио документы\бон.jpg"/>
          <p:cNvPicPr/>
          <p:nvPr/>
        </p:nvPicPr>
        <p:blipFill>
          <a:blip r:embed="rId1"/>
          <a:stretch/>
        </p:blipFill>
        <p:spPr>
          <a:xfrm>
            <a:off x="1000080" y="1857240"/>
            <a:ext cx="3000600" cy="4160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C:\Users\Тамара\Documents\Портфолио документы\ннн.jpg"/>
          <p:cNvPicPr/>
          <p:nvPr/>
        </p:nvPicPr>
        <p:blipFill>
          <a:blip r:embed="rId2"/>
          <a:stretch/>
        </p:blipFill>
        <p:spPr>
          <a:xfrm>
            <a:off x="5286240" y="1928880"/>
            <a:ext cx="2928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260280"/>
            <a:ext cx="828648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Проведение открытых уроков, мастер-классов, мероприят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247840" y="16606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Picture 6" descr="C:\Users\Тамара\Documents\Портфолио документы\бжж.jpg"/>
          <p:cNvPicPr/>
          <p:nvPr/>
        </p:nvPicPr>
        <p:blipFill>
          <a:blip r:embed="rId1"/>
          <a:stretch/>
        </p:blipFill>
        <p:spPr>
          <a:xfrm>
            <a:off x="857160" y="1928880"/>
            <a:ext cx="3076560" cy="4267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C:\Users\Тамара\Documents\Портфолио документы\ж.жз.jpg"/>
          <p:cNvPicPr/>
          <p:nvPr/>
        </p:nvPicPr>
        <p:blipFill>
          <a:blip r:embed="rId2"/>
          <a:stretch/>
        </p:blipFill>
        <p:spPr>
          <a:xfrm>
            <a:off x="4462560" y="1928880"/>
            <a:ext cx="30384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Общественно-педагогическая активность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762560" y="12812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i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-1281240" y="2092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7" descr="C:\Users\Тамара\Documents\Портфолио документы\дщ.jpg"/>
          <p:cNvPicPr/>
          <p:nvPr/>
        </p:nvPicPr>
        <p:blipFill>
          <a:blip r:embed="rId1"/>
          <a:stretch/>
        </p:blipFill>
        <p:spPr>
          <a:xfrm>
            <a:off x="642960" y="1928880"/>
            <a:ext cx="3076560" cy="4267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C:\Users\Тамара\Documents\Портфолио документы\справка.jpg"/>
          <p:cNvPicPr/>
          <p:nvPr/>
        </p:nvPicPr>
        <p:blipFill>
          <a:blip r:embed="rId2"/>
          <a:stretch/>
        </p:blipFill>
        <p:spPr>
          <a:xfrm>
            <a:off x="4714920" y="1857240"/>
            <a:ext cx="3076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C:\Users\Тамара\Documents\Портфолио документы\сертиф.jpg"/>
          <p:cNvPicPr/>
          <p:nvPr/>
        </p:nvPicPr>
        <p:blipFill>
          <a:blip r:embed="rId1"/>
          <a:stretch/>
        </p:blipFill>
        <p:spPr>
          <a:xfrm>
            <a:off x="4929120" y="714240"/>
            <a:ext cx="3500640" cy="4854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Users\Тамара\Documents\Портфолио документы\лщ.jpg"/>
          <p:cNvPicPr/>
          <p:nvPr/>
        </p:nvPicPr>
        <p:blipFill>
          <a:blip r:embed="rId2"/>
          <a:stretch/>
        </p:blipFill>
        <p:spPr>
          <a:xfrm>
            <a:off x="785880" y="714240"/>
            <a:ext cx="350028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C:\Users\Тамара\Documents\Портфолио документы\сертификат.jpg"/>
          <p:cNvPicPr/>
          <p:nvPr/>
        </p:nvPicPr>
        <p:blipFill>
          <a:blip r:embed="rId1"/>
          <a:stretch/>
        </p:blipFill>
        <p:spPr>
          <a:xfrm>
            <a:off x="642960" y="1143000"/>
            <a:ext cx="3076560" cy="4267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C:\Users\Тамара\Documents\Портфолио документы\СВИЛ.jpg"/>
          <p:cNvPicPr/>
          <p:nvPr/>
        </p:nvPicPr>
        <p:blipFill>
          <a:blip r:embed="rId2"/>
          <a:stretch/>
        </p:blipFill>
        <p:spPr>
          <a:xfrm>
            <a:off x="4643280" y="3500280"/>
            <a:ext cx="3981600" cy="2870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C:\Users\Тамара\Documents\Портфолио документы\сертифи.jpg"/>
          <p:cNvPicPr/>
          <p:nvPr/>
        </p:nvPicPr>
        <p:blipFill>
          <a:blip r:embed="rId3"/>
          <a:stretch/>
        </p:blipFill>
        <p:spPr>
          <a:xfrm>
            <a:off x="4714920" y="500040"/>
            <a:ext cx="38386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2357280" cy="3332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2"/>
          <a:stretch/>
        </p:blipFill>
        <p:spPr>
          <a:xfrm>
            <a:off x="3357720" y="1785960"/>
            <a:ext cx="2286000" cy="3230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3"/>
          <a:stretch/>
        </p:blipFill>
        <p:spPr>
          <a:xfrm>
            <a:off x="6286680" y="2643120"/>
            <a:ext cx="24285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1000080" y="1000080"/>
            <a:ext cx="2857680" cy="4040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4857840" y="2000160"/>
            <a:ext cx="286200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5480" y="277920"/>
            <a:ext cx="835812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Награды и поощрения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10601280" y="20923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Picture 6" descr="C:\Users\Тамара\Documents\Портфолио документы\грам 5.jpg"/>
          <p:cNvPicPr/>
          <p:nvPr/>
        </p:nvPicPr>
        <p:blipFill>
          <a:blip r:embed="rId1"/>
          <a:stretch/>
        </p:blipFill>
        <p:spPr>
          <a:xfrm>
            <a:off x="4994280" y="1857240"/>
            <a:ext cx="3089160" cy="4286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C:\Users\Тамара\Documents\Портфолио документы\грам 4.jpg"/>
          <p:cNvPicPr/>
          <p:nvPr/>
        </p:nvPicPr>
        <p:blipFill>
          <a:blip r:embed="rId2"/>
          <a:stretch/>
        </p:blipFill>
        <p:spPr>
          <a:xfrm>
            <a:off x="928800" y="1857240"/>
            <a:ext cx="3076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56760" y="277920"/>
            <a:ext cx="8572680" cy="113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овышение квалификации, профессиональная переподготовка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Picture 4" descr="C:\Users\Тамара\Documents\Портфолио документы\удост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7216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5840" y="142920"/>
            <a:ext cx="8572320" cy="1571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Arial"/>
              </a:rPr>
              <a:t>Представление собственного инновационного педагогического опыт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5" descr="C:\Users\Тамара\Documents\Портфолио документы\пуб 1.jpg"/>
          <p:cNvPicPr/>
          <p:nvPr/>
        </p:nvPicPr>
        <p:blipFill>
          <a:blip r:embed="rId1"/>
          <a:stretch/>
        </p:blipFill>
        <p:spPr>
          <a:xfrm>
            <a:off x="857160" y="2000160"/>
            <a:ext cx="3076560" cy="426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:\Users\Тамара\Documents\Портфолио документы\пуб2.jpg"/>
          <p:cNvPicPr/>
          <p:nvPr/>
        </p:nvPicPr>
        <p:blipFill>
          <a:blip r:embed="rId2"/>
          <a:stretch/>
        </p:blipFill>
        <p:spPr>
          <a:xfrm>
            <a:off x="4786200" y="1973160"/>
            <a:ext cx="307188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C:\Users\Тамара\Documents\Портфолио документы\пуб 3.jpg"/>
          <p:cNvPicPr/>
          <p:nvPr/>
        </p:nvPicPr>
        <p:blipFill>
          <a:blip r:embed="rId1"/>
          <a:stretch/>
        </p:blipFill>
        <p:spPr>
          <a:xfrm>
            <a:off x="4786200" y="857160"/>
            <a:ext cx="3295800" cy="457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C:\Users\Тамара\Documents\Портфолио документы\пуб3.jpg"/>
          <p:cNvPicPr/>
          <p:nvPr/>
        </p:nvPicPr>
        <p:blipFill>
          <a:blip r:embed="rId2"/>
          <a:stretch/>
        </p:blipFill>
        <p:spPr>
          <a:xfrm>
            <a:off x="571680" y="857160"/>
            <a:ext cx="333360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357120"/>
            <a:ext cx="850752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975"/>
              </a:spcBef>
              <a:buClr>
                <a:srgbClr val="0000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1"/>
              </a:rPr>
              <a:t>http</a:t>
            </a:r>
            <a:r>
              <a:rPr b="0" lang="ru-RU" sz="39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2"/>
              </a:rPr>
              <a:t>:</a:t>
            </a:r>
            <a:r>
              <a:rPr b="0" lang="en-US" sz="39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3"/>
              </a:rPr>
              <a:t>//www.proschkolu</a:t>
            </a:r>
            <a:r>
              <a:rPr b="0" lang="ru-RU" sz="39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39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5"/>
              </a:rPr>
              <a:t>ru</a:t>
            </a:r>
            <a:endParaRPr b="0" lang="en-US" sz="3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0000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www.</a:t>
            </a:r>
            <a:r>
              <a:rPr b="0" lang="ru-RU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6"/>
              </a:rPr>
              <a:t> </a:t>
            </a:r>
            <a:r>
              <a:rPr b="0" lang="ru-RU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7"/>
              </a:rPr>
              <a:t>nsportal.ru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5000"/>
              </a:lnSpc>
              <a:spcBef>
                <a:spcPts val="901"/>
              </a:spcBef>
              <a:buClr>
                <a:srgbClr val="0000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www.Schoolrm.ru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ools_at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urt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642960" y="2214720"/>
            <a:ext cx="56228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7000" indent="-297000">
              <a:lnSpc>
                <a:spcPct val="95000"/>
              </a:lnSpc>
              <a:buClr>
                <a:srgbClr val="000099"/>
              </a:buClr>
              <a:buFont typeface="Arial"/>
              <a:buChar char="•"/>
              <a:tabLst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8"/>
              </a:rPr>
              <a:t>http://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ww.</a:t>
            </a:r>
            <a:r>
              <a:rPr b="0" i="1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9"/>
              </a:rPr>
              <a:t>multiurok.ru</a:t>
            </a:r>
            <a:r>
              <a:rPr b="0" i="1" lang="en-US" sz="36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endParaRPr b="0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1"/>
          <a:stretch/>
        </p:blipFill>
        <p:spPr>
          <a:xfrm>
            <a:off x="2714760" y="3071880"/>
            <a:ext cx="2325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3895920" cy="3124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4643280" y="3000240"/>
            <a:ext cx="380052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417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Качество знаний по итогам внутреннего мониторинга учебных достижений обучающихся за межаттестационный период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3" descr="C:\Users\Тамара\Desktop\вапе.tif"/>
          <p:cNvPicPr/>
          <p:nvPr/>
        </p:nvPicPr>
        <p:blipFill>
          <a:blip r:embed="rId1"/>
          <a:stretch/>
        </p:blipFill>
        <p:spPr>
          <a:xfrm>
            <a:off x="5000760" y="1857240"/>
            <a:ext cx="3143160" cy="435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C:\Users\Тамара\Documents\Портфолио документы\справка4.jpg"/>
          <p:cNvPicPr/>
          <p:nvPr/>
        </p:nvPicPr>
        <p:blipFill>
          <a:blip r:embed="rId2"/>
          <a:stretch/>
        </p:blipFill>
        <p:spPr>
          <a:xfrm>
            <a:off x="857160" y="1928880"/>
            <a:ext cx="30258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8229600" cy="13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Качество знаний по итогам внешнего мониторинга учебных достижений обучающихся за межаттестационный период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Picture 5" descr="C:\Users\Тамара\Documents\Портфолио документы\вапе.jpg"/>
          <p:cNvPicPr/>
          <p:nvPr/>
        </p:nvPicPr>
        <p:blipFill>
          <a:blip r:embed="rId1"/>
          <a:stretch/>
        </p:blipFill>
        <p:spPr>
          <a:xfrm>
            <a:off x="4572000" y="1928880"/>
            <a:ext cx="2832120" cy="3929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Тамара\Documents\Портфолио документы\спр.jpg"/>
          <p:cNvPicPr/>
          <p:nvPr/>
        </p:nvPicPr>
        <p:blipFill>
          <a:blip r:embed="rId2"/>
          <a:stretch/>
        </p:blipFill>
        <p:spPr>
          <a:xfrm>
            <a:off x="714240" y="2027160"/>
            <a:ext cx="27860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C:\Users\Тамара\Documents\Портфолио документы\всеросс.jpg"/>
          <p:cNvPicPr/>
          <p:nvPr/>
        </p:nvPicPr>
        <p:blipFill>
          <a:blip r:embed="rId1"/>
          <a:stretch/>
        </p:blipFill>
        <p:spPr>
          <a:xfrm>
            <a:off x="1000080" y="1214280"/>
            <a:ext cx="3076560" cy="4267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Users\Тамара\Documents\Портфолио документы\результ.jpg"/>
          <p:cNvPicPr/>
          <p:nvPr/>
        </p:nvPicPr>
        <p:blipFill>
          <a:blip r:embed="rId2"/>
          <a:stretch/>
        </p:blipFill>
        <p:spPr>
          <a:xfrm>
            <a:off x="4908600" y="1214280"/>
            <a:ext cx="30258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8T16:17:07Z</dcterms:created>
  <dc:creator>Кабановы</dc:creator>
  <dc:description/>
  <dc:language>en-US</dc:language>
  <cp:lastModifiedBy>Тамара</cp:lastModifiedBy>
  <dcterms:modified xsi:type="dcterms:W3CDTF">2019-01-18T18:04:33Z</dcterms:modified>
  <cp:revision>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