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73E0-39FC-480C-A718-C293A4F11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C54D-7FF5-4D17-B455-128FA9C1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0300-A6DB-4541-B998-503016836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5898-E0A6-46C3-B8F4-8B291B79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3FA2-320B-4029-BA96-EAD351A7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2260-5555-4768-AA55-EC5469C2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36AF-0464-41D6-9177-5063914E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6247-0085-42C7-A471-B2D07B88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BF92-8235-4F6F-8116-1AB2F01C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67E5-65BC-43F1-A484-248034A4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19FF-00FE-40A8-A8B0-56505EDD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54DD-C9C9-489C-BF7E-907765E2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F3F7-22B0-47D8-89EE-936A38052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8T08:39:56Z</dcterms:created>
  <dc:creator>Наталья</dc:creator>
  <dc:description/>
  <dc:language>en-US</dc:language>
  <cp:lastModifiedBy>Наталья</cp:lastModifiedBy>
  <dcterms:modified xsi:type="dcterms:W3CDTF">2019-01-18T08:56:1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