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B68D-0034-4853-AB07-8DCE2EF4F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CD58-014B-4CE9-86CD-5A1378C1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CE6D-F13D-49D9-BD37-4673D5E96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0134-0B61-4BB5-ACDC-8B11D37EC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3A13-CFA5-4435-B6BE-12A55639C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16CA-4651-4276-A2CA-15EE71B54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C8D8-4035-44BD-8367-5C5856F5D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DF3D-1782-4FBC-868E-789303942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5FEC-8120-4813-8F0B-91D81247B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D575-FBB2-4D1A-8F35-BB8F86EE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694B-6441-4116-A8DC-9C95906F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D64C-D02F-4EFC-9AE4-F2DD0E0F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22F54-530A-4FD7-9F4C-0B5E2D5482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18T08:39:56Z</dcterms:created>
  <dc:creator>Наталья</dc:creator>
  <dc:description/>
  <dc:language>en-US</dc:language>
  <cp:lastModifiedBy>Наталья</cp:lastModifiedBy>
  <dcterms:modified xsi:type="dcterms:W3CDTF">2019-01-18T09:20:2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