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4D1-44EA-4479-A2F6-EF9881DB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C9B-8DFC-471E-BA96-5128A81F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1C1-8508-4DE3-91D3-F82F4BC9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EA9-B905-45FD-94ED-F918FFE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161-948E-4320-8E61-11916E8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F61-6F79-40CF-B43F-45152278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613-460B-49BC-9385-8F493A87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8DF-6B2A-408E-970E-8F51015E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8FE-63D2-411E-A7C3-96F3B80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7A3-EB11-48F3-BE8A-F005E28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BE7-8EA9-4B11-A0F6-A89C2532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F15-9F2C-4D9F-8E5E-C9C001C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BF6-A7EA-46CE-B7A9-0385948E9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rod.tomsk.ru/i/u/3932/19.jpg" TargetMode="External"/><Relationship Id="rId2" Type="http://schemas.openxmlformats.org/officeDocument/2006/relationships/hyperlink" Target="http://magneticliquid.narod.ru/vksn/help/r1268_1.gif" TargetMode="External"/><Relationship Id="rId3" Type="http://schemas.openxmlformats.org/officeDocument/2006/relationships/hyperlink" Target="http://magneticliquid.narod.ru/vksn/help/r1268_1.gif" TargetMode="External"/><Relationship Id="rId4" Type="http://schemas.openxmlformats.org/officeDocument/2006/relationships/hyperlink" Target="http://magneticliquid.narod.ru/vksn/help/r1268_1.gif" TargetMode="External"/><Relationship Id="rId5" Type="http://schemas.openxmlformats.org/officeDocument/2006/relationships/hyperlink" Target="http://magneticliquid.narod.ru/vksn/help/r1268_1.gif" TargetMode="External"/><Relationship Id="rId6" Type="http://schemas.openxmlformats.org/officeDocument/2006/relationships/hyperlink" Target="http://magneticliquid.narod.ru/vksn/help/r1268_1.gif" TargetMode="External"/><Relationship Id="rId7" Type="http://schemas.openxmlformats.org/officeDocument/2006/relationships/hyperlink" Target="http://magneticliquid.narod.ru/vksn/help/r1268_1.gif" TargetMode="External"/><Relationship Id="rId8" Type="http://schemas.openxmlformats.org/officeDocument/2006/relationships/hyperlink" Target="http://magneticliquid.narod.ru/vksn/help/r1268_1.gif" TargetMode="External"/><Relationship Id="rId9" Type="http://schemas.openxmlformats.org/officeDocument/2006/relationships/hyperlink" Target="http://magneticliquid.narod.ru/vksn/help/r1268_1.gif" TargetMode="External"/><Relationship Id="rId10" Type="http://schemas.openxmlformats.org/officeDocument/2006/relationships/hyperlink" Target="http://magneticliquid.narod.ru/vksn/help/r1268_1.gif" TargetMode="External"/><Relationship Id="rId11" Type="http://schemas.openxmlformats.org/officeDocument/2006/relationships/hyperlink" Target="http://magneticliquid.narod.ru/vksn/help/r1268_1.gif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124000" y="548172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908000" y="512136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32000" y="5661000"/>
            <a:ext cx="414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3-1265691942"/>
          <p:cNvPicPr/>
          <p:nvPr/>
        </p:nvPicPr>
        <p:blipFill>
          <a:blip r:embed="rId1"/>
          <a:stretch/>
        </p:blipFill>
        <p:spPr>
          <a:xfrm>
            <a:off x="6084720" y="4473720"/>
            <a:ext cx="2586240" cy="193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d4b33d318c63"/>
          <p:cNvPicPr/>
          <p:nvPr/>
        </p:nvPicPr>
        <p:blipFill>
          <a:blip r:embed="rId2"/>
          <a:stretch/>
        </p:blipFill>
        <p:spPr>
          <a:xfrm>
            <a:off x="5292720" y="1735200"/>
            <a:ext cx="3529080" cy="2336760"/>
          </a:xfrm>
          <a:prstGeom prst="rect">
            <a:avLst/>
          </a:prstGeom>
          <a:ln w="0">
            <a:noFill/>
          </a:ln>
        </p:spPr>
      </p:pic>
      <p:sp>
        <p:nvSpPr>
          <p:cNvPr id="46" name="WordArt 24"/>
          <p:cNvSpPr txBox="1"/>
          <p:nvPr/>
        </p:nvSpPr>
        <p:spPr>
          <a:xfrm>
            <a:off x="324000" y="260280"/>
            <a:ext cx="850716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мире кодов. Способы кодирования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25" descr="лев"/>
          <p:cNvPicPr/>
          <p:nvPr/>
        </p:nvPicPr>
        <p:blipFill>
          <a:blip r:embed="rId3"/>
          <a:stretch/>
        </p:blipFill>
        <p:spPr>
          <a:xfrm>
            <a:off x="287280" y="1160640"/>
            <a:ext cx="3173400" cy="191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ноты"/>
          <p:cNvPicPr/>
          <p:nvPr/>
        </p:nvPicPr>
        <p:blipFill>
          <a:blip r:embed="rId4"/>
          <a:stretch/>
        </p:blipFill>
        <p:spPr>
          <a:xfrm>
            <a:off x="468360" y="3249720"/>
            <a:ext cx="2487600" cy="316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" descr="азбука глухих - копия"/>
          <p:cNvPicPr/>
          <p:nvPr/>
        </p:nvPicPr>
        <p:blipFill>
          <a:blip r:embed="rId5"/>
          <a:stretch/>
        </p:blipFill>
        <p:spPr>
          <a:xfrm>
            <a:off x="3240000" y="1413000"/>
            <a:ext cx="2328840" cy="349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збука Брай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книга Брайля"/>
          <p:cNvPicPr/>
          <p:nvPr/>
        </p:nvPicPr>
        <p:blipFill>
          <a:blip r:embed="rId1"/>
          <a:stretch/>
        </p:blipFill>
        <p:spPr>
          <a:xfrm>
            <a:off x="4608360" y="3392640"/>
            <a:ext cx="3989520" cy="299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Азбука Брайля"/>
          <p:cNvPicPr/>
          <p:nvPr/>
        </p:nvPicPr>
        <p:blipFill>
          <a:blip r:embed="rId2"/>
          <a:stretch/>
        </p:blipFill>
        <p:spPr>
          <a:xfrm>
            <a:off x="647640" y="1341360"/>
            <a:ext cx="325116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збука Мор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63907606"/>
          <p:cNvPicPr/>
          <p:nvPr/>
        </p:nvPicPr>
        <p:blipFill>
          <a:blip r:embed="rId1"/>
          <a:stretch/>
        </p:blipFill>
        <p:spPr>
          <a:xfrm>
            <a:off x="324000" y="1449360"/>
            <a:ext cx="4500360" cy="382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1263907606 - копия"/>
          <p:cNvPicPr/>
          <p:nvPr/>
        </p:nvPicPr>
        <p:blipFill>
          <a:blip r:embed="rId2"/>
          <a:stretch/>
        </p:blipFill>
        <p:spPr>
          <a:xfrm>
            <a:off x="4859280" y="3608280"/>
            <a:ext cx="3960720" cy="28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150920" y="22536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лажковая азбу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флажковая азбука"/>
          <p:cNvPicPr/>
          <p:nvPr/>
        </p:nvPicPr>
        <p:blipFill>
          <a:blip r:embed="rId1"/>
          <a:stretch/>
        </p:blipFill>
        <p:spPr>
          <a:xfrm>
            <a:off x="1908000" y="1268280"/>
            <a:ext cx="5256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216000" y="94464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кодирования  (форма представления )информации зависят от цели, ради которой  осуществляется код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и целями могут  быть  сокращение записи, засекречивание (шифровка) информации, удобство обработк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7280" y="3681360"/>
            <a:ext cx="856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0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применяют следующие способы кодирования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рафическ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 помощью рисунков или знач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исло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помощью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имво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помощью символов того же алфавита, что и исходный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68360" y="80028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от одной формы представлен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ругой, более удобной для хранения, передачи или обработки, также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ированием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231300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 восстановлению первоначальной формы представления информации принято назыв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дировани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кодирования надо знат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normal_%E0"/>
          <p:cNvPicPr/>
          <p:nvPr/>
        </p:nvPicPr>
        <p:blipFill>
          <a:blip r:embed="rId1"/>
          <a:stretch/>
        </p:blipFill>
        <p:spPr>
          <a:xfrm>
            <a:off x="4896000" y="3968640"/>
            <a:ext cx="3985920" cy="26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Как читать штриховой код"/>
          <p:cNvPicPr/>
          <p:nvPr/>
        </p:nvPicPr>
        <p:blipFill>
          <a:blip r:embed="rId2"/>
          <a:stretch/>
        </p:blipFill>
        <p:spPr>
          <a:xfrm>
            <a:off x="324000" y="4113360"/>
            <a:ext cx="45720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76360" y="1015920"/>
            <a:ext cx="82087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ние на д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, стр. 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WordArt 4"/>
          <p:cNvGrpSpPr/>
          <p:nvPr/>
        </p:nvGrpSpPr>
        <p:grpSpPr>
          <a:xfrm>
            <a:off x="1511280" y="981000"/>
            <a:ext cx="6085080" cy="1292400"/>
            <a:chOff x="1511280" y="981000"/>
            <a:chExt cx="6085080" cy="1292400"/>
          </a:xfrm>
        </p:grpSpPr>
        <p:pic>
          <p:nvPicPr>
            <p:cNvPr id="95" name="WordArt 4" descr=""/>
            <p:cNvPicPr/>
            <p:nvPr/>
          </p:nvPicPr>
          <p:blipFill>
            <a:blip r:embed="rId1"/>
            <a:stretch/>
          </p:blipFill>
          <p:spPr>
            <a:xfrm>
              <a:off x="1511280" y="981000"/>
              <a:ext cx="608508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511280" y="981000"/>
              <a:ext cx="60850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пасибо за урок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5" descr="i-19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  <a:ea typeface="Times New Roman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9280" y="90792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83320" indent="-28332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тика и ИКТ : учебник для 5 класса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Л. Босова. – М.: БИНОМ. Лаборатория знаний,  2009. - 192 с.:ил.- ISBN : 978-5-94774-83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gorod.tomsk.ru/i/u/3932/19.jpg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ь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ov.ru/main/img/note.gif н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verclockers.ua/news/101967.jpg ж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u.all.biz/img/ru/catalog/403465.jpeg дорожные 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laycast.ru/uploads/2010/09/04/1958030.gif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24.radikal.ru/0712/e1/c451abdd379a.jpg азбука глух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rankandandyschleck.com/images/open_book.jpg кни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lementy.ru/images/news/basic_emotions_600.jpg ми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49.radikal.ru/i124/0906/a1/d1b16566f6cf.jpg жесты р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auto.cz/moje.auto.cz/img/galleries/4be1c34fcd8eb/4be1cd46056cf.jpg схема автомоби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estigedesign.ru/images/gallery/butterfly%208.jpg баб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ixelbrush.ru/uploads/posts/2009-02/1233826343_the_isolated_tree_vector.jpg дер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do.rudn.ru/nfpk/fizika/kinematika/course_files/_2.1/motion.gif равномерно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iolaobrasil.com.br/wp-content/lansa_composer.jpg дири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b/3/16/317/16317843_pic_resize.jpg Московский двор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071.radikal.ru/0911/f9/2fb550c23d69.jpg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ёт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magneticliqui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vks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elp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8_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f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 Брай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orexaw.com/uploads/news/19/1263907606.jpg  азбука Мор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tbshop.ru/dbpics/7368.JPG флажковая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rsmazok.ru/images/sctrih-kod.gif штрих-к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8920" y="404640"/>
            <a:ext cx="842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а и та же информация может быть представлена различными кодами, иначе говоря, в разных форм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 выработали множество форм представлен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ним 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58920" y="404640"/>
            <a:ext cx="842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языки (более 2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35280" y="1557360"/>
            <a:ext cx="6156360" cy="39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-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КНИ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- 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 -    </a:t>
            </a:r>
            <a:r>
              <a:rPr b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BUCH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язык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-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LI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книга"/>
          <p:cNvPicPr/>
          <p:nvPr/>
        </p:nvPicPr>
        <p:blipFill>
          <a:blip r:embed="rId1"/>
          <a:stretch/>
        </p:blipFill>
        <p:spPr>
          <a:xfrm rot="1365000">
            <a:off x="0" y="2313000"/>
            <a:ext cx="3276720" cy="203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58920" y="404640"/>
            <a:ext cx="84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мимики и же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мимика"/>
          <p:cNvPicPr/>
          <p:nvPr/>
        </p:nvPicPr>
        <p:blipFill>
          <a:blip r:embed="rId1"/>
          <a:stretch/>
        </p:blipFill>
        <p:spPr>
          <a:xfrm>
            <a:off x="611280" y="1305000"/>
            <a:ext cx="4405320" cy="363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жесты руками - копия"/>
          <p:cNvPicPr/>
          <p:nvPr/>
        </p:nvPicPr>
        <p:blipFill>
          <a:blip r:embed="rId2"/>
          <a:stretch/>
        </p:blipFill>
        <p:spPr>
          <a:xfrm>
            <a:off x="358920" y="5049720"/>
            <a:ext cx="5314680" cy="150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жесты руками"/>
          <p:cNvPicPr/>
          <p:nvPr/>
        </p:nvPicPr>
        <p:blipFill>
          <a:blip r:embed="rId3"/>
          <a:stretch/>
        </p:blipFill>
        <p:spPr>
          <a:xfrm>
            <a:off x="5508720" y="1125360"/>
            <a:ext cx="3066840" cy="451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31640" y="225360"/>
            <a:ext cx="84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рисунков и черте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схема автомобиля"/>
          <p:cNvPicPr/>
          <p:nvPr/>
        </p:nvPicPr>
        <p:blipFill>
          <a:blip r:embed="rId1"/>
          <a:stretch/>
        </p:blipFill>
        <p:spPr>
          <a:xfrm>
            <a:off x="3924360" y="1052640"/>
            <a:ext cx="4802040" cy="426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бабочка"/>
          <p:cNvPicPr/>
          <p:nvPr/>
        </p:nvPicPr>
        <p:blipFill>
          <a:blip r:embed="rId2"/>
          <a:stretch/>
        </p:blipFill>
        <p:spPr>
          <a:xfrm>
            <a:off x="576360" y="944640"/>
            <a:ext cx="3463920" cy="258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дерево"/>
          <p:cNvPicPr/>
          <p:nvPr/>
        </p:nvPicPr>
        <p:blipFill>
          <a:blip r:embed="rId3"/>
          <a:stretch/>
        </p:blipFill>
        <p:spPr>
          <a:xfrm>
            <a:off x="1079640" y="3645000"/>
            <a:ext cx="2365200" cy="29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2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е языки (мате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Равном движ"/>
          <p:cNvPicPr/>
          <p:nvPr/>
        </p:nvPicPr>
        <p:blipFill>
          <a:blip r:embed="rId1"/>
          <a:stretch/>
        </p:blipFill>
        <p:spPr>
          <a:xfrm>
            <a:off x="3743280" y="2808360"/>
            <a:ext cx="5033880" cy="377496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971640" y="3500280"/>
            <a:ext cx="2232000" cy="2205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1476360" y="4184640"/>
                <a:ext cx="1233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5040360" y="1449360"/>
                <a:ext cx="2655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" name="Picture 7" descr="Формула пропана"/>
          <p:cNvPicPr/>
          <p:nvPr/>
        </p:nvPicPr>
        <p:blipFill>
          <a:blip r:embed="rId2"/>
          <a:stretch/>
        </p:blipFill>
        <p:spPr>
          <a:xfrm>
            <a:off x="287280" y="1089000"/>
            <a:ext cx="3510000" cy="2112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5724360" y="297000"/>
            <a:ext cx="17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6000" y="2970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8920" y="260280"/>
            <a:ext cx="83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у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ноты"/>
          <p:cNvPicPr/>
          <p:nvPr/>
        </p:nvPicPr>
        <p:blipFill>
          <a:blip r:embed="rId1"/>
          <a:stretch/>
        </p:blipFill>
        <p:spPr>
          <a:xfrm>
            <a:off x="684360" y="1628640"/>
            <a:ext cx="3705120" cy="471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дирижер"/>
          <p:cNvPicPr/>
          <p:nvPr/>
        </p:nvPicPr>
        <p:blipFill>
          <a:blip r:embed="rId2"/>
          <a:stretch/>
        </p:blipFill>
        <p:spPr>
          <a:xfrm>
            <a:off x="5256360" y="1628640"/>
            <a:ext cx="314784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25360"/>
            <a:ext cx="8389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опис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Поленов"/>
          <p:cNvPicPr/>
          <p:nvPr/>
        </p:nvPicPr>
        <p:blipFill>
          <a:blip r:embed="rId1"/>
          <a:stretch/>
        </p:blipFill>
        <p:spPr>
          <a:xfrm>
            <a:off x="1908000" y="1268280"/>
            <a:ext cx="5472360" cy="4545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95280" y="591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ий Дмитриевич Полен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й дворик. 18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000" y="225360"/>
            <a:ext cx="8389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искус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кульпту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95280" y="595008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Петру I («Медный всадник») открыли 7 августа 1782 года, в центре Сенатской площади. Автор скульптуры — Этьен-Морис Фалькон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Памятник"/>
          <p:cNvPicPr/>
          <p:nvPr/>
        </p:nvPicPr>
        <p:blipFill>
          <a:blip r:embed="rId1"/>
          <a:stretch/>
        </p:blipFill>
        <p:spPr>
          <a:xfrm>
            <a:off x="1332000" y="1125360"/>
            <a:ext cx="6654600" cy="484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8:07:30Z</dcterms:created>
  <dc:creator>122</dc:creator>
  <dc:description/>
  <dc:language>en-US</dc:language>
  <cp:lastModifiedBy>Нурисламова</cp:lastModifiedBy>
  <dcterms:modified xsi:type="dcterms:W3CDTF">2019-01-20T15:15:47Z</dcterms:modified>
  <cp:revision>19</cp:revision>
  <dc:subject/>
  <dc:title>Слайд 1</dc:title>
</cp:coreProperties>
</file>