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gif" ContentType="image/gif"/>
  <Override PartName="/ppt/media/image2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9A5-7A9C-4D85-8B45-DFBCE31A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DCD-8E2D-4D81-91BD-3AADE84C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FD7-1366-45F7-B871-7BCBE0B6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F7D-CAB2-421B-8DC6-0800390B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5C5-C4C5-46E6-BA17-59CB5787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C6B-3506-45B4-BCC3-F6ED5232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EB1-F50D-4ECA-890E-90598C1F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A99-3A72-4AE0-8A31-C7A4A174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378-521B-49CA-AA2C-90020831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C1E-CE9F-4F65-80AE-063B1A12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C6A-BFA4-41BC-80EA-D9B36263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C2D-3A30-497A-A23C-7B42FD04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522A-66DB-4F8A-879C-7EFCED6B4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винни-пух"/>
          <p:cNvPicPr/>
          <p:nvPr/>
        </p:nvPicPr>
        <p:blipFill>
          <a:blip r:embed="rId1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0" y="3733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афический редактор- это программа, предназначенная для создания картинок, открыток, рекламных объявлений, пригла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графического редак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ooh_on_ball"/>
          <p:cNvPicPr/>
          <p:nvPr/>
        </p:nvPicPr>
        <p:blipFill>
          <a:blip r:embed="rId1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чая область- место, где вы будете рисо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ор цв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струменты художника- карандаш, кисть, залив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струменты чертежника- линия, кривая, прямоугольник, овал, многоугольник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pooh_on_ball"/>
          <p:cNvPicPr/>
          <p:nvPr/>
        </p:nvPicPr>
        <p:blipFill>
          <a:blip r:embed="rId1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color.e-publish.ru/images/clip_image22.jpg"/>
          <p:cNvPicPr/>
          <p:nvPr/>
        </p:nvPicPr>
        <p:blipFill>
          <a:blip r:embed="rId1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color.e-publish.ru/images/clip_image002.jpg"/>
          <p:cNvPicPr/>
          <p:nvPr/>
        </p:nvPicPr>
        <p:blipFill>
          <a:blip r:embed="rId2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color.e-publish.ru/images/clip_image004.gif"/>
          <p:cNvPicPr/>
          <p:nvPr/>
        </p:nvPicPr>
        <p:blipFill>
          <a:blip r:embed="rId3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color.e-publish.ru/images/clip_image005.gif"/>
          <p:cNvPicPr/>
          <p:nvPr/>
        </p:nvPicPr>
        <p:blipFill>
          <a:blip r:embed="rId4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.р.№11 «Изучаем инструменты графического редактора» (стр.14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/З §11, стр.74-7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pooh_on_ball"/>
          <p:cNvPicPr/>
          <p:nvPr/>
        </p:nvPicPr>
        <p:blipFill>
          <a:blip r:embed="rId1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ая графика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зные виды графических  изображений, создаваемых или обрабатываемых с помощью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1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2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3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1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2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1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1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1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1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/>
          <p:cNvPicPr/>
          <p:nvPr/>
        </p:nvPicPr>
        <p:blipFill>
          <a:blip r:embed="rId2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1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2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pooh_on_ball"/>
          <p:cNvPicPr/>
          <p:nvPr/>
        </p:nvPicPr>
        <p:blipFill>
          <a:blip r:embed="rId1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550"/>
          <p:cNvPicPr/>
          <p:nvPr/>
        </p:nvPicPr>
        <p:blipFill>
          <a:blip r:embed="rId2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уса</dc:creator>
  <dc:description/>
  <dc:language>en-US</dc:language>
  <cp:lastModifiedBy>Нурисламова</cp:lastModifiedBy>
  <dcterms:modified xsi:type="dcterms:W3CDTF">2016-01-29T17:14:2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