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147-5EDE-4B90-84AD-AD2E1121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EC4-58E5-4597-B1E0-1C02B69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FF9-4DC4-46D0-9C82-3D434ED1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026-D917-4E54-8F31-128B9C7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2F0-6E36-4F19-B63F-EA0088F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407-40B5-4FA5-90D3-FC33F12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655-F807-4A06-9F1F-2CE4375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7C6-7770-4EA4-A9E8-087E50F0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30B-0BF5-4346-9BD2-D8FB0D3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890-42E5-4B3E-A072-075F0F6B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73B-5C7B-4C23-BF2E-72D9B74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C11-2734-40B5-916C-5A5E62B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495-3BC1-4E03-80F9-25E82B003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винни-пух"/>
          <p:cNvPicPr/>
          <p:nvPr/>
        </p:nvPicPr>
        <p:blipFill>
          <a:blip r:embed="rId1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0" y="3733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афический редактор- это программа, предназначенная для создания картинок, открыток, рекламных объявлений, пригла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графического редак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чая область- место, где вы будете рис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 цв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струменты художника- карандаш, кисть, зали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струменты чертежника- линия, кривая, прямоугольник, овал, многоугольник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color.e-publish.ru/images/clip_image22.jpg"/>
          <p:cNvPicPr/>
          <p:nvPr/>
        </p:nvPicPr>
        <p:blipFill>
          <a:blip r:embed="rId1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color.e-publish.ru/images/clip_image002.jpg"/>
          <p:cNvPicPr/>
          <p:nvPr/>
        </p:nvPicPr>
        <p:blipFill>
          <a:blip r:embed="rId2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color.e-publish.ru/images/clip_image004.gif"/>
          <p:cNvPicPr/>
          <p:nvPr/>
        </p:nvPicPr>
        <p:blipFill>
          <a:blip r:embed="rId3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color.e-publish.ru/images/clip_image005.gif"/>
          <p:cNvPicPr/>
          <p:nvPr/>
        </p:nvPicPr>
        <p:blipFill>
          <a:blip r:embed="rId4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.р.№11 «Изучаем инструменты графического редактора» (стр.14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/З §11, стр.74-7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ая графика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зные виды графических  изображений, создаваемых или обрабатываемых с помощью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1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2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3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1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2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1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1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/>
          <p:cNvPicPr/>
          <p:nvPr/>
        </p:nvPicPr>
        <p:blipFill>
          <a:blip r:embed="rId2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1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550"/>
          <p:cNvPicPr/>
          <p:nvPr/>
        </p:nvPicPr>
        <p:blipFill>
          <a:blip r:embed="rId2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уса</dc:creator>
  <dc:description/>
  <dc:language>en-US</dc:language>
  <cp:lastModifiedBy>Нурисламова</cp:lastModifiedBy>
  <dcterms:modified xsi:type="dcterms:W3CDTF">2016-01-29T17:14:2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