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000-62C8-4037-9C13-F9B98399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CCA-A8A9-43B5-A6DC-D1410BE1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AC9-3B87-4DE6-AB72-E5F34436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CD4-FFB3-4747-8861-14E883FB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A83A-1899-47D7-81F4-4438FB00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715-9765-4DE4-9E81-D7A5E58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A81-3142-473B-B035-7FDAE13B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72EB-66E2-494A-A725-6D88C12E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2C3-DA91-4ADF-9653-453ED9B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EF7B-E70A-4F47-A002-D3076C3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A978-539D-4765-BD7E-C141EA93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6A5-61FE-45AE-9609-C023188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27A8-5DA3-4BBE-991A-E1EE456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D55E-FA27-4B5F-882B-A1AD588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AF83-3131-4BA5-8EBE-2FC8F0E1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96E-DDCB-4188-A40F-6B129C43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4776-8A7D-4DEC-B38A-DA13BEB2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7AC-5CB5-4AE5-A07D-9A4C2FC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E57-FD2F-41F6-AB4A-2E0235B1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ED2-814A-4F9D-9810-7EA5724D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CE4-4827-465A-B5DD-35F1316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C13-6D8A-466E-A94B-5EE4894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A5E-A235-4922-988E-4859154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B41-525B-404A-AAA2-0579E68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0ADA-1CAD-4960-9649-F1FBB9084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D5E3-908C-4586-ACF3-353C4D8698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НАСТОЯЩИЙ ДРУ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жба крепкая не сломается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е расклеится от дождей и вью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 беде не бросит, лишнего не спросит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 беде не бросит, лишнего не спросит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ы поссоримся - и помиримся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"Не разлить водой!" - шутят все вокpy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полдень или в полночь дpyг придет на помощь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полдень или в полночь дpyг придет на помощь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сегда меня сможет выpyчить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Если что-нибyдь приключится вдpy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Hyжным быть комy-то в тpyднyю минyтy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Hyжным быть комy-то в тpyднyю минyтy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71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Пословицы о друж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 друга – ищи, а нашел – бере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имей сто рублей, а имей сто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ин за всех и все за од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ловек без друзей , что дерево без кор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а – как стекло, разобьешь – не сложи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друг поддакивает, а друг спор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га ищи, а найдешь – берег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а не гриб, в лесу не найдеш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рный друг лучше сотни 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льний путь, да ближний д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рево живет корнями, а человек – друз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г лучше старый, а платье – но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ой дорожи, забывать ее не спе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95640" y="260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Законы друж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989000"/>
            <a:ext cx="6913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Один за всех и все за од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С хорошим другом веселей при удаче, легче в б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ссорься и не спорь с другом по пустя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ябедничай, лучше сам попра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зазнавайся, если у тебя что-то очень хорошо получилось. Не сердись и не падай духом, если у тебя что-то не получ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В разговоре, в игре не будь грубым, не кри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6936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0:47:13Z</dcterms:created>
  <dc:creator>p11</dc:creator>
  <dc:description/>
  <dc:language>en-US</dc:language>
  <cp:lastModifiedBy>Пользователь</cp:lastModifiedBy>
  <dcterms:modified xsi:type="dcterms:W3CDTF">2008-01-04T12:50:03Z</dcterms:modified>
  <cp:revision>4</cp:revision>
  <dc:subject/>
  <dc:title>Слайд 1</dc:title>
</cp:coreProperties>
</file>