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847-308A-4534-8CD3-77838194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677-359F-4ADF-9918-D54D06D3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F3B-5D8A-48C9-8A12-82B33A6E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678-9C13-4F05-9070-69ABEF67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9F40-CE73-4E43-9884-37741FA3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682A-A0DA-48B1-BB97-662CFACD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86AA-B432-4489-A030-BBBDAA14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F370-332C-478B-9F60-E426F81A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06A9-7284-4A11-9DB7-814D75E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00D7-4DD5-4E6D-80AE-26BA8C6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D1F6-95A4-4D03-B58B-F6F58D61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8DE-483A-44AC-8980-4508E290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C303-76B9-4597-BCFB-CE6B5B9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4F4A-91CF-4AC9-928E-9ECC3CE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0816-85AF-4E70-9386-69555263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13B9-EF07-4D5C-B2EC-B3E63B9F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D64-362E-4E09-84E3-88B33121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332-FDB3-46AA-89C9-B62A49B6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7D2-F39D-4D62-AB46-A1ACDE8D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915-84AB-446D-A624-45944242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496-3D03-4501-AEF7-FF0918A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784-6930-4978-AD10-0A0D9740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E5F-C0B2-464F-86CD-4BF7CC4D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5ED-AA26-460A-B46F-45AC178C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842-5F1E-4548-A0B9-54B8FDED3C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0F35-9F5B-4CAC-BA2F-E4CA18036C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НАСТОЯЩИЙ ДРУ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773360"/>
            <a:ext cx="8353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жба крепкая не сломается,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Не расклеится от дождей и вьюг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г в беде не бросит, лишнего не спросит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г в беде не бросит, лишнего не спросит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ы поссоримся - и помиримся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"Не разлить водой!" - шутят все вокpyг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полдень или в полночь дpyг придет на помощь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полдень или в полночь дpyг придет на помощь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г всегда меня сможет выpyчить,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Если что-нибyдь приключится вдpyг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Hyжным быть комy-то в тpyднyю минyтy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Hyжным быть комy-то в тpyднyю минyтy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04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71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Пословицы о дружб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т друга – ищи, а нашел – берег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имей сто рублей, а имей сто друз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ин за всех и все за од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ловек без друзей , что дерево без кор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жба – как стекло, разобьешь – не сложиш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друг поддакивает, а друг спор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га ищи, а найдешь – берег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жба не гриб, в лесу не найдеш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рный друг лучше сотни 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льний путь, да ближний др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рево живет корнями, а человек – друзь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г лучше старый, а платье – нов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жбой дорожи, забывать ее не спе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95640" y="2602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Законы друж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989000"/>
            <a:ext cx="6913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Один за всех и все за од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С хорошим другом веселей при удаче, легче в бе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Не ссорься и не спорь с другом по пустя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Не ябедничай, лучше сам попра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Не зазнавайся, если у тебя что-то очень хорошо получилось. Не сердись и не падай духом, если у тебя что-то не получ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В разговоре, в игре не будь грубым, не кри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36936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0:47:13Z</dcterms:created>
  <dc:creator>p11</dc:creator>
  <dc:description/>
  <dc:language>en-US</dc:language>
  <cp:lastModifiedBy>Пользователь</cp:lastModifiedBy>
  <dcterms:modified xsi:type="dcterms:W3CDTF">2008-01-04T12:50:03Z</dcterms:modified>
  <cp:revision>4</cp:revision>
  <dc:subject/>
  <dc:title>Слайд 1</dc:title>
</cp:coreProperties>
</file>