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D5F-EB07-4845-95A5-5D4FDFB1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15C-6035-4753-9E9E-25E6503B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083-0FF0-4B05-8267-F2885F15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B31-D4C8-47E7-BDBE-94E1DD72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2B2-42EC-4338-BE9F-6978892B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A995-1ED3-4666-986E-0CBEF46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0F46-61B2-4C64-B667-3AEAD149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D603-358A-413B-A9D0-DD9FA1F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1A3B-20FE-4111-9B8D-5C80DEB0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892-CA68-4B5D-9237-17BA0613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CEC6-1153-4BD1-B4F4-346A2105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B19-C151-44C5-B531-BA2A2E46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EDD-294E-41C2-98F5-9B2A4FF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0368-56D0-4748-88EC-9370C3B2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43A1-4275-4490-8F87-B2A8F852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C560-7A2D-43B8-8B54-E92364E1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0EC-1C27-460C-AEF0-992FF3E2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03F-4245-420C-B4BD-0C78CD06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B4B-892F-4439-B1AD-0DCA0969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C97-D794-4118-8CFA-89C7E47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DC5-2AEB-40F1-A0BA-F989D362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3E5-74C7-496B-9EC1-D7624C8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06C-6EFE-4144-AEB0-8452251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2A1-97F0-4600-A4E3-4FF0EAA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8AB0-C190-47B0-9681-01DFA5F3F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DEF0-0FA5-41B0-AE07-EF7B5D6C63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160" y="0"/>
            <a:ext cx="9123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НАСТОЯЩИЙ ДРУ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773360"/>
            <a:ext cx="8353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жба крепкая не сломается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Не расклеится от дождей и вью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 беде не бросит, лишнего не спросит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ы поссоримся - и помиримся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"Не разлить водой!" - шутят все вок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 полдень или в полночь дpyг придет на помощь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Дpyг всегда меня сможет выpyчить,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Если что-нибyдь приключится вдpyг.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Hyжным быть комy-то в тpyднyю минyтy -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от что значит настоящий верный дpyг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0400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71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Пословицы о дружб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т друга – ищи, а нашел – берег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имей сто рублей, а имей сто друз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ин за всех и все за одн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ловек без друзей , что дерево без кор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– как стекло, разобьешь – не сложиш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друг поддакивает, а друг спор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а ищи, а найдешь – береги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а не гриб, в лесу не найдеш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рный друг лучше сотни 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альний путь, да ближний др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рево живет корнями, а человек – друзь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г лучше старый, а платье – нов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ужбой дорожи, забывать ее не спеш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95640" y="26028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Законы дружб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989000"/>
            <a:ext cx="6913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Один за всех и все за од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С хорошим другом веселей при удаче, легче в бе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ссорься и не спорь с другом по пустяк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ябедничай, лучше сам поправ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Не зазнавайся, если у тебя что-то очень хорошо получилось. Не сердись и не падай духом, если у тебя что-то не получ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6ff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В разговоре, в игре не будь грубым, не кри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6936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0:47:13Z</dcterms:created>
  <dc:creator>p11</dc:creator>
  <dc:description/>
  <dc:language>en-US</dc:language>
  <cp:lastModifiedBy>Пользователь</cp:lastModifiedBy>
  <dcterms:modified xsi:type="dcterms:W3CDTF">2008-01-04T12:50:03Z</dcterms:modified>
  <cp:revision>4</cp:revision>
  <dc:subject/>
  <dc:title>Слайд 1</dc:title>
</cp:coreProperties>
</file>