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B75-DD9F-4E61-946E-74E22615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151-1FFC-430E-AD09-F5B78A3B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413-77FE-48FE-8EF8-F03D5129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3DA-8102-4B87-83A3-19D42A68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5C5-43B5-4684-9F02-6CAEE78F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AC68-6749-4755-A7E5-C0934A1F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5B4-0C17-4C1E-8D44-A9B2C607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F47-76A4-4BB0-8D95-464E412C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5F8-FCE2-44DF-91DD-C5E750C5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439-DE3F-4E73-9EA4-F72E30C8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EF8-242B-4A1D-95E9-1BEC4D6E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CA1F-A9A7-48AF-A458-0CD92625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B788-78C0-431B-A266-BEE38949DC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otvoyna.ru/leningra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knigica.ru/poetry6141.html" TargetMode="External"/><Relationship Id="rId2" Type="http://schemas.openxmlformats.org/officeDocument/2006/relationships/hyperlink" Target="http://www.otvoyna.ru/geroy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870440" cy="308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40719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64268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ffff00"/>
                </a:solidFill>
                <a:latin typeface="Calibri"/>
              </a:rPr>
              <a:t>За совершенный подвиг 26 июля 1941 года присвоено     посмертно Звание Героя Советского Союза. Имя Гастелло навечно занесено в списки воинских частей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im4-tub.yandex.net/i?id=62665643&amp;tov=4"/>
          <p:cNvPicPr/>
          <p:nvPr/>
        </p:nvPicPr>
        <p:blipFill>
          <a:blip r:embed="rId1"/>
          <a:stretch/>
        </p:blipFill>
        <p:spPr>
          <a:xfrm>
            <a:off x="4500720" y="2143080"/>
            <a:ext cx="20001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3857760" cy="4857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Calibri"/>
              </a:rPr>
              <a:t>Героем стал 12 января политрук роты 280-го стрелкового полка 185-й стрелковой дивизии(30-я армия, Западный фронт) Николай Павлович Бочаров. 7 декабря в бою у села Архангельское (Конаковский район Калининской области), заменив раненого командира роты, он повел бойцов в атаку. В бою захватил фашистское орудие, из которого уничтожил много солдат против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2286000" y="214200"/>
            <a:ext cx="5143680" cy="11912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иколай Павлович Бочар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ttp://im8-tub.yandex.net/i?id=145449663-02&amp;tov=8"/>
          <p:cNvPicPr/>
          <p:nvPr/>
        </p:nvPicPr>
        <p:blipFill>
          <a:blip r:embed="rId1"/>
          <a:stretch/>
        </p:blipFill>
        <p:spPr>
          <a:xfrm>
            <a:off x="4643280" y="2357280"/>
            <a:ext cx="1857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3400560" cy="48574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62626"/>
                </a:solidFill>
                <a:latin typeface="Calibri"/>
              </a:rPr>
              <a:t>Героем стал 12 января политрук роты 280-го стрелкового полка 185-й стрелковой дивизии(30-я армия, Западный фронт) Николай Павлович Бочаров. 7 декабря в бою у села Архангельское (Конаковский район Калининской области), заменив раненого командира роты, он повел бойцов в атаку. В бою захватил фашистское орудие, из которого уничтожил много солдат против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2286000" y="214200"/>
            <a:ext cx="514368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Николай Павлович Бочар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ttp://im8-tub.yandex.net/i?id=145449663-02&amp;tov=8"/>
          <p:cNvPicPr/>
          <p:nvPr/>
        </p:nvPicPr>
        <p:blipFill>
          <a:blip r:embed="rId1"/>
          <a:stretch/>
        </p:blipFill>
        <p:spPr>
          <a:xfrm>
            <a:off x="4643280" y="2357280"/>
            <a:ext cx="1857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вастьянов Алексей Тихон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0" y="1428840"/>
            <a:ext cx="3857760" cy="2228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Севастьянов Алексей Тихонович командир звена 26-го истребительного авиационного полка (7-й истребительный авиационный корпус, Ленинградская зона ПВО) младший лейтенан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Тихонович"/>
          <p:cNvPicPr/>
          <p:nvPr/>
        </p:nvPicPr>
        <p:blipFill>
          <a:blip r:embed="rId1"/>
          <a:stretch/>
        </p:blipFill>
        <p:spPr>
          <a:xfrm>
            <a:off x="4572000" y="235728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428760" y="285840"/>
            <a:ext cx="8572320" cy="1923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Участник Великой Отечественной войны с июня 1941 года. Всего в годы войны младший лейтенант Севастьянов А.Т. совершил более 100 боевых вылетов, сбил 2 вражеских самолёта лично (один из них тараном), 2 – в группе и аэростат наблю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Звание Героя Советского Союза Алексею Тихоновичу Севастьянову присвоено посмертно 6 июня 1942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./pic/Звезда героя"/>
          <p:cNvPicPr/>
          <p:nvPr/>
        </p:nvPicPr>
        <p:blipFill>
          <a:blip r:embed="rId1"/>
          <a:stretch/>
        </p:blipFill>
        <p:spPr>
          <a:xfrm>
            <a:off x="4143240" y="2286000"/>
            <a:ext cx="2687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Матвеев"/>
          <p:cNvPicPr/>
          <p:nvPr/>
        </p:nvPicPr>
        <p:blipFill>
          <a:blip r:embed="rId1"/>
          <a:stretch/>
        </p:blipFill>
        <p:spPr>
          <a:xfrm>
            <a:off x="4500720" y="2357280"/>
            <a:ext cx="2143080" cy="2171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0" y="2000160"/>
            <a:ext cx="4286160" cy="4483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С началом Великой Отечественной войны на фронте. Капитан Матвеев В.И. 8 июля 1941 года при отражении налёта авиации противника на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Ленинград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</a:rPr>
              <a:t>, израсходовав весь боекомплект, применил таран: концом плоскости своего МиГ-3 срезал хвостовое оперение фашистского самолёта. Вражеский самолёт упал у деревни Малютино. Благополучно произвёл посадку на своём аэродроме. Звание Героя Советского Союза с вручением ордена Ленина и медали "Золотая Звезда" Владимиру Ивановичу Матвееву присвоено 22 июля 194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 flipV="1" rot="10800000">
            <a:off x="2428560" y="217080"/>
            <a:ext cx="3948120" cy="1068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атвеев Владимир 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"/>
          <p:cNvSpPr/>
          <p:nvPr/>
        </p:nvSpPr>
        <p:spPr>
          <a:xfrm>
            <a:off x="0" y="857160"/>
            <a:ext cx="3714840" cy="1618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i="1" lang="ru-RU" sz="2000" spc="-1" strike="noStrike">
                <a:solidFill>
                  <a:srgbClr val="262626"/>
                </a:solidFill>
                <a:latin typeface="Calibri"/>
              </a:rPr>
              <a:t>Погиб Владимир Матвеев в воздушном бою 1 января 1942 года, прикрывая "Дорогу жизни" по Ладоге. Похоронен в Ленингра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14200" y="357120"/>
            <a:ext cx="3286080" cy="48488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Вечная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слава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героям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Вечная слава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Вечная слава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Вечная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слава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героям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Слава героям!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Слава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.Рождественск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im0-tub.yandex.net/i?id=2159941-04&amp;tov=0"/>
          <p:cNvPicPr/>
          <p:nvPr/>
        </p:nvPicPr>
        <p:blipFill>
          <a:blip r:embed="rId1"/>
          <a:stretch/>
        </p:blipFill>
        <p:spPr>
          <a:xfrm>
            <a:off x="3857760" y="1571760"/>
            <a:ext cx="32860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7772400" cy="1785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ИНФОРМАЦИОННЫЕ ИСТОЧ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7715160" cy="12146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b">
            <a:normAutofit fontScale="77000"/>
          </a:bodyPr>
          <a:p>
            <a:pPr marL="351720" indent="-351720">
              <a:spcBef>
                <a:spcPts val="700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knigica.ru/poetry6141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1720" indent="-351720">
              <a:spcBef>
                <a:spcPts val="700"/>
              </a:spcBef>
              <a:buClr>
                <a:srgbClr val="0070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otvoyna.ru/geroy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1720" indent="-351720">
              <a:spcBef>
                <a:spcPts val="700"/>
              </a:spcBef>
              <a:buClr>
                <a:srgbClr val="0070c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www.museum.ru/M46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ar2.ucoz.ru/_pu/2/93807.jpg"/>
          <p:cNvPicPr/>
          <p:nvPr/>
        </p:nvPicPr>
        <p:blipFill>
          <a:blip r:embed="rId1"/>
          <a:stretch/>
        </p:blipFill>
        <p:spPr>
          <a:xfrm>
            <a:off x="4071960" y="1571760"/>
            <a:ext cx="261468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2"/>
          <p:cNvSpPr/>
          <p:nvPr/>
        </p:nvSpPr>
        <p:spPr>
          <a:xfrm>
            <a:off x="142920" y="285840"/>
            <a:ext cx="3429000" cy="4057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Указом Президиума Верховного Совета СССР от 1 августа 1939 года в целях особого отличия граждан, удостоенных звания Героя Советского Союза и совершающих новые героические подвиги, учредили медаль “Золотая Звезда”, имеющую форму пятиконечной звезды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1"/>
          <p:cNvGrpSpPr/>
          <p:nvPr/>
        </p:nvGrpSpPr>
        <p:grpSpPr>
          <a:xfrm>
            <a:off x="-60480" y="560520"/>
            <a:ext cx="7186680" cy="2090520"/>
            <a:chOff x="-60480" y="560520"/>
            <a:chExt cx="7186680" cy="2090520"/>
          </a:xfrm>
        </p:grpSpPr>
        <p:pic>
          <p:nvPicPr>
            <p:cNvPr id="4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-60480" y="560520"/>
              <a:ext cx="718668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642960"/>
              <a:ext cx="7072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Calibri"/>
                </a:rPr>
                <a:t>     </a:t>
              </a:r>
              <a:r>
                <a:rPr b="1" lang="ru-RU" sz="1800" spc="-1" strike="noStrike">
                  <a:solidFill>
                    <a:srgbClr val="002060"/>
                  </a:solidFill>
                  <a:latin typeface="Calibri"/>
                </a:rPr>
                <a:t>«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Подвиг этот, будет в памяти жить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И в наших сердцах гореть!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Тех, кто с врагом был готов разделить,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  Поровну только смерть!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                       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Ким  Добкин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957240" y="133200"/>
            <a:ext cx="673596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Подзаголовок 2" descr=""/>
          <p:cNvPicPr/>
          <p:nvPr/>
        </p:nvPicPr>
        <p:blipFill>
          <a:blip r:embed="rId2"/>
          <a:stretch/>
        </p:blipFill>
        <p:spPr>
          <a:xfrm>
            <a:off x="-96840" y="1517760"/>
            <a:ext cx="4211640" cy="34876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Зоя Космодемьянская.jpg"/>
          <p:cNvPicPr/>
          <p:nvPr/>
        </p:nvPicPr>
        <p:blipFill>
          <a:blip r:embed="rId3"/>
          <a:stretch/>
        </p:blipFill>
        <p:spPr>
          <a:xfrm>
            <a:off x="4572000" y="2286000"/>
            <a:ext cx="19288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5" descr=""/>
          <p:cNvPicPr/>
          <p:nvPr/>
        </p:nvPicPr>
        <p:blipFill>
          <a:blip r:embed="rId1"/>
          <a:stretch/>
        </p:blipFill>
        <p:spPr>
          <a:xfrm>
            <a:off x="291960" y="115920"/>
            <a:ext cx="3462480" cy="417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im4-tub.yandex.net/i?id=14295591&amp;tov=4"/>
          <p:cNvPicPr/>
          <p:nvPr/>
        </p:nvPicPr>
        <p:blipFill>
          <a:blip r:embed="rId2"/>
          <a:stretch/>
        </p:blipFill>
        <p:spPr>
          <a:xfrm>
            <a:off x="3857760" y="1714680"/>
            <a:ext cx="35002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pic>
        <p:nvPicPr>
          <p:cNvPr id="54" name="Заголовок 1" descr=""/>
          <p:cNvPicPr/>
          <p:nvPr/>
        </p:nvPicPr>
        <p:blipFill>
          <a:blip r:embed="rId2"/>
          <a:stretch/>
        </p:blipFill>
        <p:spPr>
          <a:xfrm>
            <a:off x="390600" y="-334800"/>
            <a:ext cx="8356680" cy="2724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://s42.radikal.ru/i096/1001/08/e65ea91c18c3.jpg"/>
          <p:cNvPicPr/>
          <p:nvPr/>
        </p:nvPicPr>
        <p:blipFill>
          <a:blip r:embed="rId3"/>
          <a:stretch/>
        </p:blipFill>
        <p:spPr>
          <a:xfrm>
            <a:off x="2857680" y="1714680"/>
            <a:ext cx="4572000" cy="3500280"/>
          </a:xfrm>
          <a:prstGeom prst="rect">
            <a:avLst/>
          </a:prstGeom>
          <a:ln w="0">
            <a:noFill/>
          </a:ln>
        </p:spPr>
      </p:pic>
      <p:sp>
        <p:nvSpPr>
          <p:cNvPr id="56" name="Стрелка вправо 9">
            <a:hlinkClick r:id="" action="ppaction://hlinkshowjump?jump=nextslide"/>
          </p:cNvPr>
          <p:cNvSpPr/>
          <p:nvPr/>
        </p:nvSpPr>
        <p:spPr>
          <a:xfrm>
            <a:off x="8215200" y="6286680"/>
            <a:ext cx="357480" cy="428400"/>
          </a:xfrm>
          <a:prstGeom prst="rightArrow">
            <a:avLst>
              <a:gd name="adj1" fmla="val 50000"/>
              <a:gd name="adj2" fmla="val 116667"/>
            </a:avLst>
          </a:prstGeom>
          <a:gradFill rotWithShape="0">
            <a:gsLst>
              <a:gs pos="0">
                <a:srgbClr val="ffc000"/>
              </a:gs>
              <a:gs pos="100000">
                <a:srgbClr val="0d0d0d"/>
              </a:gs>
            </a:gsLst>
            <a:lin ang="5400000"/>
          </a:gradFill>
          <a:ln w="25560">
            <a:solidFill>
              <a:srgbClr val="ff0000">
                <a:alpha val="60000"/>
              </a:srgbClr>
            </a:solidFill>
            <a:miter/>
          </a:ln>
          <a:effectLst>
            <a:outerShdw dist="153753" dir="2700000" blurRad="0" rotWithShape="0">
              <a:srgbClr val="ffff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право 10">
            <a:hlinkClick r:id="" action="ppaction://hlinkshowjump?jump=previousslide"/>
          </p:cNvPr>
          <p:cNvSpPr/>
          <p:nvPr/>
        </p:nvSpPr>
        <p:spPr>
          <a:xfrm rot="10800000">
            <a:off x="7632720" y="6286680"/>
            <a:ext cx="357120" cy="428400"/>
          </a:xfrm>
          <a:prstGeom prst="rightArrow">
            <a:avLst>
              <a:gd name="adj1" fmla="val 50000"/>
              <a:gd name="adj2" fmla="val 116667"/>
            </a:avLst>
          </a:prstGeom>
          <a:gradFill rotWithShape="0">
            <a:gsLst>
              <a:gs pos="0">
                <a:srgbClr val="ffc000"/>
              </a:gs>
              <a:gs pos="100000">
                <a:srgbClr val="0d0d0d"/>
              </a:gs>
            </a:gsLst>
            <a:lin ang="5400000"/>
          </a:gradFill>
          <a:ln w="25560">
            <a:solidFill>
              <a:srgbClr val="ff0000">
                <a:alpha val="60000"/>
              </a:srgbClr>
            </a:solidFill>
            <a:miter/>
          </a:ln>
          <a:effectLst>
            <a:outerShdw dist="153753" dir="2700000" blurRad="0" rotWithShape="0">
              <a:srgbClr val="ffff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1">
            <a:hlinkClick r:id="" action="ppaction://hlinkshowjump?jump=endshow"/>
          </p:cNvPr>
          <p:cNvSpPr/>
          <p:nvPr/>
        </p:nvSpPr>
        <p:spPr>
          <a:xfrm>
            <a:off x="1500120" y="5429160"/>
            <a:ext cx="6143760" cy="1000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амятник Зое Космодемьянской в г.Тамб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928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ександр Матро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im2-tub.yandex.net/i?id=187050548&amp;tov=2"/>
          <p:cNvPicPr/>
          <p:nvPr/>
        </p:nvPicPr>
        <p:blipFill>
          <a:blip r:embed="rId1"/>
          <a:stretch/>
        </p:blipFill>
        <p:spPr>
          <a:xfrm>
            <a:off x="4500720" y="2428920"/>
            <a:ext cx="2143080" cy="20001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357120" y="1625760"/>
            <a:ext cx="4000680" cy="436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    </a:t>
            </a:r>
            <a:r>
              <a:rPr b="1" i="1" lang="ru-RU" sz="2000" spc="-1" strike="noStrike">
                <a:solidFill>
                  <a:srgbClr val="0d0d0d"/>
                </a:solidFill>
                <a:latin typeface="Calibri"/>
              </a:rPr>
              <a:t>В ноябре 1942г. добровольно отправился на фронт и был зачислен рядовым в 254-й гвардейский стрелковый полк 56-й гвардейской стрелковой дивизии. 23 февраля 1943г. в бою за деревню Чернушки закрыл своим телом амбразуру дзота, чтобы обеспечить успех своему подразделению. 8 сентября 1943г. имя Александра Матросова было присвоено 254-му полку с зачислением в списки 1-й роты пол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Александру Матросову 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присвоено звание Советского Союза посмертн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Памятник Александру Матросову"/>
          <p:cNvPicPr/>
          <p:nvPr/>
        </p:nvPicPr>
        <p:blipFill>
          <a:blip r:embed="rId1"/>
          <a:stretch/>
        </p:blipFill>
        <p:spPr>
          <a:xfrm>
            <a:off x="4286160" y="2286000"/>
            <a:ext cx="25005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иколай Гастел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0" y="1857240"/>
            <a:ext cx="4286160" cy="41173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      </a:t>
            </a:r>
            <a:r>
              <a:rPr b="1" i="1" lang="ru-RU" sz="2400" spc="-1" strike="noStrike">
                <a:solidFill>
                  <a:srgbClr val="262626"/>
                </a:solidFill>
                <a:latin typeface="Calibri"/>
              </a:rPr>
              <a:t>Капитан Гастелло выполнял 26 июня 1941 г. очередной полет на задание. Его бомбардировщик был подбит и загорелся. Он направил горящий самолет на скопление вражеских войск.  От взрыва бомбардировщика противник понес большие поте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Гастелло"/>
          <p:cNvPicPr/>
          <p:nvPr/>
        </p:nvPicPr>
        <p:blipFill>
          <a:blip r:embed="rId1"/>
          <a:stretch/>
        </p:blipFill>
        <p:spPr>
          <a:xfrm>
            <a:off x="4643280" y="2428920"/>
            <a:ext cx="19288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58:09Z</dcterms:created>
  <dc:creator>Admin</dc:creator>
  <dc:description/>
  <dc:language>en-US</dc:language>
  <cp:lastModifiedBy>Admin</cp:lastModifiedBy>
  <dcterms:modified xsi:type="dcterms:W3CDTF">2011-08-25T11:08:46Z</dcterms:modified>
  <cp:revision>21</cp:revision>
  <dc:subject/>
  <dc:title>9 М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5381049</vt:lpwstr>
  </property>
</Properties>
</file>