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FA6-4BBA-4733-95DE-337CEB60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148-0DB9-410C-93E5-2DE94BD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D68-6EEA-4E62-93C6-F4A313D5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0E6-1E5A-43B2-A7FF-0CAE413B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A7A-DAF5-4D7F-A4A2-129D5D9F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8EB-83BF-4D95-9FFD-F15CB778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05D-1FA6-44BF-860F-18AC613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8A2-5C92-4753-88D4-F4C30369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DD0-EF51-4FFB-ABBE-41941E1F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A74-F8D4-42B2-AEDA-E6A2DB3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A09-26CE-467C-8428-49ED089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4F8-0E05-497A-AA99-71EC9C60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74A8-946C-4088-88EE-C5B0ABDB9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otvoyna.ru/leningra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nigica.ru/poetry6141.html" TargetMode="External"/><Relationship Id="rId2" Type="http://schemas.openxmlformats.org/officeDocument/2006/relationships/hyperlink" Target="http://www.otvoyna.ru/geroy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870440" cy="308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За совершенный подвиг 26 июля 1941 года присвоено     посмертно Звание Героя Советского Союза. Имя Гастелло навечно занесено в списки воинских частей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im4-tub.yandex.net/i?id=62665643&amp;tov=4"/>
          <p:cNvPicPr/>
          <p:nvPr/>
        </p:nvPicPr>
        <p:blipFill>
          <a:blip r:embed="rId1"/>
          <a:stretch/>
        </p:blipFill>
        <p:spPr>
          <a:xfrm>
            <a:off x="4500720" y="2143080"/>
            <a:ext cx="2000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3857760" cy="4857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alibri"/>
              </a:rPr>
              <a:t>Героем стал 12 января политрук роты 280-го стрелкового полка 185-й стрелковой дивизии(30-я армия, Западный фронт) Николай Павлович Бочаров. 7 декабря в бою у села Архангельское (Конаковский район Калининской области), заменив раненого командира роты, он повел бойцов в атаку. В бою захватил фашистское орудие, из которого уничтожил много солдат проти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2286000" y="214200"/>
            <a:ext cx="514368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иколай Павлович Боч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im8-tub.yandex.net/i?id=145449663-02&amp;tov=8"/>
          <p:cNvPicPr/>
          <p:nvPr/>
        </p:nvPicPr>
        <p:blipFill>
          <a:blip r:embed="rId1"/>
          <a:stretch/>
        </p:blipFill>
        <p:spPr>
          <a:xfrm>
            <a:off x="4643280" y="235728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3400560" cy="4857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Calibri"/>
              </a:rPr>
              <a:t>Героем стал 12 января политрук роты 280-го стрелкового полка 185-й стрелковой дивизии(30-я армия, Западный фронт) Николай Павлович Бочаров. 7 декабря в бою у села Архангельское (Конаковский район Калининской области), заменив раненого командира роты, он повел бойцов в атаку. В бою захватил фашистское орудие, из которого уничтожил много солдат проти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286000" y="214200"/>
            <a:ext cx="51436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иколай Павлович Боч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im8-tub.yandex.net/i?id=145449663-02&amp;tov=8"/>
          <p:cNvPicPr/>
          <p:nvPr/>
        </p:nvPicPr>
        <p:blipFill>
          <a:blip r:embed="rId1"/>
          <a:stretch/>
        </p:blipFill>
        <p:spPr>
          <a:xfrm>
            <a:off x="4643280" y="235728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вастьянов Алексей Тихо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1428840"/>
            <a:ext cx="3857760" cy="2228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Севастьянов Алексей Тихонович командир звена 26-го истребительного авиационного полка (7-й истребительный авиационный корпус, Ленинградская зона ПВО) младший лейтена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Тихонович"/>
          <p:cNvPicPr/>
          <p:nvPr/>
        </p:nvPicPr>
        <p:blipFill>
          <a:blip r:embed="rId1"/>
          <a:stretch/>
        </p:blipFill>
        <p:spPr>
          <a:xfrm>
            <a:off x="4572000" y="23572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285840"/>
            <a:ext cx="8572320" cy="1923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частник Великой Отечественной войны с июня 1941 года. Всего в годы войны младший лейтенант Севастьянов А.Т. совершил более 100 боевых вылетов, сбил 2 вражеских самолёта лично (один из них тараном), 2 – в группе и аэростат наблю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Звание Героя Советского Союза Алексею Тихоновичу Севастьянову присвоено посмертно 6 июня 194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./pic/Звезда героя"/>
          <p:cNvPicPr/>
          <p:nvPr/>
        </p:nvPicPr>
        <p:blipFill>
          <a:blip r:embed="rId1"/>
          <a:stretch/>
        </p:blipFill>
        <p:spPr>
          <a:xfrm>
            <a:off x="4143240" y="2286000"/>
            <a:ext cx="268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Матвеев"/>
          <p:cNvPicPr/>
          <p:nvPr/>
        </p:nvPicPr>
        <p:blipFill>
          <a:blip r:embed="rId1"/>
          <a:stretch/>
        </p:blipFill>
        <p:spPr>
          <a:xfrm>
            <a:off x="4500720" y="2357280"/>
            <a:ext cx="2143080" cy="2171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2000160"/>
            <a:ext cx="4286160" cy="448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С началом Великой Отечественной войны на фронте. Капитан Матвеев В.И. 8 июля 1941 года при отражении налёта авиации противника на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Ленинград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, израсходовав весь боекомплект, применил таран: концом плоскости своего МиГ-3 срезал хвостовое оперение фашистского самолёта. Вражеский самолёт упал у деревни Малютино. Благополучно произвёл посадку на своём аэродроме. Звание Героя Советского Союза с вручением ордена Ленина и медали "Золотая Звезда" Владимиру Ивановичу Матвееву присвоено 22 июля 194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 flipV="1" rot="10800000">
            <a:off x="2428560" y="217080"/>
            <a:ext cx="394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веев Владимир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0" y="857160"/>
            <a:ext cx="3714840" cy="1618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262626"/>
                </a:solidFill>
                <a:latin typeface="Calibri"/>
              </a:rPr>
              <a:t>Погиб Владимир Матвеев в воздушном бою 1 января 1942 года, прикрывая "Дорогу жизни" по Ладоге. Похоронен в Ленин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14200" y="357120"/>
            <a:ext cx="3286080" cy="484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 слава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 слава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 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.Рождествен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im0-tub.yandex.net/i?id=2159941-04&amp;tov=0"/>
          <p:cNvPicPr/>
          <p:nvPr/>
        </p:nvPicPr>
        <p:blipFill>
          <a:blip r:embed="rId1"/>
          <a:stretch/>
        </p:blipFill>
        <p:spPr>
          <a:xfrm>
            <a:off x="3857760" y="1571760"/>
            <a:ext cx="3286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7772400" cy="1785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ИНФОРМАЦИОНН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7715160" cy="1214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b">
            <a:normAutofit fontScale="77000"/>
          </a:bodyPr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nigica.ru/poetry614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otvoyna.ru/geroy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ww.museum.ru/M4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ar2.ucoz.ru/_pu/2/93807.jpg"/>
          <p:cNvPicPr/>
          <p:nvPr/>
        </p:nvPicPr>
        <p:blipFill>
          <a:blip r:embed="rId1"/>
          <a:stretch/>
        </p:blipFill>
        <p:spPr>
          <a:xfrm>
            <a:off x="4071960" y="1571760"/>
            <a:ext cx="261468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42920" y="285840"/>
            <a:ext cx="3429000" cy="40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казом Президиума Верховного Совета СССР от 1 августа 1939 года в целях особого отличия граждан, удостоенных звания Героя Советского Союза и совершающих новые героические подвиги, учредили медаль “Золотая Звезда”, имеющую форму пятиконечной звезд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1"/>
          <p:cNvGrpSpPr/>
          <p:nvPr/>
        </p:nvGrpSpPr>
        <p:grpSpPr>
          <a:xfrm>
            <a:off x="-60480" y="560520"/>
            <a:ext cx="7186680" cy="2090520"/>
            <a:chOff x="-60480" y="560520"/>
            <a:chExt cx="7186680" cy="2090520"/>
          </a:xfrm>
        </p:grpSpPr>
        <p:pic>
          <p:nvPicPr>
            <p:cNvPr id="4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60480" y="560520"/>
              <a:ext cx="718668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642960"/>
              <a:ext cx="7072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Calibri"/>
                </a:rPr>
                <a:t>     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«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Подвиг этот, будет в памяти жить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И в наших сердцах гореть!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Тех, кто с врагом был готов разделить,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Поровну только смерть!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                     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Ким  Добки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67359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-96840" y="1517760"/>
            <a:ext cx="4211640" cy="3487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Зоя Космодемьянская.jpg"/>
          <p:cNvPicPr/>
          <p:nvPr/>
        </p:nvPicPr>
        <p:blipFill>
          <a:blip r:embed="rId3"/>
          <a:stretch/>
        </p:blipFill>
        <p:spPr>
          <a:xfrm>
            <a:off x="4572000" y="228600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5" descr=""/>
          <p:cNvPicPr/>
          <p:nvPr/>
        </p:nvPicPr>
        <p:blipFill>
          <a:blip r:embed="rId1"/>
          <a:stretch/>
        </p:blipFill>
        <p:spPr>
          <a:xfrm>
            <a:off x="291960" y="115920"/>
            <a:ext cx="3462480" cy="417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4-tub.yandex.net/i?id=14295591&amp;tov=4"/>
          <p:cNvPicPr/>
          <p:nvPr/>
        </p:nvPicPr>
        <p:blipFill>
          <a:blip r:embed="rId2"/>
          <a:stretch/>
        </p:blipFill>
        <p:spPr>
          <a:xfrm>
            <a:off x="3857760" y="1714680"/>
            <a:ext cx="35002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390600" y="-334800"/>
            <a:ext cx="8356680" cy="27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s42.radikal.ru/i096/1001/08/e65ea91c18c3.jpg"/>
          <p:cNvPicPr/>
          <p:nvPr/>
        </p:nvPicPr>
        <p:blipFill>
          <a:blip r:embed="rId3"/>
          <a:stretch/>
        </p:blipFill>
        <p:spPr>
          <a:xfrm>
            <a:off x="2857680" y="171468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право 9">
            <a:hlinkClick r:id="" action="ppaction://hlinkshowjump?jump=nextslide"/>
          </p:cNvPr>
          <p:cNvSpPr/>
          <p:nvPr/>
        </p:nvSpPr>
        <p:spPr>
          <a:xfrm>
            <a:off x="8215200" y="6286680"/>
            <a:ext cx="35748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2556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0">
            <a:hlinkClick r:id="" action="ppaction://hlinkshowjump?jump=previousslide"/>
          </p:cNvPr>
          <p:cNvSpPr/>
          <p:nvPr/>
        </p:nvSpPr>
        <p:spPr>
          <a:xfrm rot="10800000">
            <a:off x="7632720" y="6286680"/>
            <a:ext cx="35712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2556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>
            <a:hlinkClick r:id="" action="ppaction://hlinkshowjump?jump=endshow"/>
          </p:cNvPr>
          <p:cNvSpPr/>
          <p:nvPr/>
        </p:nvSpPr>
        <p:spPr>
          <a:xfrm>
            <a:off x="1500120" y="5429160"/>
            <a:ext cx="6143760" cy="1000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мятник Зое Космодемьянской в г.Тамб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28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ександр Матр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im2-tub.yandex.net/i?id=187050548&amp;tov=2"/>
          <p:cNvPicPr/>
          <p:nvPr/>
        </p:nvPicPr>
        <p:blipFill>
          <a:blip r:embed="rId1"/>
          <a:stretch/>
        </p:blipFill>
        <p:spPr>
          <a:xfrm>
            <a:off x="4500720" y="2428920"/>
            <a:ext cx="2143080" cy="20001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57120" y="1625760"/>
            <a:ext cx="40006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В ноябре 1942г. добровольно отправился на фронт и был зачислен рядовым в 254-й гвардейский стрелковый полк 56-й гвардейской стрелковой дивизии. 23 февраля 1943г. в бою за деревню Чернушки закрыл своим телом амбразуру дзота, чтобы обеспечить успех своему подразделению. 8 сентября 1943г. имя Александра Матросова было присвоено 254-му полку с зачислением в списки 1-й роты по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Александру Матросову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рисвоено звание Советского Союза посмер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Памятник Александру Матросову"/>
          <p:cNvPicPr/>
          <p:nvPr/>
        </p:nvPicPr>
        <p:blipFill>
          <a:blip r:embed="rId1"/>
          <a:stretch/>
        </p:blipFill>
        <p:spPr>
          <a:xfrm>
            <a:off x="4286160" y="2286000"/>
            <a:ext cx="2500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иколай Гастел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0" y="1857240"/>
            <a:ext cx="4286160" cy="4117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      </a:t>
            </a:r>
            <a:r>
              <a:rPr b="1" i="1" lang="ru-RU" sz="2400" spc="-1" strike="noStrike">
                <a:solidFill>
                  <a:srgbClr val="262626"/>
                </a:solidFill>
                <a:latin typeface="Calibri"/>
              </a:rPr>
              <a:t>Капитан Гастелло выполнял 26 июня 1941 г. очередной полет на задание. Его бомбардировщик был подбит и загорелся. Он направил горящий самолет на скопление вражеских войск.  От взрыва бомбардировщика противник понес большие по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Гастелло"/>
          <p:cNvPicPr/>
          <p:nvPr/>
        </p:nvPicPr>
        <p:blipFill>
          <a:blip r:embed="rId1"/>
          <a:stretch/>
        </p:blipFill>
        <p:spPr>
          <a:xfrm>
            <a:off x="4643280" y="2428920"/>
            <a:ext cx="19288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Admin</cp:lastModifiedBy>
  <dcterms:modified xsi:type="dcterms:W3CDTF">2011-08-25T11:08:46Z</dcterms:modified>
  <cp:revision>21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