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86C0-7D0E-474F-AAC6-CAFAB6F7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B00-A594-45D4-A6E6-DE89E28F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755-E559-4762-B307-6C423EDE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6EF-9A54-4BFE-AA36-801D7ADD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7DC9-B9FF-416E-831C-2D0240B9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548-1DAA-48FC-AC21-01AA06D4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835-3DA5-4C90-9D8D-92195E71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F37-609E-4EBB-987F-CFD7397F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C90C-4354-4240-A0B7-2A9CA612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793-7B5D-4C32-8ABE-3827D213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535-5EC2-4A5B-B9E2-55E02F57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42E-FD84-41F7-8D21-1397D246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F1E8-B366-4395-ABC5-C9D667D67F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26317lvschooll7.edusite.ru/p6aa1.html" TargetMode="External"/><Relationship Id="rId2" Type="http://schemas.openxmlformats.org/officeDocument/2006/relationships/hyperlink" Target="http://www.26317lvschooll7.edusite.ru/p6aa1.html" TargetMode="External"/><Relationship Id="rId3" Type="http://schemas.openxmlformats.org/officeDocument/2006/relationships/hyperlink" Target="http://kpoxa.ucoz.com/forum/43-776-1" TargetMode="External"/><Relationship Id="rId4" Type="http://schemas.openxmlformats.org/officeDocument/2006/relationships/hyperlink" Target="http://www.lenagold.ru/fon/clipart/g/grib2.html" TargetMode="External"/><Relationship Id="rId5" Type="http://schemas.openxmlformats.org/officeDocument/2006/relationships/hyperlink" Target="http://www.lenagold.ru/fon/clipart/k/kar3.html" TargetMode="External"/><Relationship Id="rId6" Type="http://schemas.openxmlformats.org/officeDocument/2006/relationships/hyperlink" Target="http://www.lenagold.ru/fon/clipart/k/kar3.html" TargetMode="External"/><Relationship Id="rId7" Type="http://schemas.openxmlformats.org/officeDocument/2006/relationships/hyperlink" Target="http://derzski.ru/?p=206" TargetMode="External"/><Relationship Id="rId8" Type="http://schemas.openxmlformats.org/officeDocument/2006/relationships/hyperlink" Target="http://derzski.ru/?p=206" TargetMode="External"/><Relationship Id="rId9" Type="http://schemas.openxmlformats.org/officeDocument/2006/relationships/hyperlink" Target="http://derzski.ru/?p=206" TargetMode="External"/><Relationship Id="rId10" Type="http://schemas.openxmlformats.org/officeDocument/2006/relationships/hyperlink" Target="http://gorodmam.ru/user/blog/post/432405/page/0" TargetMode="External"/><Relationship Id="rId11" Type="http://schemas.openxmlformats.org/officeDocument/2006/relationships/hyperlink" Target="http://apple4.blog.tut.by/2010/05/03/kotyataanimaciya/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Занимательная математика для детей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устный счёт + учимся писать циф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19280" y="4221000"/>
            <a:ext cx="3467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388944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Я рисую кошкин дом: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ри окошка, дверь с крыльцом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верху ещё окно, чтобы не было темно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считай окошки в домике у ко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908000" y="1700280"/>
            <a:ext cx="2449800" cy="23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635280" y="2349360"/>
            <a:ext cx="50508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124000" y="2349360"/>
            <a:ext cx="50508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843280" y="2349360"/>
            <a:ext cx="50472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 flipH="1" rot="13393200">
            <a:off x="2194560" y="836640"/>
            <a:ext cx="1887480" cy="1837800"/>
          </a:xfrm>
          <a:prstGeom prst="rtTriangl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2843280" y="3141720"/>
            <a:ext cx="504720" cy="9144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"/>
          <p:cNvPicPr/>
          <p:nvPr/>
        </p:nvPicPr>
        <p:blipFill>
          <a:blip r:embed="rId1"/>
          <a:stretch/>
        </p:blipFill>
        <p:spPr>
          <a:xfrm>
            <a:off x="5219640" y="3789360"/>
            <a:ext cx="3095640" cy="2779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Копия Копия Image3"/>
          <p:cNvPicPr/>
          <p:nvPr/>
        </p:nvPicPr>
        <p:blipFill>
          <a:blip r:embed="rId2"/>
          <a:stretch/>
        </p:blipFill>
        <p:spPr>
          <a:xfrm>
            <a:off x="539640" y="4121280"/>
            <a:ext cx="20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716360" y="1700280"/>
            <a:ext cx="35067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5724000" y="1700280"/>
            <a:ext cx="838440" cy="2590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724360" y="429264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7092720" y="2276640"/>
            <a:ext cx="1143000" cy="4190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 rot="7451400">
            <a:off x="5666760" y="46152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07" name="Oval 9"/>
          <p:cNvSpPr/>
          <p:nvPr/>
        </p:nvSpPr>
        <p:spPr>
          <a:xfrm>
            <a:off x="6443640" y="162864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84360" y="1700280"/>
            <a:ext cx="43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Гляди, четыре – это сту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Который я переверн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.0111 L -0.08542 0.38252 E">
                                      <p:cBhvr>
                                        <p:cTn id="125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2 0.38252 L 0.13125 0.38252 E">
                                      <p:cBhvr>
                                        <p:cTn id="128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8958 0.07169 L 0.06458 0.68224 E">
                                      <p:cBhvr>
                                        <p:cTn id="131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61008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цыплёнка стоят, на скорлупку глядя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ри яичка  в гнезде у наседки лежа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считай поскорей: сколько будет цыплят у наседки мо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580000" y="3789360"/>
            <a:ext cx="31780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емь гусей пустились в пу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решили отдохну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их под облака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считайте, дети, 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3924360" y="1159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>
            <a:off x="5580000" y="115920"/>
            <a:ext cx="1621080" cy="165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3"/>
          <a:stretch/>
        </p:blipFill>
        <p:spPr>
          <a:xfrm>
            <a:off x="6948360" y="1268280"/>
            <a:ext cx="1943280" cy="1792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Гуси"/>
          <p:cNvPicPr/>
          <p:nvPr/>
        </p:nvPicPr>
        <p:blipFill>
          <a:blip r:embed="rId4"/>
          <a:stretch/>
        </p:blipFill>
        <p:spPr>
          <a:xfrm>
            <a:off x="1763640" y="3500280"/>
            <a:ext cx="3092400" cy="309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332000" y="1700280"/>
            <a:ext cx="33573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 flipH="1">
            <a:off x="2916360" y="1700280"/>
            <a:ext cx="30456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4"/>
          <p:cNvSpPr/>
          <p:nvPr/>
        </p:nvSpPr>
        <p:spPr>
          <a:xfrm rot="6838800">
            <a:off x="3537000" y="1007280"/>
            <a:ext cx="988920" cy="1368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rc 5"/>
          <p:cNvSpPr/>
          <p:nvPr/>
        </p:nvSpPr>
        <p:spPr>
          <a:xfrm rot="615600">
            <a:off x="2339640" y="3068640"/>
            <a:ext cx="2338200" cy="33400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3132000" y="162864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 rot="7451400">
            <a:off x="2282760" y="38916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3"/>
          <p:cNvSpPr/>
          <p:nvPr/>
        </p:nvSpPr>
        <p:spPr>
          <a:xfrm>
            <a:off x="2778120" y="11592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4932360" y="1628640"/>
            <a:ext cx="421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Это – фокусник – пятёр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ы за ней следите зор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Кувыркнётся – раз и два!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бернётся цифрой д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23312E-007 L -0.03334 0.22202 E">
                                      <p:cBhvr>
                                        <p:cTn id="156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0.22202 C -0.02483 0.21624 -0.01615 0.21069 -0.00799 0.20699 C 0.00017 0.20329 0.00642 0.20028 0.01597 0.19959 C 0.02552 0.19889 0.04045 0.2012 0.04982 0.20329 C 0.0592 0.20537 0.06493 0.2086 0.07239 0.21277 C 0.07986 0.21693 0.08715 0.21994 0.09496 0.2278 C 0.10277 0.23566 0.11128 0.24723 0.11892 0.25971 C 0.12656 0.2722 0.13524 0.28307 0.14132 0.30273 C 0.14739 0.32239 0.15277 0.35384 0.15555 0.37789 C 0.15833 0.40194 0.16076 0.42114 0.15833 0.44727 C 0.1559 0.47341 0.15 0.50763 0.14132 0.53539 C 0.13264 0.56314 0.12152 0.59181 0.10625 0.61425 C 0.09097 0.63668 0.06632 0.65911 0.04982 0.67045 C 0.03333 0.68178 0.02187 0.68085 0.00764 0.68178 C -0.0066 0.6827 -0.02275 0.68247 -0.03611 0.67623 C -0.04948 0.66998 -0.06268 0.65611 -0.07275 0.64431 C -0.08282 0.63252 -0.08941 0.6191 -0.09671 0.60477 C -0.104 0.59043 -0.11302 0.56568 -0.11632 0.55782 E">
                                      <p:cBhvr>
                                        <p:cTn id="159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1.10083E-006 C 0.00226 0.00647 0.00469 0.01318 0.01268 0.02058 C 0.02066 0.02798 0.03299 0.03978 0.04792 0.04486 C 0.06285 0.04995 0.08681 0.05435 0.10278 0.05065 C 0.11875 0.04695 0.13299 0.03307 0.14375 0.02243 C 0.15452 0.01179 0.16372 -0.00717 0.16771 -0.01318 E">
                                      <p:cBhvr>
                                        <p:cTn id="162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76360" y="115560"/>
            <a:ext cx="3816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Я нашёл в дупле у белки пять лесных орешков мелких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т ещё один лежит, мхом заботливо укры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у и белка! Вот хозяйка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се орешки посчитай-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4076280"/>
            <a:ext cx="353844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ружно муравьи живут и без дела не    снуют. Два несут травинку, 2 несут былинку, два несут иголки.                      Сколько муравьев под елк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3976560" cy="31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rcRect l="3789" t="5052" r="5500" b="14286"/>
          <a:stretch/>
        </p:blipFill>
        <p:spPr>
          <a:xfrm>
            <a:off x="5076720" y="3645000"/>
            <a:ext cx="38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692360" y="1143000"/>
            <a:ext cx="371772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rc 3"/>
          <p:cNvSpPr/>
          <p:nvPr/>
        </p:nvSpPr>
        <p:spPr>
          <a:xfrm flipV="1" rot="16801200">
            <a:off x="1865520" y="3004920"/>
            <a:ext cx="3051000" cy="25228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rc 4"/>
          <p:cNvSpPr/>
          <p:nvPr/>
        </p:nvSpPr>
        <p:spPr>
          <a:xfrm flipH="1" rot="1275000">
            <a:off x="2677320" y="1068480"/>
            <a:ext cx="2403720" cy="317484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525780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 rot="7451400">
            <a:off x="4473000" y="70776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3"/>
          <p:cNvSpPr/>
          <p:nvPr/>
        </p:nvSpPr>
        <p:spPr>
          <a:xfrm>
            <a:off x="3065760" y="18900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5724360" y="119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шесть – дверной замоче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верху крюк, внизу круж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0518E-007 C -0.00799 -0.0185 -0.0158 -0.03677 -0.02257 -0.05065 C -0.02935 -0.06452 -0.0316 -0.07285 -0.04098 -0.08256 C -0.05035 -0.09228 -0.06806 -0.10384 -0.079 -0.1087 C -0.08994 -0.11355 -0.09688 -0.11263 -0.10712 -0.1124 C -0.11737 -0.11216 -0.12952 -0.11055 -0.14098 -0.10685 C -0.15244 -0.10315 -0.16372 -0.09875 -0.17622 -0.08996 C -0.18872 -0.08118 -0.20105 -0.07285 -0.21563 -0.05435 C -0.23021 -0.03585 -0.24879 -0.00694 -0.26355 0.02081 C -0.2783 0.04857 -0.29289 0.07956 -0.30435 0.11263 C -0.3158 0.1457 -0.32466 0.18432 -0.33247 0.2197 C -0.34028 0.25509 -0.34862 0.29371 -0.35087 0.3247 C -0.35313 0.35569 -0.35122 0.37812 -0.34653 0.40541 C -0.34185 0.4327 -0.33421 0.46647 -0.32257 0.48797 C -0.31094 0.50948 -0.2948 0.52243 -0.27622 0.53469 C -0.25764 0.54695 -0.23143 0.56105 -0.21129 0.56105 C -0.19115 0.56105 -0.16928 0.54463 -0.15504 0.53469 C -0.1408 0.52475 -0.13403 0.51364 -0.12535 0.50092 C -0.11667 0.48821 -0.11112 0.47687 -0.10296 0.45791 C -0.0948 0.43895 -0.08143 0.41235 -0.07622 0.38668 C -0.07101 0.36101 -0.06997 0.33141 -0.07188 0.30412 C -0.07379 0.27683 -0.08021 0.24746 -0.08733 0.2234 C -0.09445 0.19935 -0.10157 0.17738 -0.11424 0.15957 C -0.12691 0.14177 -0.14601 0.12465 -0.16355 0.11633 C -0.18108 0.108 -0.20226 0.10615 -0.2198 0.10893 C -0.23733 0.1117 -0.25573 0.12257 -0.2691 0.13321 C -0.28247 0.14385 -0.28855 0.15402 -0.3 0.17276 C -0.31146 0.19149 -0.33178 0.23358 -0.3382 0.24584 E">
                                      <p:cBhvr>
                                        <p:cTn id="178" dur="5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31928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 небе радуга-дуга замыкает берега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асцветая всё ясней, чудо-краски светят в ней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усть ответит тот, кто знает или сможет сосчитать, сколько красок в ней играет, озаряя моря глад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403280" y="2924280"/>
            <a:ext cx="4248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835280" y="1143000"/>
            <a:ext cx="357480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2819520" y="1143000"/>
            <a:ext cx="2666880" cy="3049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 flipH="1">
            <a:off x="3124080" y="1219320"/>
            <a:ext cx="2286000" cy="4647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81280" y="3733920"/>
            <a:ext cx="12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2743200" y="1371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3429000" y="3657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 rot="7451400">
            <a:off x="1958400" y="982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6"/>
          <p:cNvSpPr/>
          <p:nvPr/>
        </p:nvSpPr>
        <p:spPr>
          <a:xfrm>
            <a:off x="3065760" y="18900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5580000" y="1125360"/>
            <a:ext cx="34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семёрка – кочер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У неё одна н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2.94172E-006 C 0.02378 -0.00948 0.03316 -0.01896 0.04566 -0.02428 C 0.05816 -0.0296 0.07326 -0.03446 0.08923 -0.03191 C 0.10521 -0.02937 0.12517 -0.01711 0.14132 -0.00948 C 0.15746 -0.00185 0.17361 0.0111 0.18646 0.01319 C 0.1993 0.01527 0.20086 0.01064 0.21875 0.0037 C 0.23663 -0.00323 0.28194 -0.02474 0.2934 -0.02821 C 0.30486 -0.03168 0.29236 -0.02821 0.28784 -0.01688 C 0.28333 -0.00555 0.30781 -0.07262 0.26666 0.03932 C 0.22552 0.15125 0.07882 0.5525 0.04132 0.65472 E">
                                      <p:cBhvr>
                                        <p:cTn id="184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125 0.33812 L 0.23125 0.33812 E">
                                      <p:cBhvr>
                                        <p:cTn id="187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 одним большим столом сели рядом с гномом гном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Белоснежка с ними вместе стол накрыла честь по чест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неё во всём порядок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олько сколько ложек над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4248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340000" y="1066680"/>
            <a:ext cx="30700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3"/>
          <p:cNvSpPr/>
          <p:nvPr/>
        </p:nvSpPr>
        <p:spPr>
          <a:xfrm flipH="1" flipV="1" rot="1133400">
            <a:off x="3757680" y="1068120"/>
            <a:ext cx="1600200" cy="21351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 flipH="1" flipV="1">
            <a:off x="4038480" y="304776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5"/>
          <p:cNvSpPr/>
          <p:nvPr/>
        </p:nvSpPr>
        <p:spPr>
          <a:xfrm flipH="1" rot="1208400">
            <a:off x="2774160" y="3099960"/>
            <a:ext cx="2133720" cy="26640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388620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 rot="7451400">
            <a:off x="3101400" y="1742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2"/>
          <p:cNvSpPr/>
          <p:nvPr/>
        </p:nvSpPr>
        <p:spPr>
          <a:xfrm>
            <a:off x="3498840" y="26028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5724360" y="1052640"/>
            <a:ext cx="31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У восьмёрки два кольца без начала и ко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0.00902 C 0.01805 -0.00439 0.0276 -0.02266 0.04045 -0.03237 C 0.0533 -0.04209 0.07222 -0.05041 0.0868 -0.04926 C 0.10139 -0.0481 0.11649 -0.03792 0.12777 -0.02474 C 0.13906 -0.01156 0.1493 0.0081 0.15451 0.02961 C 0.15972 0.05111 0.15937 0.08395 0.15868 0.10454 C 0.15798 0.12512 0.15677 0.13437 0.15017 0.15333 C 0.14357 0.1723 0.13211 0.20213 0.11927 0.21901 C 0.10642 0.2359 0.08958 0.24931 0.07274 0.25463 C 0.0559 0.25995 0.03472 0.2507 0.01788 0.25093 C 0.00104 0.25116 -0.01077 0.24607 -0.02865 0.25671 C -0.04653 0.26735 -0.0724 0.28724 -0.08924 0.31476 C -0.10608 0.34228 -0.12466 0.38298 -0.13004 0.42184 C -0.13542 0.46069 -0.12969 0.51596 -0.12153 0.54741 C -0.11337 0.57887 -0.09688 0.59667 -0.08073 0.61124 C -0.06459 0.62581 -0.04584 0.63738 -0.02448 0.63553 C -0.00313 0.63368 0.02812 0.61864 0.04739 0.59991 C 0.06666 0.58118 0.08038 0.55666 0.09114 0.52313 C 0.10191 0.4896 0.11441 0.43895 0.11215 0.39917 C 0.10989 0.35939 0.09166 0.30921 0.07708 0.28469 C 0.0625 0.26018 0.03836 0.26295 0.02482 0.25278 C 0.01128 0.2426 0.00295 0.2396 -0.00469 0.22295 C -0.01233 0.20629 -0.01841 0.17369 -0.02153 0.15333 C -0.02466 0.13298 -0.02448 0.11841 -0.02292 0.10084 C -0.02136 0.08326 -0.01719 0.06337 -0.01181 0.04834 C -0.00643 0.03331 0.00069 0.02244 0.00937 0.00902 Z">
                                      <p:cBhvr>
                                        <p:cTn id="193" dur="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31928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 дороге мальчик и девочка  шли,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Оба по два рубля нашл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 ними ещё трое иду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они денег найду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3843360"/>
            <a:ext cx="41148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везло опять Егор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реки сидит не з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карасика в ведёр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И четыре песка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о смотрите – у ведё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явился хитрый ко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рыб домой Ег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уху нам принесё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3319560" cy="308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788000" y="3789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11280" y="188640"/>
            <a:ext cx="30956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Что подарил нам сосновый бор?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емь маслят и один мухомор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всего гриб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19280" y="3500280"/>
            <a:ext cx="346716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идят рыбаки, стерегут попла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Рыбак Корней поймал трёх оку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Рыбак Евсей – четырёх карас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А рыбак Михаил двух сомов излов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колько рыб рыбаки поймали из ре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3601800" cy="2531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7236000" y="620640"/>
            <a:ext cx="1618920" cy="154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3"/>
          <a:stretch/>
        </p:blipFill>
        <p:spPr>
          <a:xfrm>
            <a:off x="1763640" y="3048120"/>
            <a:ext cx="32576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828800" y="1143000"/>
            <a:ext cx="3581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rc 3"/>
          <p:cNvSpPr/>
          <p:nvPr/>
        </p:nvSpPr>
        <p:spPr>
          <a:xfrm flipV="1" rot="6330600">
            <a:off x="2797560" y="1665360"/>
            <a:ext cx="3010320" cy="20559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4038120" y="3276720"/>
            <a:ext cx="114300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5"/>
          <p:cNvSpPr/>
          <p:nvPr/>
        </p:nvSpPr>
        <p:spPr>
          <a:xfrm rot="6861000">
            <a:off x="2546280" y="4464000"/>
            <a:ext cx="1460520" cy="13716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5257800" y="2209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 rot="7451400">
            <a:off x="4473000" y="10126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3138480" y="28116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5580000" y="1052640"/>
            <a:ext cx="320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ка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ест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Перевёрнутая ш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 -0.00971 C 0.00573 -0.03561 0.00312 -0.06128 -0.00695 -0.08279 C -0.01702 -0.1043 -0.03473 -0.12928 -0.05209 -0.13922 C -0.06945 -0.14916 -0.09202 -0.15032 -0.11129 -0.14292 C -0.13056 -0.13552 -0.14948 -0.12002 -0.16754 -0.09412 C -0.18559 -0.06822 -0.2099 -0.01711 -0.21962 0.01272 C -0.22934 0.04256 -0.22448 0.06453 -0.22535 0.08418 C -0.22622 0.10338 -0.22674 0.11471 -0.22535 0.13044 C -0.22396 0.14686 -0.22101 0.16397 -0.21684 0.18155 C -0.21268 0.19912 -0.2099 0.22017 -0.2 0.23613 C -0.19011 0.25208 -0.17431 0.27082 -0.15764 0.27729 C -0.14098 0.28377 -0.11667 0.28192 -0.1 0.27544 C -0.08334 0.26897 -0.07032 0.25463 -0.05764 0.23798 C -0.04497 0.22133 -0.03351 0.19912 -0.02396 0.176 C -0.01441 0.15264 -0.00539 0.12558 3.33333E-006 0.09875 C 0.00538 0.07216 0.00659 0.03076 0.0085 0.01457 C 0.01041 -0.00162 0.01146 -0.00624 0.01128 0.00162 C 0.01111 0.00948 0.01163 0.03631 0.00711 0.06152 C 0.0026 0.08673 -0.00625 0.12651 -0.01545 0.15356 C -0.02466 0.18039 -0.03264 0.18918 -0.04792 0.22294 C -0.0632 0.25648 -0.08959 0.31776 -0.10695 0.3543 C -0.12431 0.39038 -0.14011 0.4216 -0.15209 0.44219 C -0.16407 0.463 -0.16563 0.46624 -0.17882 0.47965 C -0.19202 0.4933 -0.21667 0.51689 -0.23091 0.52313 C -0.24514 0.52868 -0.25539 0.52105 -0.26476 0.51527 C -0.27414 0.50972 -0.28143 0.50232 -0.28733 0.4889 C -0.29323 0.47595 -0.29792 0.44658 -0.3 0.43455 C -0.30209 0.42299 -0.3 0.42068 -0.3 0.41813 E">
                                      <p:cBhvr>
                                        <p:cTn id="221" dur="5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блон презентации Александровой З.В., учителя  физики и инфор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820080" y="404640"/>
            <a:ext cx="47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26317lvschooll7.edusite.ru/p6aa1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812160" y="1295280"/>
            <a:ext cx="44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kpoxa.ucoz.com/forum/43-776-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ёж с ябло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826920" y="1700280"/>
            <a:ext cx="708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enagold.ru/fon/clipart/g/grib2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ё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22240" y="1484280"/>
            <a:ext cx="49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lenagold.ru/fon/clipart/k/kar3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карандаш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828000" y="19162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derzski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?p=20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пет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813240" y="2157480"/>
            <a:ext cx="49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gorodmam.ru/user/blog/post/432405/page/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петух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806400" y="2421000"/>
            <a:ext cx="512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apple4.blog.tut.by/2010/05/03/kotyataanimaciya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о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37000"/>
            <a:ext cx="799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ages.yandex.ru/yandsearch?ed=1&amp;rpt=simage&amp;text=3%20%D1%86%D1%8B%D0%BF%D0%BB%D1%91%D0%BD%D0%BA%D0%B0&amp;img_url=s56.radikal.ru%2Fi154%2F0904%2F0b%2F797649ce0634.jpg&amp;spsite=fake-004-7856796.ru&amp;p=29 - цыпл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826920" y="3500280"/>
            <a:ext cx="69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razumniki.ru/showthread.php?p=15375 - гу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810720" y="37670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childrensbook.narod.ru/photoalbum.html - бе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10720" y="3933720"/>
            <a:ext cx="51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kvadra.su/2010/02/04/saga-o-muravy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рав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803160" y="4221000"/>
            <a:ext cx="543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t.free-lance.ru/projects/upload/f_4af066f812fb2.jpg - рад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826920" y="4487760"/>
            <a:ext cx="518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devochkiclab.my1.ru/ - Белоснежка и семь гно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826920" y="4775040"/>
            <a:ext cx="40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greenmama.ua/nid/270092/ -масл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826920" y="5013360"/>
            <a:ext cx="480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rc-mir.com/topic1924604_350.html - мухом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808200" y="5229360"/>
            <a:ext cx="55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g.sunhome.ru/UsersGallery/Cards/183/3114313.jpg - рыб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826920" y="5516640"/>
            <a:ext cx="792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айды № 3,5,7,9,11,13,15,17,19,21 частично мной использованы из презентации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Шевцовой С.А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сайта -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viki.rdf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826920" y="692280"/>
            <a:ext cx="59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algaishkolatrhree.okis.ru/roditilyam.html - мальчик и дев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900000" y="5950080"/>
            <a:ext cx="726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to.tut.by/search_result.php?query=%E6%E8%E2%EE%F2%ED%FB%E9&amp;page=1 – кот на рыба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826920" y="6381720"/>
            <a:ext cx="832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forum.fotowedding.ru/viewtopic.php?p=170659&amp;sid=101dbf2b6e66589a60f9f4a9ce010a1f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й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805680" y="1103400"/>
            <a:ext cx="588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materinstvo.ru/index.php?showtopic=83152&amp;st=300 - бе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057400" y="1143000"/>
            <a:ext cx="33526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 rot="901200">
            <a:off x="2796840" y="1133280"/>
            <a:ext cx="2460600" cy="47210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5257800" y="24382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 rot="7451400">
            <a:off x="4083120" y="82080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5651640" y="1125360"/>
            <a:ext cx="291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вроде буквы 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Это ноль иль ниче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714840" y="13644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0.0229 C 0.04514 -0.00556 0.04097 -0.02614 0.03316 -0.05205 C 0.02535 -0.07796 0.01389 -0.1159 0.00069 -0.13278 C -0.0125 -0.14967 -0.02622 -0.15406 -0.04566 -0.15337 C -0.0651 -0.15268 -0.0934 -0.14897 -0.11615 -0.12908 C -0.13889 -0.10919 -0.16146 -0.08559 -0.18229 -0.03331 C -0.20313 0.01896 -0.23177 0.1189 -0.24149 0.18436 C -0.25122 0.24982 -0.24601 0.30788 -0.2401 0.35877 C -0.2342 0.40967 -0.22083 0.46241 -0.20625 0.49017 C -0.19167 0.51769 -0.17222 0.52671 -0.15278 0.52556 C -0.13333 0.52463 -0.11424 0.51214 -0.08941 0.48276 C -0.06458 0.45339 -0.02431 0.39394 -0.00347 0.34952 C 0.01736 0.30511 0.02778 0.25468 0.03594 0.21628 C 0.0441 0.17788 0.04444 0.15059 0.04583 0.11866 C 0.04722 0.08674 0.04931 0.05135 0.04722 0.0229 Z">
                                      <p:cBhvr>
                                        <p:cTn id="47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42483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домика утром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зайца сидели и дружно весёлую песенку пел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дин убежал, а второй вслед гляди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у домика зайцев сиди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508720" y="2852640"/>
            <a:ext cx="2452680" cy="3086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25207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23880" y="1143000"/>
            <a:ext cx="388620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 flipV="1">
            <a:off x="2971800" y="1142640"/>
            <a:ext cx="2438280" cy="2133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2895120" y="1143000"/>
            <a:ext cx="2514600" cy="4724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2895480" y="32004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2819520" y="571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5334120" y="1066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 rot="7451400">
            <a:off x="2187000" y="20030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5796000" y="1125360"/>
            <a:ext cx="305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один , иль едини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чень тонкая, как спиц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3426120" y="13644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5578E-006 L 0.26458 -0.31683 E">
                                      <p:cBhvr>
                                        <p:cTn id="53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458 -0.31683 L -0.01042 0.38252 E">
                                      <p:cBhvr>
                                        <p:cTn id="56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76360" y="4581360"/>
            <a:ext cx="3816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арандаш один у Гриш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арандаш один у Ми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же карандашей 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боих малыш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76360" y="3933720"/>
            <a:ext cx="2381400" cy="2600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11280" y="-360"/>
            <a:ext cx="388944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Три яблока из сада 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Ёжик притащил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амое румяное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Белке подарил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 радостью подарок получила белка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осчитайте яблоки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У ежа в тарелк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409840" cy="375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22096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403280" y="1197000"/>
            <a:ext cx="4033800" cy="4869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rc 3"/>
          <p:cNvSpPr/>
          <p:nvPr/>
        </p:nvSpPr>
        <p:spPr>
          <a:xfrm rot="901200">
            <a:off x="3203280" y="1267920"/>
            <a:ext cx="2324160" cy="1433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304812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 flipH="1">
            <a:off x="2742840" y="2971800"/>
            <a:ext cx="251460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2743200" y="5562720"/>
            <a:ext cx="2666880" cy="4698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 rot="7451400">
            <a:off x="2263320" y="70776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77" name="Oval 10"/>
          <p:cNvSpPr/>
          <p:nvPr/>
        </p:nvSpPr>
        <p:spPr>
          <a:xfrm>
            <a:off x="2666880" y="58672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1835280" y="33336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5867280" y="112536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Два похожа на гус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 длинной ше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Шеей тон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16 C 0.01319 -0.03215 0.02882 -0.06152 0.04583 -0.08025 C 0.06337 -0.09852 0.08212 -0.108 0.10191 -0.11355 C 0.12188 -0.11702 0.14722 -0.11702 0.16597 -0.11355 C 0.18507 -0.108 0.20208 -0.08881 0.21424 -0.08025 C 0.22622 -0.07077 0.23125 -0.07285 0.23819 -0.05782 C 0.24462 -0.04325 0.2526 -0.01758 0.25399 0.00856 C 0.25625 0.03469 0.2526 0.07169 0.24583 0.09783 C 0.23906 0.12327 0.2526 0.09598 0.21424 0.16466 C 0.175 0.23219 0.05399 0.43987 0.01406 0.50925 C -0.02622 0.57771 -0.02639 0.57007 -0.02622 0.57539 C -0.02483 0.58349 0.00434 0.55111 0.0217 0.54278 C 0.03889 0.53284 0.0592 0.52012 0.07813 0.52012 C 0.09688 0.52012 0.11788 0.53469 0.13403 0.54278 C 0.14965 0.54972 0.15799 0.56799 0.17378 0.56452 C 0.18976 0.56013 0.22049 0.52729 0.22969 0.52012 E">
                                      <p:cBhvr>
                                        <p:cTn id="81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71280" y="3500280"/>
            <a:ext cx="36097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плетень взлетел пет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встречал ещё там дв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стало петух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кого ответ гот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355640" y="333000"/>
            <a:ext cx="418644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полянку у дубка ёж увидел два грибка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А подальше, у осин,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н нашёл ещё один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то ответить нам готов, Сколько ёж нашёл гриб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2664000" cy="2433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31669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268360" y="1773360"/>
            <a:ext cx="30657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rc 3"/>
          <p:cNvSpPr/>
          <p:nvPr/>
        </p:nvSpPr>
        <p:spPr>
          <a:xfrm flipH="1" rot="876600">
            <a:off x="3202560" y="1773000"/>
            <a:ext cx="2055600" cy="20923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rc 4"/>
          <p:cNvSpPr/>
          <p:nvPr/>
        </p:nvSpPr>
        <p:spPr>
          <a:xfrm>
            <a:off x="2843280" y="3860640"/>
            <a:ext cx="2438280" cy="25909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3203640" y="220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 rot="7451400">
            <a:off x="2355840" y="96516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Oval 10"/>
          <p:cNvSpPr/>
          <p:nvPr/>
        </p:nvSpPr>
        <p:spPr>
          <a:xfrm>
            <a:off x="3924360" y="378936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44000" y="26028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5867280" y="1773360"/>
            <a:ext cx="29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А вот это – посмот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ыступает цифра т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Тройка – третий из значков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остоит из двух крюч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1133 C 0.01649 -0.02613 0.02882 -0.04093 0.04375 -0.05087 C 0.05868 -0.06082 0.07622 -0.0703 0.09444 -0.07146 C 0.11267 -0.07261 0.13681 -0.06914 0.15365 -0.05827 C 0.17049 -0.04741 0.18628 -0.02451 0.19583 -0.00578 C 0.20538 0.01296 0.20868 0.03331 0.21128 0.05435 C 0.21389 0.0754 0.2151 0.09968 0.21128 0.12003 C 0.20747 0.14038 0.19809 0.16097 0.18872 0.17623 C 0.17934 0.19149 0.16979 0.20236 0.15503 0.21185 C 0.14028 0.22133 0.1125 0.2278 0.1 0.23243 C 0.0875 0.23705 0.08056 0.23844 0.08038 0.24006 C 0.08021 0.24168 0.08924 0.23867 0.09861 0.24191 C 0.10799 0.24515 0.12188 0.24654 0.13663 0.25879 C 0.15139 0.27105 0.17517 0.29556 0.18733 0.31499 C 0.19948 0.33442 0.20521 0.3513 0.2099 0.37512 C 0.21458 0.39894 0.21771 0.43201 0.21563 0.45768 C 0.21354 0.48335 0.20538 0.50879 0.19722 0.52891 C 0.18906 0.54903 0.18351 0.56245 0.16632 0.57771 C 0.14913 0.59297 0.1191 0.61633 0.09444 0.62096 C 0.06979 0.62558 0.03767 0.61541 0.0184 0.60593 C -0.000869999999999999 0.59644 -0.0092 0.58118 -0.02101 0.56453 C -0.03281 0.54788 -0.04687 0.51619 -0.05208 0.50648 E">
                                      <p:cBhvr>
                                        <p:cTn id="106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4:55:37Z</dcterms:created>
  <dc:creator>User</dc:creator>
  <dc:description/>
  <dc:language>en-US</dc:language>
  <cp:lastModifiedBy>вика</cp:lastModifiedBy>
  <dcterms:modified xsi:type="dcterms:W3CDTF">2015-03-15T17:32:08Z</dcterms:modified>
  <cp:revision>9</cp:revision>
  <dc:subject/>
  <dc:title>Занимательная математика для детей (устный счёт)</dc:title>
</cp:coreProperties>
</file>