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611-9826-4D9D-90B5-D3456D00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B8B-0B8C-4A84-8D89-E59E8F5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8C0-7238-4102-80FA-B28F3CBF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043-CA37-4609-916B-8F0423AE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145-286C-4561-8C00-4C45250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08D-4800-490A-B5D4-F96D74E1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628-9BCF-4F8C-A1A3-86A16449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413-3AB6-4655-AB5E-B3222AD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846-30B3-4FAD-935E-E3FC4C7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A60-A17A-4C33-829F-C1F976B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B3C-0612-4DD8-A04E-A4A5062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357-D4E3-452E-8C2C-03F8D1F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7524-7FA1-4291-9244-3F4E4EE09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 для детей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устный счёт + учимся писать циф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19280" y="422100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ages.yandex.ru/yandsearch?ed=1&amp;rpt=simage&amp;text=3%20%D1%86%D1%8B%D0%BF%D0%BB%D1%91%D0%BD%D0%BA%D0%B0&amp;img_url=s56.radikal.ru%2Fi154%2F0904%2F0b%2F797649ce0634.jpg&amp;spsite=fake-004-7856796.ru&amp;p=29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вика</cp:lastModifiedBy>
  <dcterms:modified xsi:type="dcterms:W3CDTF">2015-03-15T17:32:08Z</dcterms:modified>
  <cp:revision>9</cp:revision>
  <dc:subject/>
  <dc:title>Занимательная математика для детей (устный счёт)</dc:title>
</cp:coreProperties>
</file>