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.0868993993993994"/>
          <c:y val="0.118615778346501"/>
          <c:w val="0.609421921921922"/>
          <c:h val="0.739735173027707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Столбец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Строка 1</c:v>
                </c:pt>
                <c:pt idx="1">
                  <c:v>Строка 2</c:v>
                </c:pt>
                <c:pt idx="2">
                  <c:v>Строка 3</c:v>
                </c:pt>
                <c:pt idx="3">
                  <c:v>Строка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2</c:f>
              <c:strCache>
                <c:ptCount val="1"/>
                <c:pt idx="0">
                  <c:v>Столбец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Строка 1</c:v>
                </c:pt>
                <c:pt idx="1">
                  <c:v>Строка 2</c:v>
                </c:pt>
                <c:pt idx="2">
                  <c:v>Строка 3</c:v>
                </c:pt>
                <c:pt idx="3">
                  <c:v>Строка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9017501"/>
        <c:axId val="88191544"/>
      </c:barChart>
      <c:catAx>
        <c:axId val="39017501"/>
        <c:scaling>
          <c:orientation val="minMax"/>
        </c:scaling>
        <c:delete val="0"/>
        <c:axPos val="b"/>
        <c:numFmt formatCode="[$-419]dd/mm/yyyy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191544"/>
        <c:crosses val="autoZero"/>
        <c:auto val="1"/>
        <c:lblAlgn val="ctr"/>
        <c:lblOffset val="100"/>
        <c:noMultiLvlLbl val="0"/>
      </c:catAx>
      <c:valAx>
        <c:axId val="8819154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01750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plotVisOnly val="1"/>
    <c:dispBlanksAs val="gap"/>
  </c:chart>
  <c:spPr>
    <a:noFill/>
    <a:ln w="0">
      <a:noFill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AutoShape 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Text Box 10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Text Box 11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57600" cy="341460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2000" cy="41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86BF28-6533-4C08-AF30-4247CA3013C5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15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E13D80-1B05-4977-AFC5-8F4BBC688B5F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054990-F4EA-42E8-B767-1B9A25521FA1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Text Box 2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25FF5A-3F6F-4FF7-AD63-1A083C988ED6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Text Box 3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BDB0A4-4439-4406-9361-3C15483BCE41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708B25-BC5E-43C2-B760-33A06DBA4C1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15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F8EE3C-049F-422D-A7F1-E6F5ABFF3D17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1596FA-684D-4AB6-979B-178E1A00D958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Text Box 2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778FE7-959E-4DFB-9D06-1CA9EBE0360D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68760" cy="342576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15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3F206E-0F42-4460-A54B-795EC29E887E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D5B7C6-329C-4942-ADC4-912145A2086A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15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EEB9E9-9799-4C4F-9CD6-5A3A993610AB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1319BD-AE77-4936-A1A2-320E5A346C20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Text Box 2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D4386C-28F0-43E1-9952-9AD0A008C190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Text Box 3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1DF4D9-ABCD-45C4-AAC1-F82E23FB2DD4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15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74D99A-B650-4107-9207-72F3561D125E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1200" cy="342108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15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03C514-F39F-48DE-B48F-3F29AEBF544C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84E831-8500-4842-856B-A09A4C421327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2640" cy="342252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15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4B6ED4-FAB4-4432-835C-DAB16C3BBC82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FD77C2-9622-4B21-AA87-1094112361C9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Text Box 2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7A7E6D-3B6A-42AE-9198-17B27FDCFC13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Text Box 3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3AA816-177B-47AC-8C4D-26AAACE594CD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15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9DBA40-05E7-443F-B18E-DA0B1BE71B49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40BBD1-4927-49E3-8A4F-0E0379EE880D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Text Box 2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6B7579-80C2-4D28-9FD4-8093FCF3356B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Text Box 3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6D970C-E1F0-42EF-B671-BA390288EC3A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15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CDBBC5-4D58-4874-B084-774357F9724E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1200" cy="342108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15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EE5E98-F68F-48C6-B272-14B6DB951DC7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2FD268-FD24-41DB-871C-9C1E91811E75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Text Box 2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D307D6-6D72-4DB5-AB39-052F55A63F00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15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DF0045-99F5-4BE2-BC2F-13449376278A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F79178-C0F1-424B-91D6-635D697A690A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Text Box 2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6131FE-CA52-4F56-950E-2B34F39F6075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68760" cy="342576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15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FB5CE8-BFEA-4A8B-AF74-3C48BEE262FD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A1A0D7-B8FD-4100-934A-CD1BD5BE1567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Text Box 2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1856DB-4F92-4CDB-B9D8-EA2102AFF819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Text Box 3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3621EE-1D47-4DAC-A158-EF3112FDF1E7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15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F8D2BB-1DA9-4BEB-A3DE-4E00FAACF88E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A614CC-8566-466F-8D8E-5D0FB778CACA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Text Box 2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89695A-B668-4F58-91E3-4E1AD24A4F1C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Text Box 3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56109E-8E6A-4DD0-AD4C-1E24BE950042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15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B5C45C-15DA-4B44-91A0-DBBAEE53247C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B4C3DF-8F83-44C8-BD10-08AFAC15CDAF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Text Box 2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039E9D-5EA1-412A-B7AA-B40E3B84D0C0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Text Box 3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E6A95A-6294-47D1-A7C8-F628C882813F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15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B5584A-E42F-4649-87DD-F85810EE95E4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DBEEC5-AEBD-45C8-B88E-8303C6BFACE6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Text Box 2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ABA2BA-CCA2-4D8D-9700-D61682E848B1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Text Box 3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7A302D-A58C-44E1-937F-1E06E3B5E642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15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863D84-93C3-49E0-A291-2384642CA6A3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18DC84-BB3D-4DA0-B405-62883366238E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Text Box 2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2395D4-1EE4-480C-AF47-D8351435A90C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Text Box 3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AAB4EA-300A-477F-B66A-E053EB578E36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15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C7A132-614B-4B6A-8F5A-8CE720D913B5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47D9F4-A51B-461E-9BCE-B1B243E75AA0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Text Box 2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238DEA-A85E-4EF4-9702-384511B1EAF2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Text Box 3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B76F5A-C949-444A-B35F-578EFBB2E6DB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15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A9E843-6CE9-4A0B-95CF-2C3F67E96B9D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A3518C-727C-4B2E-843D-73BB37E4C3BF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Text Box 2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EA6125-3D78-4B18-A377-6C01F068537B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68760" cy="342576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15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4079EF-1D6D-4B77-98FA-780D6679BDB5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2A1331-6463-48E8-B9C7-93C2D2A6776E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Text Box 2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0D64CF-8BEB-40BA-8C70-A1ABCF614BFD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Text Box 3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774AF7-8DFF-4A4F-9D5E-CA997A0223E8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15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04A207-2D6F-4095-A984-957ABABAF554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AC55AC-FE96-497A-AC50-D9FB0A0EC663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Text Box 2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EC5A12-13F9-4094-9542-372929550E5C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68760" cy="342576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15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CA0314-1CE1-4261-B04F-BF19AC98A8D9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4E0B6B-81E2-459F-A26D-E62E57823114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2640" cy="342252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15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464301-C080-4D02-BBC1-59CD645EC5FA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0F65A0-3761-4071-9E6C-2476F12FDD32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Text Box 2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D0F8E1-34C0-4AD6-A44E-31E45DE927F7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68760" cy="34257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15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869F53-5438-4836-AD59-9098685BE8FE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5D6E88-1AF4-4AB5-A19E-0D392F5F135B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Text Box 2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2B0898-9344-46B9-A46F-52B527173E7D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Text Box 3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342159-BBF5-4FDD-A49C-414798F130D9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15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C8E70A-716E-4E86-B0A2-CEFB9592479B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AB636B-F0D1-47BF-A363-18F31C95C4BB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Text Box 2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4032EE-B144-4FF0-8511-DE2B71DEE893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Text Box 3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1919C8-527B-44B3-8739-DE9D95FF4791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15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5E735E-9DCA-4BF7-B815-DECDF89D685E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29E509-CA3C-4D66-9897-E149AD535A25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Text Box 2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517777-9AE7-4918-87F6-C9702DBC9419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Text Box 3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048C72-538E-49C2-B9BA-9B945EBB2BCC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15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EDEEC3-F531-4D40-B691-A5579CD5C6E8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1200" cy="342108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5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06715B-0317-4841-8879-3F2F210D64BE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2B2A06-B454-48AE-850F-CD81657CA563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2640" cy="342252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15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74042F-2F1A-4F69-B85D-D7CF6330DCF8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413D51-1508-4D9E-A345-AD186CA1EE12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68B42-47D6-4FC5-9337-5745ECF25C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320" y="76320"/>
            <a:ext cx="7758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2000" y="1766880"/>
            <a:ext cx="7755120" cy="195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62000" y="3908160"/>
            <a:ext cx="7755120" cy="195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3943F-B52D-4B1B-994A-5F81AD3B77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76320"/>
            <a:ext cx="7758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2000" y="1766880"/>
            <a:ext cx="3784320" cy="195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36040" y="1766880"/>
            <a:ext cx="3784320" cy="195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2000" y="3908160"/>
            <a:ext cx="3784320" cy="195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36040" y="3908160"/>
            <a:ext cx="3784320" cy="195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4CBB3-13C2-4500-A880-51D65C95F1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320" y="76320"/>
            <a:ext cx="7758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2000" y="1766880"/>
            <a:ext cx="2496960" cy="195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84240" y="1766880"/>
            <a:ext cx="2496960" cy="195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06480" y="1766880"/>
            <a:ext cx="2496960" cy="195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62000" y="3908160"/>
            <a:ext cx="2496960" cy="195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84240" y="3908160"/>
            <a:ext cx="2496960" cy="195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06480" y="3908160"/>
            <a:ext cx="2496960" cy="195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E5169-578D-42EF-AC24-A75464C1F3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FABE3B-4B7F-42D3-810C-0650441570A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320" y="76320"/>
            <a:ext cx="7758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62000" y="1766880"/>
            <a:ext cx="775512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E60CA1-EEA5-489B-9D09-81F44D14F9E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76320"/>
            <a:ext cx="7758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2000" y="1766880"/>
            <a:ext cx="7755120" cy="40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5450D0-F7D6-4E3A-B406-BB5FA4EEF23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76320"/>
            <a:ext cx="7758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2000" y="1766880"/>
            <a:ext cx="3784320" cy="40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36040" y="1766880"/>
            <a:ext cx="3784320" cy="40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D0125F-2DB8-40E9-95B8-DF28BAC61D9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320" y="76320"/>
            <a:ext cx="7758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6E4CEE-5395-4CA5-B717-58C32DEE21B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320" y="76320"/>
            <a:ext cx="7758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6A6B18-435C-4DEA-AC35-398ED263CE3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76320"/>
            <a:ext cx="7758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2000" y="1766880"/>
            <a:ext cx="3784320" cy="195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36040" y="1766880"/>
            <a:ext cx="3784320" cy="40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62000" y="3908160"/>
            <a:ext cx="3784320" cy="195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4BC490-CA28-4EE7-B1E8-08B1941403A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320" y="76320"/>
            <a:ext cx="7758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62000" y="1766880"/>
            <a:ext cx="775512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DC3E0-EC9C-4D1B-9BED-350223A97B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320" y="76320"/>
            <a:ext cx="7758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2000" y="1766880"/>
            <a:ext cx="3784320" cy="40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36040" y="1766880"/>
            <a:ext cx="3784320" cy="195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36040" y="3908160"/>
            <a:ext cx="3784320" cy="195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2170BD-6C8F-4EF7-A58A-F655F240DFE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320" y="76320"/>
            <a:ext cx="7758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2000" y="1766880"/>
            <a:ext cx="3784320" cy="195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36040" y="1766880"/>
            <a:ext cx="3784320" cy="195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2000" y="3908160"/>
            <a:ext cx="7755120" cy="195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BC5151-B73F-44E6-94ED-465BB70CE5A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76320"/>
            <a:ext cx="7758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2000" y="1766880"/>
            <a:ext cx="7755120" cy="195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62000" y="3908160"/>
            <a:ext cx="7755120" cy="195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18003C-21E7-4E3B-BEEB-5684BAED6A4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76320"/>
            <a:ext cx="7758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2000" y="1766880"/>
            <a:ext cx="3784320" cy="195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36040" y="1766880"/>
            <a:ext cx="3784320" cy="195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2000" y="3908160"/>
            <a:ext cx="3784320" cy="195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36040" y="3908160"/>
            <a:ext cx="3784320" cy="195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3EE3DB-79E5-47E3-B6B8-2DACD7864A8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76320"/>
            <a:ext cx="7758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2000" y="1766880"/>
            <a:ext cx="2496960" cy="195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84240" y="1766880"/>
            <a:ext cx="2496960" cy="195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06480" y="1766880"/>
            <a:ext cx="2496960" cy="195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62000" y="3908160"/>
            <a:ext cx="2496960" cy="195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84240" y="3908160"/>
            <a:ext cx="2496960" cy="195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06480" y="3908160"/>
            <a:ext cx="2496960" cy="195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0BBC64-66A7-422C-947D-0B1F513A96A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76320"/>
            <a:ext cx="7758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2000" y="1766880"/>
            <a:ext cx="7755120" cy="40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FCBC5-BCC7-4AD3-8A69-5D1DE6412D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76320"/>
            <a:ext cx="7758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2000" y="1766880"/>
            <a:ext cx="3784320" cy="40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36040" y="1766880"/>
            <a:ext cx="3784320" cy="40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B2FD7-C8F4-4D13-AF73-12360449C2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320" y="76320"/>
            <a:ext cx="7758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D0489-B1A2-421C-972B-FB45666F90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320" y="76320"/>
            <a:ext cx="7758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B0420-BEA2-4A64-BFCF-237FDD1BE9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76320"/>
            <a:ext cx="7758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2000" y="1766880"/>
            <a:ext cx="3784320" cy="195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36040" y="1766880"/>
            <a:ext cx="3784320" cy="40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62000" y="3908160"/>
            <a:ext cx="3784320" cy="195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72FCB-2CA0-4643-A4FD-ACED7180A5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76320"/>
            <a:ext cx="7758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2000" y="1766880"/>
            <a:ext cx="3784320" cy="40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36040" y="1766880"/>
            <a:ext cx="3784320" cy="195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36040" y="3908160"/>
            <a:ext cx="3784320" cy="195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E511B-9314-44E4-B0FE-153F6963C4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320" y="76320"/>
            <a:ext cx="7758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2000" y="1766880"/>
            <a:ext cx="3784320" cy="195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36040" y="1766880"/>
            <a:ext cx="3784320" cy="195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62000" y="3908160"/>
            <a:ext cx="7755120" cy="195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26AF3-D568-431F-B642-7A20E442F4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3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320" y="76320"/>
            <a:ext cx="7758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838080" y="6397560"/>
            <a:ext cx="19051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429000" y="6397560"/>
            <a:ext cx="2895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7010280" y="6384960"/>
            <a:ext cx="189072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6E0B528-D9E5-426C-866A-306C88EF3288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6" descr=""/>
          <p:cNvPicPr/>
          <p:nvPr/>
        </p:nvPicPr>
        <p:blipFill>
          <a:blip r:embed="rId4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1062000" y="1766880"/>
            <a:ext cx="7755120" cy="40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1"/>
          <p:cNvGrpSpPr/>
          <p:nvPr/>
        </p:nvGrpSpPr>
        <p:grpSpPr>
          <a:xfrm>
            <a:off x="0" y="0"/>
            <a:ext cx="6348240" cy="6843600"/>
            <a:chOff x="0" y="0"/>
            <a:chExt cx="6348240" cy="6843600"/>
          </a:xfrm>
        </p:grpSpPr>
        <p:pic>
          <p:nvPicPr>
            <p:cNvPr id="44" name="Picture 2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71400" cy="6843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Picture 3" descr="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42920" cy="81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6" name="Picture 4" descr=""/>
          <p:cNvPicPr/>
          <p:nvPr/>
        </p:nvPicPr>
        <p:blipFill>
          <a:blip r:embed="rId5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76320"/>
            <a:ext cx="7758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062000" y="1766880"/>
            <a:ext cx="7755120" cy="40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Text Box 8"/>
          <p:cNvSpPr/>
          <p:nvPr/>
        </p:nvSpPr>
        <p:spPr>
          <a:xfrm>
            <a:off x="350532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Num" idx="2"/>
          </p:nvPr>
        </p:nvSpPr>
        <p:spPr>
          <a:xfrm>
            <a:off x="7010280" y="6400800"/>
            <a:ext cx="1890720" cy="4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482400"/>
                </a:solidFill>
                <a:latin typeface="Arial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0CE175F-7B0D-48B2-B781-A4651CC76AC4}" type="slidenum">
              <a:rPr b="0" lang="ru-RU" sz="1400" spc="-1" strike="noStrike">
                <a:solidFill>
                  <a:srgbClr val="482400"/>
                </a:solidFill>
                <a:latin typeface="Arial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chart" Target="../charts/chart1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1" descr=""/>
          <p:cNvPicPr/>
          <p:nvPr/>
        </p:nvPicPr>
        <p:blipFill>
          <a:blip r:embed="rId2"/>
          <a:stretch/>
        </p:blipFill>
        <p:spPr>
          <a:xfrm>
            <a:off x="2916360" y="5084640"/>
            <a:ext cx="4033800" cy="4572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2"/>
          <p:cNvSpPr/>
          <p:nvPr/>
        </p:nvSpPr>
        <p:spPr>
          <a:xfrm>
            <a:off x="1763640" y="620640"/>
            <a:ext cx="6951600" cy="31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993300"/>
                </a:solidFill>
                <a:latin typeface="Times New Roman"/>
              </a:rPr>
              <a:t>Использование технологии критического мышления в начальной школе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1"/>
          <p:cNvSpPr/>
          <p:nvPr/>
        </p:nvSpPr>
        <p:spPr>
          <a:xfrm>
            <a:off x="2073240" y="620640"/>
            <a:ext cx="5405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Times New Roman"/>
              </a:rPr>
              <a:t>Приём «Кластера»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AutoShape 2"/>
          <p:cNvSpPr/>
          <p:nvPr/>
        </p:nvSpPr>
        <p:spPr>
          <a:xfrm>
            <a:off x="3500280" y="1643040"/>
            <a:ext cx="2735280" cy="1484280"/>
          </a:xfrm>
          <a:prstGeom prst="smileyFace">
            <a:avLst>
              <a:gd name="adj" fmla="val 9282"/>
            </a:avLst>
          </a:prstGeom>
          <a:solidFill>
            <a:srgbClr val="00b8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ru-RU" sz="6600" spc="-1" strike="noStrike">
                <a:solidFill>
                  <a:srgbClr val="ff0000"/>
                </a:solidFill>
                <a:latin typeface="Times New Roman"/>
              </a:rPr>
              <a:t>Ь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Oval 3"/>
          <p:cNvSpPr/>
          <p:nvPr/>
        </p:nvSpPr>
        <p:spPr>
          <a:xfrm>
            <a:off x="642960" y="3000240"/>
            <a:ext cx="3143160" cy="1335240"/>
          </a:xfrm>
          <a:prstGeom prst="ellipse">
            <a:avLst/>
          </a:prstGeom>
          <a:solidFill>
            <a:srgbClr val="00b8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</a:rPr>
              <a:t>Разделитель-ны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Oval 4"/>
          <p:cNvSpPr/>
          <p:nvPr/>
        </p:nvSpPr>
        <p:spPr>
          <a:xfrm>
            <a:off x="3214800" y="3786120"/>
            <a:ext cx="3357360" cy="1440000"/>
          </a:xfrm>
          <a:prstGeom prst="ellipse">
            <a:avLst/>
          </a:prstGeom>
          <a:solidFill>
            <a:srgbClr val="00b8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</a:rPr>
              <a:t>Показатель грамматической рол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Oval 5"/>
          <p:cNvSpPr/>
          <p:nvPr/>
        </p:nvSpPr>
        <p:spPr>
          <a:xfrm>
            <a:off x="6357960" y="3000240"/>
            <a:ext cx="2786040" cy="1500480"/>
          </a:xfrm>
          <a:prstGeom prst="ellipse">
            <a:avLst/>
          </a:prstGeom>
          <a:solidFill>
            <a:srgbClr val="00b8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</a:rPr>
              <a:t>Показатель мягкост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32" name="AutoShape 6"/>
          <p:cNvCxnSpPr/>
          <p:nvPr/>
        </p:nvCxnSpPr>
        <p:spPr>
          <a:xfrm flipH="1">
            <a:off x="3214080" y="3142800"/>
            <a:ext cx="648360" cy="578520"/>
          </a:xfrm>
          <a:prstGeom prst="straightConnector1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3" name="AutoShape 7"/>
          <p:cNvCxnSpPr/>
          <p:nvPr/>
        </p:nvCxnSpPr>
        <p:spPr>
          <a:xfrm>
            <a:off x="5904000" y="3024000"/>
            <a:ext cx="689760" cy="541800"/>
          </a:xfrm>
          <a:prstGeom prst="straightConnector1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4" name="AutoShape 8"/>
          <p:cNvCxnSpPr/>
          <p:nvPr/>
        </p:nvCxnSpPr>
        <p:spPr>
          <a:xfrm flipH="1">
            <a:off x="4142880" y="3215880"/>
            <a:ext cx="573840" cy="3960"/>
          </a:xfrm>
          <a:prstGeom prst="straightConnector1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5" name="Rectangle 9"/>
          <p:cNvSpPr/>
          <p:nvPr/>
        </p:nvSpPr>
        <p:spPr>
          <a:xfrm>
            <a:off x="6786720" y="5214960"/>
            <a:ext cx="207144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</a:rPr>
              <a:t>мат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</a:rPr>
              <a:t>служит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Rectangle 10"/>
          <p:cNvSpPr/>
          <p:nvPr/>
        </p:nvSpPr>
        <p:spPr>
          <a:xfrm>
            <a:off x="4000680" y="5357880"/>
            <a:ext cx="207144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</a:rPr>
              <a:t>посееш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</a:rPr>
              <a:t>пожнеш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Rectangle 11"/>
          <p:cNvSpPr/>
          <p:nvPr/>
        </p:nvSpPr>
        <p:spPr>
          <a:xfrm>
            <a:off x="938160" y="5081760"/>
            <a:ext cx="207180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</a:rPr>
              <a:t>учень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</a:rPr>
              <a:t>повторень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1" descr=""/>
          <p:cNvPicPr/>
          <p:nvPr/>
        </p:nvPicPr>
        <p:blipFill>
          <a:blip r:embed="rId2"/>
          <a:stretch/>
        </p:blipFill>
        <p:spPr>
          <a:xfrm>
            <a:off x="6391440" y="4149720"/>
            <a:ext cx="2752560" cy="270828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2"/>
          <p:cNvSpPr/>
          <p:nvPr/>
        </p:nvSpPr>
        <p:spPr>
          <a:xfrm>
            <a:off x="845640" y="2016000"/>
            <a:ext cx="739224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Trebuchet MS"/>
              </a:rPr>
              <a:t>РЕЧЬ</a:t>
            </a:r>
            <a:r>
              <a:rPr b="1" lang="ru-RU" sz="8000" spc="-1" strike="noStrike">
                <a:solidFill>
                  <a:srgbClr val="3accff"/>
                </a:solidFill>
                <a:latin typeface="Trebuchet MS"/>
              </a:rPr>
              <a:t>        </a:t>
            </a:r>
            <a:r>
              <a:rPr b="1" lang="ru-RU" sz="8000" spc="-1" strike="noStrike">
                <a:solidFill>
                  <a:srgbClr val="ff0000"/>
                </a:solidFill>
                <a:latin typeface="Trebuchet MS"/>
              </a:rPr>
              <a:t>РЕЧ*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9600" spc="-1" strike="noStrike">
                <a:solidFill>
                  <a:srgbClr val="ff0000"/>
                </a:solidFill>
                <a:latin typeface="Trebuchet MS"/>
              </a:rPr>
              <a:t>?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0" name="Object 3"/>
          <p:cNvGraphicFramePr/>
          <p:nvPr/>
        </p:nvGraphicFramePr>
        <p:xfrm>
          <a:off x="-6392880" y="2300400"/>
          <a:ext cx="3835440" cy="323532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3"/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1"/>
          <p:cNvSpPr/>
          <p:nvPr/>
        </p:nvSpPr>
        <p:spPr>
          <a:xfrm>
            <a:off x="1066680" y="3794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482400"/>
                </a:solidFill>
                <a:latin typeface="Times New Roman"/>
              </a:rPr>
              <a:t>Задачи фазы реализации смысла –</a:t>
            </a:r>
            <a:br>
              <a:rPr sz="4000"/>
            </a:br>
            <a:r>
              <a:rPr b="0" lang="ru-RU" sz="2400" spc="-1" strike="noStrike">
                <a:solidFill>
                  <a:srgbClr val="482400"/>
                </a:solidFill>
                <a:latin typeface="Times New Roman"/>
              </a:rPr>
              <a:t>(осмысление материала во время работы над ним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Text Box 2"/>
          <p:cNvSpPr/>
          <p:nvPr/>
        </p:nvSpPr>
        <p:spPr>
          <a:xfrm>
            <a:off x="90000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8680" indent="-3286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мочь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ктивно воспринимать изучаемый материа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8680" indent="-3286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моч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соотнести старые знания с новым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1"/>
          <p:cNvSpPr/>
          <p:nvPr/>
        </p:nvSpPr>
        <p:spPr>
          <a:xfrm>
            <a:off x="1643040" y="357120"/>
            <a:ext cx="66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990000"/>
                </a:solidFill>
                <a:latin typeface="Times New Roman"/>
              </a:rPr>
              <a:t>Используемые приемы на стадии «осмысления»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Text Box 2"/>
          <p:cNvSpPr/>
          <p:nvPr/>
        </p:nvSpPr>
        <p:spPr>
          <a:xfrm>
            <a:off x="1428840" y="2735280"/>
            <a:ext cx="6296400" cy="33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ru-RU" sz="2600" spc="-1" strike="noStrike">
                <a:solidFill>
                  <a:srgbClr val="990000"/>
                </a:solidFill>
                <a:latin typeface="Times New Roman"/>
              </a:rPr>
              <a:t>«Инсерт»,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ru-RU" sz="2600" spc="-1" strike="noStrike">
                <a:solidFill>
                  <a:srgbClr val="990000"/>
                </a:solidFill>
                <a:latin typeface="Times New Roman"/>
              </a:rPr>
              <a:t>Таблица «Знаю – Хочу узнать - Узнал»,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ru-RU" sz="2600" spc="-1" strike="noStrike">
                <a:solidFill>
                  <a:srgbClr val="990000"/>
                </a:solidFill>
                <a:latin typeface="Times New Roman"/>
              </a:rPr>
              <a:t>«Перепутанные логические цепочки»,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ru-RU" sz="2600" spc="-1" strike="noStrike">
                <a:solidFill>
                  <a:srgbClr val="990000"/>
                </a:solidFill>
                <a:latin typeface="Times New Roman"/>
              </a:rPr>
              <a:t>«Бортовой журнал»,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ru-RU" sz="2600" spc="-1" strike="noStrike">
                <a:solidFill>
                  <a:srgbClr val="990000"/>
                </a:solidFill>
                <a:latin typeface="Times New Roman"/>
              </a:rPr>
              <a:t>«Дерево предсказаний»,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ru-RU" sz="2600" spc="-1" strike="noStrike">
                <a:solidFill>
                  <a:srgbClr val="990000"/>
                </a:solidFill>
                <a:latin typeface="Times New Roman"/>
              </a:rPr>
              <a:t>«Флешбоун»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ru-RU" sz="2600" spc="-1" strike="noStrike">
                <a:solidFill>
                  <a:srgbClr val="990000"/>
                </a:solidFill>
                <a:latin typeface="Times New Roman"/>
              </a:rPr>
              <a:t>«Отсюда – сюда»</a:t>
            </a:r>
            <a:r>
              <a:rPr b="0" lang="ru-RU" sz="2400" spc="-1" strike="noStrike">
                <a:solidFill>
                  <a:srgbClr val="99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1"/>
          <p:cNvSpPr/>
          <p:nvPr/>
        </p:nvSpPr>
        <p:spPr>
          <a:xfrm>
            <a:off x="1066680" y="81000"/>
            <a:ext cx="776628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482400"/>
                </a:solidFill>
                <a:latin typeface="Times New Roman"/>
              </a:rPr>
              <a:t>Математика     4 класс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Text Box 2"/>
          <p:cNvSpPr/>
          <p:nvPr/>
        </p:nvSpPr>
        <p:spPr>
          <a:xfrm>
            <a:off x="1062000" y="1766880"/>
            <a:ext cx="7763040" cy="41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516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516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ема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516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Составление комбинированного теста по теме «Деление многозначного числа на однозначное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516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(мини проект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516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Фаза осмыслен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1"/>
          <p:cNvSpPr/>
          <p:nvPr/>
        </p:nvSpPr>
        <p:spPr>
          <a:xfrm>
            <a:off x="1066680" y="212760"/>
            <a:ext cx="777240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482400"/>
                </a:solidFill>
                <a:latin typeface="Times New Roman"/>
              </a:rPr>
              <a:t>Стратегия</a:t>
            </a:r>
            <a:br>
              <a:rPr sz="4000"/>
            </a:br>
            <a:r>
              <a:rPr b="0" lang="ru-RU" sz="4000" spc="-1" strike="noStrike">
                <a:solidFill>
                  <a:srgbClr val="482400"/>
                </a:solidFill>
                <a:latin typeface="Times New Roman"/>
              </a:rPr>
              <a:t> «Отсюда – сюда»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Oval 2"/>
          <p:cNvSpPr/>
          <p:nvPr/>
        </p:nvSpPr>
        <p:spPr>
          <a:xfrm>
            <a:off x="1403280" y="1773360"/>
            <a:ext cx="2879640" cy="792000"/>
          </a:xfrm>
          <a:prstGeom prst="ellipse">
            <a:avLst/>
          </a:prstGeom>
          <a:solidFill>
            <a:srgbClr val="dfd6c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Группа получает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бщее задание по теме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Oval 3"/>
          <p:cNvSpPr/>
          <p:nvPr/>
        </p:nvSpPr>
        <p:spPr>
          <a:xfrm>
            <a:off x="5292720" y="1989000"/>
            <a:ext cx="3166920" cy="1079640"/>
          </a:xfrm>
          <a:prstGeom prst="ellipse">
            <a:avLst/>
          </a:prstGeom>
          <a:solidFill>
            <a:srgbClr val="dfd6c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аждый член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группы получает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«свой» объект исследования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1332000" y="2781360"/>
            <a:ext cx="2879640" cy="865080"/>
          </a:xfrm>
          <a:prstGeom prst="ellipse">
            <a:avLst/>
          </a:prstGeom>
          <a:solidFill>
            <a:srgbClr val="dfd6c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бор информации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б объекте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Oval 5"/>
          <p:cNvSpPr/>
          <p:nvPr/>
        </p:nvSpPr>
        <p:spPr>
          <a:xfrm>
            <a:off x="5364000" y="3357720"/>
            <a:ext cx="3024360" cy="934920"/>
          </a:xfrm>
          <a:prstGeom prst="ellipse">
            <a:avLst/>
          </a:prstGeom>
          <a:solidFill>
            <a:srgbClr val="dfd6c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бмен информацией в группе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Oval 6"/>
          <p:cNvSpPr/>
          <p:nvPr/>
        </p:nvSpPr>
        <p:spPr>
          <a:xfrm>
            <a:off x="1403280" y="3789360"/>
            <a:ext cx="2808360" cy="1008000"/>
          </a:xfrm>
          <a:prstGeom prst="ellipse">
            <a:avLst/>
          </a:prstGeom>
          <a:solidFill>
            <a:srgbClr val="dfd6c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ыделение общего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для составления теста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Oval 7"/>
          <p:cNvSpPr/>
          <p:nvPr/>
        </p:nvSpPr>
        <p:spPr>
          <a:xfrm>
            <a:off x="5292720" y="4653000"/>
            <a:ext cx="3166920" cy="863640"/>
          </a:xfrm>
          <a:prstGeom prst="ellipse">
            <a:avLst/>
          </a:prstGeom>
          <a:solidFill>
            <a:srgbClr val="dfd6c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оставление теста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Oval 8"/>
          <p:cNvSpPr/>
          <p:nvPr/>
        </p:nvSpPr>
        <p:spPr>
          <a:xfrm>
            <a:off x="1476360" y="5013360"/>
            <a:ext cx="2664000" cy="1008000"/>
          </a:xfrm>
          <a:prstGeom prst="ellipse">
            <a:avLst/>
          </a:prstGeom>
          <a:solidFill>
            <a:srgbClr val="dfd6c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Написание совместного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исследования по теме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Oval 9"/>
          <p:cNvSpPr/>
          <p:nvPr/>
        </p:nvSpPr>
        <p:spPr>
          <a:xfrm>
            <a:off x="5076720" y="5734080"/>
            <a:ext cx="3456000" cy="836640"/>
          </a:xfrm>
          <a:prstGeom prst="ellipse">
            <a:avLst/>
          </a:prstGeom>
          <a:solidFill>
            <a:srgbClr val="dfd6c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резентация исследования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Line 10"/>
          <p:cNvSpPr/>
          <p:nvPr/>
        </p:nvSpPr>
        <p:spPr>
          <a:xfrm>
            <a:off x="4284720" y="2205000"/>
            <a:ext cx="1008000" cy="28728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Line 11"/>
          <p:cNvSpPr/>
          <p:nvPr/>
        </p:nvSpPr>
        <p:spPr>
          <a:xfrm flipH="1">
            <a:off x="4196880" y="2708280"/>
            <a:ext cx="1181160" cy="50472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Line 12"/>
          <p:cNvSpPr/>
          <p:nvPr/>
        </p:nvSpPr>
        <p:spPr>
          <a:xfrm>
            <a:off x="4211640" y="3284640"/>
            <a:ext cx="1152360" cy="50472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Line 13"/>
          <p:cNvSpPr/>
          <p:nvPr/>
        </p:nvSpPr>
        <p:spPr>
          <a:xfrm flipH="1">
            <a:off x="4125600" y="3933720"/>
            <a:ext cx="1252440" cy="35892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Line 14"/>
          <p:cNvSpPr/>
          <p:nvPr/>
        </p:nvSpPr>
        <p:spPr>
          <a:xfrm>
            <a:off x="4140360" y="4437000"/>
            <a:ext cx="1223640" cy="50472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Line 15"/>
          <p:cNvSpPr/>
          <p:nvPr/>
        </p:nvSpPr>
        <p:spPr>
          <a:xfrm flipH="1">
            <a:off x="4125600" y="5157720"/>
            <a:ext cx="1181160" cy="35892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Line 16"/>
          <p:cNvSpPr/>
          <p:nvPr/>
        </p:nvSpPr>
        <p:spPr>
          <a:xfrm>
            <a:off x="4140360" y="5589720"/>
            <a:ext cx="936360" cy="50328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Text Box 17"/>
          <p:cNvSpPr/>
          <p:nvPr/>
        </p:nvSpPr>
        <p:spPr>
          <a:xfrm>
            <a:off x="1619280" y="191628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Text Box 18"/>
          <p:cNvSpPr/>
          <p:nvPr/>
        </p:nvSpPr>
        <p:spPr>
          <a:xfrm>
            <a:off x="1547640" y="2997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Text Box 19"/>
          <p:cNvSpPr/>
          <p:nvPr/>
        </p:nvSpPr>
        <p:spPr>
          <a:xfrm>
            <a:off x="5364000" y="3645000"/>
            <a:ext cx="36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Text Box 20"/>
          <p:cNvSpPr/>
          <p:nvPr/>
        </p:nvSpPr>
        <p:spPr>
          <a:xfrm>
            <a:off x="1619280" y="4076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Text Box 21"/>
          <p:cNvSpPr/>
          <p:nvPr/>
        </p:nvSpPr>
        <p:spPr>
          <a:xfrm>
            <a:off x="5508720" y="4869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Text Box 22"/>
          <p:cNvSpPr/>
          <p:nvPr/>
        </p:nvSpPr>
        <p:spPr>
          <a:xfrm>
            <a:off x="5364000" y="2276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Text Box 23"/>
          <p:cNvSpPr/>
          <p:nvPr/>
        </p:nvSpPr>
        <p:spPr>
          <a:xfrm>
            <a:off x="1547640" y="5300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Text Box 24"/>
          <p:cNvSpPr/>
          <p:nvPr/>
        </p:nvSpPr>
        <p:spPr>
          <a:xfrm>
            <a:off x="5292720" y="595008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click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click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click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click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click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click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click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click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click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click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click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click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click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click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click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click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click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click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1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click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1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click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click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1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click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1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1"/>
          <p:cNvSpPr/>
          <p:nvPr/>
        </p:nvSpPr>
        <p:spPr>
          <a:xfrm>
            <a:off x="1066680" y="3794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482400"/>
                </a:solidFill>
                <a:latin typeface="Times New Roman"/>
              </a:rPr>
              <a:t>Задачи фазы рефлексии –</a:t>
            </a:r>
            <a:br>
              <a:rPr sz="4000"/>
            </a:br>
            <a:r>
              <a:rPr b="0" lang="ru-RU" sz="2400" spc="-1" strike="noStrike">
                <a:solidFill>
                  <a:srgbClr val="482400"/>
                </a:solidFill>
                <a:latin typeface="Times New Roman"/>
              </a:rPr>
              <a:t>(обобщение материала, подведение итогов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Text Box 2"/>
          <p:cNvSpPr/>
          <p:nvPr/>
        </p:nvSpPr>
        <p:spPr>
          <a:xfrm>
            <a:off x="106200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8680" indent="-3286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мочь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чащимся самостоятельно обобщить изучаемый материал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8680" indent="-3286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мочь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самостоятельно определить направления в дальнейшем изучении материал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1"/>
          <p:cNvSpPr/>
          <p:nvPr/>
        </p:nvSpPr>
        <p:spPr>
          <a:xfrm>
            <a:off x="1643040" y="357120"/>
            <a:ext cx="66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990000"/>
                </a:solidFill>
                <a:latin typeface="Times New Roman"/>
              </a:rPr>
              <a:t>Используемые приемы на стадии «рефлексии»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Text Box 2"/>
          <p:cNvSpPr/>
          <p:nvPr/>
        </p:nvSpPr>
        <p:spPr>
          <a:xfrm>
            <a:off x="1800000" y="2664000"/>
            <a:ext cx="3239280" cy="20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990000"/>
                </a:solidFill>
                <a:latin typeface="Times New Roman"/>
              </a:rPr>
              <a:t>«Синквейн»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990000"/>
                </a:solidFill>
                <a:latin typeface="Times New Roman"/>
              </a:rPr>
              <a:t>«Ромашка Блума»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990000"/>
                </a:solidFill>
                <a:latin typeface="Times New Roman"/>
              </a:rPr>
              <a:t>«Шесть шляп»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990000"/>
                </a:solidFill>
                <a:latin typeface="Times New Roman"/>
              </a:rPr>
              <a:t>«Корзина знаний»</a:t>
            </a:r>
            <a:r>
              <a:rPr b="0" lang="ru-RU" sz="2400" spc="-1" strike="noStrike">
                <a:solidFill>
                  <a:srgbClr val="99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1"/>
          <p:cNvSpPr/>
          <p:nvPr/>
        </p:nvSpPr>
        <p:spPr>
          <a:xfrm>
            <a:off x="2833560" y="1851120"/>
            <a:ext cx="3251160" cy="40528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Rectangle 2"/>
          <p:cNvSpPr/>
          <p:nvPr/>
        </p:nvSpPr>
        <p:spPr>
          <a:xfrm>
            <a:off x="3564000" y="125280"/>
            <a:ext cx="1871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шение составных задач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503280" y="936720"/>
            <a:ext cx="26114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нятия: Цена, Количество, Стоимость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Rectangle 4"/>
          <p:cNvSpPr/>
          <p:nvPr/>
        </p:nvSpPr>
        <p:spPr>
          <a:xfrm>
            <a:off x="6330960" y="3184560"/>
            <a:ext cx="24890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мение вести диалог по теме «Покупки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6084720" y="861840"/>
            <a:ext cx="2789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енежные единицы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рубль, копейка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Rectangle 6"/>
          <p:cNvSpPr/>
          <p:nvPr/>
        </p:nvSpPr>
        <p:spPr>
          <a:xfrm>
            <a:off x="720720" y="2997360"/>
            <a:ext cx="1851120" cy="15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вторение лексики по тем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Магазин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Rectangle 7"/>
          <p:cNvSpPr/>
          <p:nvPr/>
        </p:nvSpPr>
        <p:spPr>
          <a:xfrm>
            <a:off x="684360" y="3789360"/>
            <a:ext cx="18716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Rectangle 8"/>
          <p:cNvSpPr/>
          <p:nvPr/>
        </p:nvSpPr>
        <p:spPr>
          <a:xfrm>
            <a:off x="6121440" y="5589720"/>
            <a:ext cx="23032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шение простых задач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Rectangle 9"/>
          <p:cNvSpPr/>
          <p:nvPr/>
        </p:nvSpPr>
        <p:spPr>
          <a:xfrm>
            <a:off x="576360" y="5589720"/>
            <a:ext cx="2808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Что мы можем купить на почте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4" name="Picture 10" descr=""/>
          <p:cNvPicPr/>
          <p:nvPr/>
        </p:nvPicPr>
        <p:blipFill>
          <a:blip r:embed="rId3"/>
          <a:stretch/>
        </p:blipFill>
        <p:spPr>
          <a:xfrm>
            <a:off x="2835360" y="1852560"/>
            <a:ext cx="3303360" cy="1231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6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3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3000"/>
                            </p:stCondLst>
                            <p:childTnLst>
                              <p:par>
                                <p:cTn id="176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3500"/>
                            </p:stCondLst>
                            <p:childTnLst>
                              <p:par>
                                <p:cTn id="180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81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1"/>
          <p:cNvSpPr/>
          <p:nvPr/>
        </p:nvSpPr>
        <p:spPr>
          <a:xfrm>
            <a:off x="711360" y="0"/>
            <a:ext cx="7765560" cy="16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Times New Roman"/>
              </a:rPr>
              <a:t>Приём «верные и не верные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Times New Roman"/>
              </a:rPr>
              <a:t>утверждения»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Text Box 2"/>
          <p:cNvSpPr/>
          <p:nvPr/>
        </p:nvSpPr>
        <p:spPr>
          <a:xfrm>
            <a:off x="649440" y="1844640"/>
            <a:ext cx="8475840" cy="53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ма «Местоимение». 3 класс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.   Здесь написаны  только  местоимения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на,   к нему, один, я, они, со мной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   В предложении  местоимения бывают только подлежащим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.   В предложении местоимения бывают второстепенны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леном или подлежащим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.   Местоимения могут быть 1, 2 или 3 лица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5.   Местоимения изменяются по падежам и числам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6.   В предложении « Долго у моря ждал он ответа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 дождался, к старухе вернулся» местоимение является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торостепенным членом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1"/>
          <p:cNvSpPr/>
          <p:nvPr/>
        </p:nvSpPr>
        <p:spPr>
          <a:xfrm>
            <a:off x="1066680" y="3794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482400"/>
                </a:solidFill>
                <a:latin typeface="Times New Roman"/>
              </a:rPr>
              <a:t>Предполагаемые результаты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482400"/>
                </a:solidFill>
                <a:latin typeface="Times New Roman"/>
              </a:rPr>
              <a:t>применения ТКМ</a:t>
            </a:r>
            <a:r>
              <a:rPr b="0" lang="ru-RU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Text Box 2"/>
          <p:cNvSpPr/>
          <p:nvPr/>
        </p:nvSpPr>
        <p:spPr>
          <a:xfrm>
            <a:off x="106200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4800" indent="-3283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звитие творческих способностей;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мения критически мыслить и принимать взвешенные решения;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формированность навыков самостоятельной и групповой работ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2832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нтерактивное включение учащихся в учебно-воспитательный процесс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1"/>
          <p:cNvSpPr/>
          <p:nvPr/>
        </p:nvSpPr>
        <p:spPr>
          <a:xfrm>
            <a:off x="1155600" y="272880"/>
            <a:ext cx="77724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482400"/>
                </a:solidFill>
                <a:latin typeface="Times New Roman"/>
              </a:rPr>
              <a:t>Инсерт</a:t>
            </a:r>
            <a:br>
              <a:rPr sz="4000"/>
            </a:br>
            <a:r>
              <a:rPr b="0" lang="ru-RU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482400"/>
                </a:solidFill>
                <a:latin typeface="Times New Roman"/>
              </a:rPr>
              <a:t>(условные значки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900000" y="1989000"/>
          <a:ext cx="7999560" cy="4772160"/>
        </p:xfrm>
        <a:graphic>
          <a:graphicData uri="http://schemas.openxmlformats.org/drawingml/2006/table">
            <a:tbl>
              <a:tblPr/>
              <a:tblGrid>
                <a:gridCol w="1587600"/>
                <a:gridCol w="2155680"/>
                <a:gridCol w="2179800"/>
                <a:gridCol w="2076480"/>
              </a:tblGrid>
              <a:tr h="1972800">
                <a:tc>
                  <a:txBody>
                    <a:bodyPr lIns="90000" rIns="90000" tIns="730080" bIns="46800" anchor="t">
                      <a:noAutofit/>
                    </a:bodyPr>
                    <a:p>
                      <a:pPr algn="ctr">
                        <a:lnSpc>
                          <a:spcPct val="64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64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осознать новые знания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25920" bIns="46800" anchor="t">
                      <a:noAutofit/>
                    </a:bodyPr>
                    <a:p>
                      <a:pPr algn="ctr">
                        <a:lnSpc>
                          <a:spcPct val="64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64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исправить неверные предположения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25920" bIns="46800" anchor="t">
                      <a:noAutofit/>
                    </a:bodyPr>
                    <a:p>
                      <a:pPr algn="ctr">
                        <a:lnSpc>
                          <a:spcPct val="64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64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исправить неверные предположе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30080" bIns="46800" anchor="t">
                      <a:noAutofit/>
                    </a:bodyPr>
                    <a:p>
                      <a:pPr algn="ctr">
                        <a:lnSpc>
                          <a:spcPct val="64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64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побудить дальнейший интерес к теме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15320">
                <a:tc>
                  <a:txBody>
                    <a:bodyPr lIns="90000" rIns="90000" tIns="632160" bIns="46800" anchor="t">
                      <a:noAutofit/>
                    </a:bodyPr>
                    <a:p>
                      <a:pPr algn="ctr">
                        <a:lnSpc>
                          <a:spcPct val="64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Я это зна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32160" bIns="46800" anchor="t">
                      <a:noAutofit/>
                    </a:bodyPr>
                    <a:p>
                      <a:pPr algn="ctr">
                        <a:lnSpc>
                          <a:spcPct val="64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то для меня абсолютно ново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32160" bIns="46800" anchor="t">
                      <a:noAutofit/>
                    </a:bodyPr>
                    <a:p>
                      <a:pPr algn="ctr">
                        <a:lnSpc>
                          <a:spcPct val="64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то противоречит тому, что я зна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32160" bIns="46800" anchor="t">
                      <a:noAutofit/>
                    </a:bodyPr>
                    <a:p>
                      <a:pPr algn="ctr">
                        <a:lnSpc>
                          <a:spcPct val="64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Я хочу знать об этом больш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03840">
                <a:tc>
                  <a:txBody>
                    <a:bodyPr lIns="90000" rIns="90000" tIns="730080" bIns="46800" anchor="t">
                      <a:noAutofit/>
                    </a:bodyPr>
                    <a:p>
                      <a:pPr>
                        <a:lnSpc>
                          <a:spcPct val="64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30080" bIns="46800" anchor="t">
                      <a:noAutofit/>
                    </a:bodyPr>
                    <a:p>
                      <a:pPr>
                        <a:lnSpc>
                          <a:spcPct val="64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30080" bIns="46800" anchor="t">
                      <a:noAutofit/>
                    </a:bodyPr>
                    <a:p>
                      <a:pPr>
                        <a:lnSpc>
                          <a:spcPct val="64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30080" bIns="46800" anchor="t">
                      <a:noAutofit/>
                    </a:bodyPr>
                    <a:p>
                      <a:pPr>
                        <a:lnSpc>
                          <a:spcPct val="64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1"/>
          <p:cNvSpPr/>
          <p:nvPr/>
        </p:nvSpPr>
        <p:spPr>
          <a:xfrm>
            <a:off x="1066680" y="334800"/>
            <a:ext cx="77724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482400"/>
                </a:solidFill>
                <a:latin typeface="Times New Roman"/>
              </a:rPr>
              <a:t>Таблица </a:t>
            </a:r>
            <a:br>
              <a:rPr sz="3600"/>
            </a:br>
            <a:r>
              <a:rPr b="0" lang="ru-RU" sz="3600" spc="-1" strike="noStrike">
                <a:solidFill>
                  <a:srgbClr val="482400"/>
                </a:solidFill>
                <a:latin typeface="Times New Roman"/>
              </a:rPr>
              <a:t>«Знаю – Хочу знать – Узнал» (ЗХУ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1258920" y="2133720"/>
          <a:ext cx="7332480" cy="1380960"/>
        </p:xfrm>
        <a:graphic>
          <a:graphicData uri="http://schemas.openxmlformats.org/drawingml/2006/table">
            <a:tbl>
              <a:tblPr/>
              <a:tblGrid>
                <a:gridCol w="2127240"/>
                <a:gridCol w="2478240"/>
                <a:gridCol w="2727000"/>
              </a:tblGrid>
              <a:tr h="1380960">
                <a:tc>
                  <a:txBody>
                    <a:bodyPr lIns="90000" rIns="90000" tIns="632160" bIns="46800" anchor="t">
                      <a:noAutofit/>
                    </a:bodyPr>
                    <a:p>
                      <a:pPr>
                        <a:lnSpc>
                          <a:spcPct val="64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что мы    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64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нае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32160" bIns="46800" anchor="t">
                      <a:noAutofit/>
                    </a:bodyPr>
                    <a:p>
                      <a:pPr>
                        <a:lnSpc>
                          <a:spcPct val="64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что мы       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64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отим узна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32160" bIns="46800" anchor="t">
                      <a:noAutofit/>
                    </a:bodyPr>
                    <a:p>
                      <a:pPr>
                        <a:lnSpc>
                          <a:spcPct val="64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что мы узнали и что нам осталось узна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1" name=""/>
          <p:cNvGraphicFramePr/>
          <p:nvPr/>
        </p:nvGraphicFramePr>
        <p:xfrm>
          <a:off x="1258920" y="3716280"/>
          <a:ext cx="7350120" cy="3009960"/>
        </p:xfrm>
        <a:graphic>
          <a:graphicData uri="http://schemas.openxmlformats.org/drawingml/2006/table">
            <a:tbl>
              <a:tblPr/>
              <a:tblGrid>
                <a:gridCol w="1693800"/>
                <a:gridCol w="1984320"/>
                <a:gridCol w="3672000"/>
              </a:tblGrid>
              <a:tr h="1167120">
                <a:tc gridSpan="2">
                  <a:txBody>
                    <a:bodyPr lIns="90000" rIns="90000" tIns="534600" bIns="46800" anchor="t">
                      <a:noAutofit/>
                    </a:bodyPr>
                    <a:p>
                      <a:pPr>
                        <a:lnSpc>
                          <a:spcPct val="64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тегории информации, которыми мы намерены пользоваться    /Главные слова/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534600" bIns="46800" anchor="t">
                      <a:noAutofit/>
                    </a:bodyPr>
                    <a:p>
                      <a:pPr>
                        <a:lnSpc>
                          <a:spcPct val="64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точники, из которых мы намерены получить информацию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44280">
                <a:tc>
                  <a:txBody>
                    <a:bodyPr lIns="90000" rIns="90000" tIns="632160" bIns="46800" anchor="t">
                      <a:noAutofit/>
                    </a:bodyPr>
                    <a:p>
                      <a:pPr>
                        <a:lnSpc>
                          <a:spcPct val="64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64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64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64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32160" bIns="46800" anchor="t">
                      <a:noAutofit/>
                    </a:bodyPr>
                    <a:p>
                      <a:pPr>
                        <a:lnSpc>
                          <a:spcPct val="64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64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64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Ж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64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32160" bIns="46800" anchor="t">
                      <a:noAutofit/>
                    </a:bodyPr>
                    <a:p>
                      <a:pPr>
                        <a:lnSpc>
                          <a:spcPct val="64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64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64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64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1"/>
          <p:cNvSpPr/>
          <p:nvPr/>
        </p:nvSpPr>
        <p:spPr>
          <a:xfrm>
            <a:off x="1066680" y="212760"/>
            <a:ext cx="777240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482400"/>
                </a:solidFill>
                <a:latin typeface="Times New Roman"/>
              </a:rPr>
              <a:t>Прием «Перепутанные логические цепочки»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Text Box 2"/>
          <p:cNvSpPr/>
          <p:nvPr/>
        </p:nvSpPr>
        <p:spPr>
          <a:xfrm>
            <a:off x="1042920" y="1700280"/>
            <a:ext cx="7769160" cy="488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8680" indent="-3286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олстой родился в усадьбе Ясная поляна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8680" indent="-328680">
              <a:spcBef>
                <a:spcPts val="799"/>
              </a:spcBef>
              <a:tabLst>
                <a:tab algn="l" pos="0"/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ульской губернии 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8680" indent="-3286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олстой участник Великой Отечественной войн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8680" indent="-3286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кончил Казанский университет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8680" indent="-3286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здал «Азбуку», Выпустил учебник «Новая азбука»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8680" indent="-3286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исал басни, рассказы, пьесы, романы, стихотворени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1"/>
          <p:cNvSpPr/>
          <p:nvPr/>
        </p:nvSpPr>
        <p:spPr>
          <a:xfrm>
            <a:off x="1066680" y="3794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482400"/>
                </a:solidFill>
                <a:latin typeface="Times New Roman"/>
              </a:rPr>
              <a:t>«Бортовые журналы»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1042920" y="2421000"/>
          <a:ext cx="7775640" cy="4359240"/>
        </p:xfrm>
        <a:graphic>
          <a:graphicData uri="http://schemas.openxmlformats.org/drawingml/2006/table">
            <a:tbl>
              <a:tblPr/>
              <a:tblGrid>
                <a:gridCol w="3890880"/>
                <a:gridCol w="3884760"/>
              </a:tblGrid>
              <a:tr h="1908000">
                <a:tc>
                  <a:txBody>
                    <a:bodyPr lIns="90000" rIns="90000" tIns="731160" bIns="46800" anchor="t">
                      <a:noAutofit/>
                    </a:bodyPr>
                    <a:p>
                      <a:pPr algn="ctr">
                        <a:lnSpc>
                          <a:spcPct val="64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то мне известн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64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 данной теме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31160" bIns="46800" anchor="t">
                      <a:noAutofit/>
                    </a:bodyPr>
                    <a:p>
                      <a:pPr algn="ctr">
                        <a:lnSpc>
                          <a:spcPct val="64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то нового я узнал из текста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51240">
                <a:tc>
                  <a:txBody>
                    <a:bodyPr lIns="90000" rIns="90000" tIns="731160" bIns="46800" anchor="t">
                      <a:noAutofit/>
                    </a:bodyPr>
                    <a:p>
                      <a:pPr>
                        <a:lnSpc>
                          <a:spcPct val="64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мена прилагательные изменяются по родам,чтобы определить род им.прилагательных надо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31160" bIns="46800" anchor="t">
                      <a:noAutofit/>
                    </a:bodyPr>
                    <a:p>
                      <a:pPr>
                        <a:lnSpc>
                          <a:spcPct val="64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 имён прилагательных во множественном числе род не определяется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1"/>
          <p:cNvSpPr/>
          <p:nvPr/>
        </p:nvSpPr>
        <p:spPr>
          <a:xfrm>
            <a:off x="865080" y="1714680"/>
            <a:ext cx="812808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8680" indent="-3286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ама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ТЕМ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- это «ствол дерева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8680" indent="-328680">
              <a:spcBef>
                <a:spcPts val="799"/>
              </a:spcBef>
              <a:tabLst>
                <a:tab algn="l" pos="0"/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8680" indent="-3286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«Листочки» - это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ОГНОЗ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8680" indent="-328680">
              <a:spcBef>
                <a:spcPts val="799"/>
              </a:spcBef>
              <a:tabLst>
                <a:tab algn="l" pos="0"/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8680" indent="-328680">
              <a:spcBef>
                <a:spcPts val="799"/>
              </a:spcBef>
              <a:tabLst>
                <a:tab algn="l" pos="0"/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8680" indent="-3286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«Веточки» - это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РГУМЕНТЫ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обоснования                           прогнозов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Rectangle 2"/>
          <p:cNvSpPr/>
          <p:nvPr/>
        </p:nvSpPr>
        <p:spPr>
          <a:xfrm>
            <a:off x="3706920" y="5445000"/>
            <a:ext cx="2270160" cy="1152720"/>
          </a:xfrm>
          <a:prstGeom prst="rect">
            <a:avLst/>
          </a:prstGeom>
          <a:blipFill rotWithShape="0">
            <a:blip r:embed="rId5">
              <a:alphaModFix amt="50000"/>
            </a:blip>
            <a:srcRect/>
            <a:stretch/>
          </a:blipFill>
          <a:ln cap="sq"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3780000" y="2205000"/>
            <a:ext cx="2269800" cy="792360"/>
          </a:xfrm>
          <a:prstGeom prst="rect">
            <a:avLst/>
          </a:prstGeom>
          <a:blipFill rotWithShape="0">
            <a:blip r:embed="rId6">
              <a:alphaModFix amt="50000"/>
            </a:blip>
            <a:srcRect/>
            <a:stretch/>
          </a:blipFill>
          <a:ln cap="sq"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861840" y="3500280"/>
            <a:ext cx="2270160" cy="792360"/>
          </a:xfrm>
          <a:prstGeom prst="rect">
            <a:avLst/>
          </a:prstGeom>
          <a:blipFill rotWithShape="0">
            <a:blip r:embed="rId7">
              <a:alphaModFix amt="50000"/>
            </a:blip>
            <a:srcRect/>
            <a:stretch/>
          </a:blipFill>
          <a:ln cap="sq"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6588000" y="3500280"/>
            <a:ext cx="2270160" cy="792360"/>
          </a:xfrm>
          <a:prstGeom prst="rect">
            <a:avLst/>
          </a:prstGeom>
          <a:blipFill rotWithShape="0">
            <a:blip r:embed="rId8">
              <a:alphaModFix amt="50000"/>
            </a:blip>
            <a:srcRect/>
            <a:stretch/>
          </a:blipFill>
          <a:ln cap="sq"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Line 6"/>
          <p:cNvSpPr/>
          <p:nvPr/>
        </p:nvSpPr>
        <p:spPr>
          <a:xfrm flipH="1" flipV="1">
            <a:off x="1712880" y="4277880"/>
            <a:ext cx="2044800" cy="1181160"/>
          </a:xfrm>
          <a:prstGeom prst="line">
            <a:avLst/>
          </a:prstGeom>
          <a:ln cap="sq"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Line 7"/>
          <p:cNvSpPr/>
          <p:nvPr/>
        </p:nvSpPr>
        <p:spPr>
          <a:xfrm flipV="1">
            <a:off x="5975280" y="4277880"/>
            <a:ext cx="2016360" cy="1181160"/>
          </a:xfrm>
          <a:prstGeom prst="line">
            <a:avLst/>
          </a:prstGeom>
          <a:ln cap="sq"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Line 8"/>
          <p:cNvSpPr/>
          <p:nvPr/>
        </p:nvSpPr>
        <p:spPr>
          <a:xfrm>
            <a:off x="4896000" y="2997360"/>
            <a:ext cx="1440" cy="2447640"/>
          </a:xfrm>
          <a:prstGeom prst="line">
            <a:avLst/>
          </a:prstGeom>
          <a:ln cap="sq"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Text Box 9"/>
          <p:cNvSpPr/>
          <p:nvPr/>
        </p:nvSpPr>
        <p:spPr>
          <a:xfrm>
            <a:off x="1042920" y="404640"/>
            <a:ext cx="77724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482400"/>
                </a:solidFill>
                <a:latin typeface="Times New Roman"/>
              </a:rPr>
              <a:t>«ДЕРЕВО ПРЕДСКАЗАНИЙ»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0"/>
                      </p:stCondLst>
                      <p:childTnLst>
                        <p:par>
                          <p:cTn id="186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click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click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AutoShape 1"/>
          <p:cNvSpPr/>
          <p:nvPr/>
        </p:nvSpPr>
        <p:spPr>
          <a:xfrm>
            <a:off x="3276720" y="549360"/>
            <a:ext cx="2590560" cy="6048360"/>
          </a:xfrm>
          <a:prstGeom prst="triangle">
            <a:avLst>
              <a:gd name="adj" fmla="val 50000"/>
            </a:avLst>
          </a:prstGeom>
          <a:solidFill>
            <a:srgbClr val="c00000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ав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исание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ться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тс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AutoShape 2"/>
          <p:cNvSpPr/>
          <p:nvPr/>
        </p:nvSpPr>
        <p:spPr>
          <a:xfrm rot="15840000">
            <a:off x="1054080" y="1421640"/>
            <a:ext cx="2103480" cy="1785960"/>
          </a:xfrm>
          <a:prstGeom prst="pie">
            <a:avLst/>
          </a:prstGeom>
          <a:solidFill>
            <a:srgbClr val="92d050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AutoShape 3"/>
          <p:cNvSpPr/>
          <p:nvPr/>
        </p:nvSpPr>
        <p:spPr>
          <a:xfrm rot="300000">
            <a:off x="6534000" y="1179000"/>
            <a:ext cx="1914840" cy="2046600"/>
          </a:xfrm>
          <a:prstGeom prst="pie">
            <a:avLst/>
          </a:prstGeom>
          <a:solidFill>
            <a:srgbClr val="92d050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Line 4"/>
          <p:cNvSpPr/>
          <p:nvPr/>
        </p:nvSpPr>
        <p:spPr>
          <a:xfrm>
            <a:off x="2801880" y="2984400"/>
            <a:ext cx="978120" cy="130824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Line 5"/>
          <p:cNvSpPr/>
          <p:nvPr/>
        </p:nvSpPr>
        <p:spPr>
          <a:xfrm flipH="1">
            <a:off x="5497560" y="2862360"/>
            <a:ext cx="1263600" cy="179064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Text Box 6"/>
          <p:cNvSpPr/>
          <p:nvPr/>
        </p:nvSpPr>
        <p:spPr>
          <a:xfrm>
            <a:off x="1690560" y="1989000"/>
            <a:ext cx="88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Тся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Text Box 7"/>
          <p:cNvSpPr/>
          <p:nvPr/>
        </p:nvSpPr>
        <p:spPr>
          <a:xfrm>
            <a:off x="7093440" y="1989000"/>
            <a:ext cx="102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Ться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Text Box 8"/>
          <p:cNvSpPr/>
          <p:nvPr/>
        </p:nvSpPr>
        <p:spPr>
          <a:xfrm rot="18360000">
            <a:off x="5564520" y="3849840"/>
            <a:ext cx="172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то делать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Text Box 9"/>
          <p:cNvSpPr/>
          <p:nvPr/>
        </p:nvSpPr>
        <p:spPr>
          <a:xfrm rot="2940000">
            <a:off x="2143080" y="3709800"/>
            <a:ext cx="173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то делает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1"/>
          <p:cNvSpPr/>
          <p:nvPr/>
        </p:nvSpPr>
        <p:spPr>
          <a:xfrm>
            <a:off x="1066680" y="3794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482400"/>
                </a:solidFill>
                <a:latin typeface="Times New Roman"/>
              </a:rPr>
              <a:t>Прием «Рыба»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AutoShape 2"/>
          <p:cNvSpPr/>
          <p:nvPr/>
        </p:nvSpPr>
        <p:spPr>
          <a:xfrm rot="10800000">
            <a:off x="1417680" y="2795760"/>
            <a:ext cx="1944720" cy="2016000"/>
          </a:xfrm>
          <a:custGeom>
            <a:avLst/>
            <a:gdLst>
              <a:gd name="textAreaLeft" fmla="*/ 0 w 1944720"/>
              <a:gd name="textAreaRight" fmla="*/ 1945080 w 1944720"/>
              <a:gd name="textAreaTop" fmla="*/ 0 h 2016000"/>
              <a:gd name="textAreaBottom" fmla="*/ 2016360 h 20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dfd6c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AutoShape 3"/>
          <p:cNvSpPr/>
          <p:nvPr/>
        </p:nvSpPr>
        <p:spPr>
          <a:xfrm>
            <a:off x="2843280" y="3716280"/>
            <a:ext cx="3889440" cy="144360"/>
          </a:xfrm>
          <a:prstGeom prst="flowChartTerminator">
            <a:avLst/>
          </a:prstGeom>
          <a:solidFill>
            <a:srgbClr val="dfd6c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AutoShape 4"/>
          <p:cNvSpPr/>
          <p:nvPr/>
        </p:nvSpPr>
        <p:spPr>
          <a:xfrm rot="10800000">
            <a:off x="6659640" y="3371400"/>
            <a:ext cx="1295280" cy="86364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863640"/>
              <a:gd name="textAreaBottom" fmla="*/ 86400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dfd6c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AutoShape 5"/>
          <p:cNvSpPr/>
          <p:nvPr/>
        </p:nvSpPr>
        <p:spPr>
          <a:xfrm>
            <a:off x="3851280" y="1989000"/>
            <a:ext cx="576360" cy="3600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dfd6c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AutoShape 6"/>
          <p:cNvSpPr/>
          <p:nvPr/>
        </p:nvSpPr>
        <p:spPr>
          <a:xfrm>
            <a:off x="5219640" y="1989000"/>
            <a:ext cx="576360" cy="3600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dfd6c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Text Box 7"/>
          <p:cNvSpPr/>
          <p:nvPr/>
        </p:nvSpPr>
        <p:spPr>
          <a:xfrm>
            <a:off x="1547640" y="3573360"/>
            <a:ext cx="21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блем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Text Box 8"/>
          <p:cNvSpPr/>
          <p:nvPr/>
        </p:nvSpPr>
        <p:spPr>
          <a:xfrm>
            <a:off x="3564000" y="206064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чин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Rectangle 9"/>
          <p:cNvSpPr/>
          <p:nvPr/>
        </p:nvSpPr>
        <p:spPr>
          <a:xfrm>
            <a:off x="5076720" y="2565360"/>
            <a:ext cx="114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чин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Text Box 10"/>
          <p:cNvSpPr/>
          <p:nvPr/>
        </p:nvSpPr>
        <p:spPr>
          <a:xfrm>
            <a:off x="3492360" y="501336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акты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Rectangle 11"/>
          <p:cNvSpPr/>
          <p:nvPr/>
        </p:nvSpPr>
        <p:spPr>
          <a:xfrm>
            <a:off x="5005440" y="4437000"/>
            <a:ext cx="9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акты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Text Box 12"/>
          <p:cNvSpPr/>
          <p:nvPr/>
        </p:nvSpPr>
        <p:spPr>
          <a:xfrm>
            <a:off x="6732720" y="3573360"/>
            <a:ext cx="143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ывод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Oval 13"/>
          <p:cNvSpPr/>
          <p:nvPr/>
        </p:nvSpPr>
        <p:spPr>
          <a:xfrm>
            <a:off x="1908000" y="3141720"/>
            <a:ext cx="287640" cy="287280"/>
          </a:xfrm>
          <a:prstGeom prst="ellipse">
            <a:avLst/>
          </a:prstGeom>
          <a:solidFill>
            <a:srgbClr val="dfd6c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1"/>
          <p:cNvSpPr/>
          <p:nvPr/>
        </p:nvSpPr>
        <p:spPr>
          <a:xfrm>
            <a:off x="1189080" y="255600"/>
            <a:ext cx="7488360" cy="72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Окружающий мир .3 класс. Тема. Почв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Почва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Живая, плодородная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Разрушается, впитывает, выращивает 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Солнце, ветер и вода разрушают горы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Земля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Почва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Живая, неживая,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Разрушают, беречь, выращивать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1см образуется за 300 лет!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Земля-матушк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1" descr=""/>
          <p:cNvPicPr/>
          <p:nvPr/>
        </p:nvPicPr>
        <p:blipFill>
          <a:blip r:embed="rId2"/>
          <a:stretch/>
        </p:blipFill>
        <p:spPr>
          <a:xfrm>
            <a:off x="1539720" y="115920"/>
            <a:ext cx="6062760" cy="674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"/>
          <p:cNvSpPr/>
          <p:nvPr/>
        </p:nvSpPr>
        <p:spPr>
          <a:xfrm>
            <a:off x="1420200" y="2133720"/>
            <a:ext cx="8139960" cy="52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46040">
              <a:spcBef>
                <a:spcPts val="601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46040">
              <a:spcBef>
                <a:spcPts val="601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-способность ставить новые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46040">
              <a:spcBef>
                <a:spcPts val="601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полные смысла </a:t>
            </a:r>
            <a:r>
              <a:rPr b="0" i="1" lang="ru-RU" sz="3200" spc="-1" strike="noStrike">
                <a:solidFill>
                  <a:srgbClr val="008080"/>
                </a:solidFill>
                <a:latin typeface="Times New Roman"/>
              </a:rPr>
              <a:t>вопросы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46040">
              <a:spcBef>
                <a:spcPts val="601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-вырабатывать разнообразные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46040">
              <a:spcBef>
                <a:spcPts val="601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подкрепляющие </a:t>
            </a:r>
            <a:r>
              <a:rPr b="0" i="1" lang="ru-RU" sz="3200" spc="-1" strike="noStrike">
                <a:solidFill>
                  <a:srgbClr val="008080"/>
                </a:solidFill>
                <a:latin typeface="Times New Roman"/>
              </a:rPr>
              <a:t>аргументы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46040">
              <a:spcBef>
                <a:spcPts val="601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-принимать независимые, продуманные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46040">
              <a:spcBef>
                <a:spcPts val="601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актуальные,</a:t>
            </a:r>
            <a:r>
              <a:rPr b="0" i="1" lang="ru-RU" sz="3200" spc="-1" strike="noStrike">
                <a:solidFill>
                  <a:srgbClr val="008080"/>
                </a:solidFill>
                <a:latin typeface="Times New Roman"/>
              </a:rPr>
              <a:t> решения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46040">
              <a:spcBef>
                <a:spcPts val="601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46040">
              <a:spcBef>
                <a:spcPts val="601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46040">
              <a:spcBef>
                <a:spcPts val="601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Text Box 2"/>
          <p:cNvSpPr/>
          <p:nvPr/>
        </p:nvSpPr>
        <p:spPr>
          <a:xfrm>
            <a:off x="977400" y="453960"/>
            <a:ext cx="7547760" cy="268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«Лучше иногда задавать вопросы,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чем знать наперёд все ответы»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2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                                                       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Дж. Тэрбер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Критическое мышление-это :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1066680" y="379440"/>
            <a:ext cx="7791480" cy="11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482400"/>
                </a:solidFill>
                <a:latin typeface="Times New Roman"/>
              </a:rPr>
              <a:t>Роль учителя при использовании ТКМ: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826920" y="1916280"/>
            <a:ext cx="7769520" cy="41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8680" indent="-3286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правляет усилия учеников в определенное русл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8680" indent="-3286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талкивает различные суждени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8680" indent="-3286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здает условия, побуждающие к принятию самостоятельных решени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8680" indent="-3286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ает учащимся возможность самостоятельно делать вывод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8680" indent="-3286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дготавливает новые познавательные ситуации внутри уже существующих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1"/>
          <p:cNvSpPr/>
          <p:nvPr/>
        </p:nvSpPr>
        <p:spPr>
          <a:xfrm>
            <a:off x="1066680" y="3794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Основа ТКМ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–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Text Box 2"/>
          <p:cNvSpPr/>
          <p:nvPr/>
        </p:nvSpPr>
        <p:spPr>
          <a:xfrm>
            <a:off x="1069920" y="1628640"/>
            <a:ext cx="7769160" cy="41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28680" algn="ctr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рехфазная структура урока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2868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AutoShape 3"/>
          <p:cNvSpPr/>
          <p:nvPr/>
        </p:nvSpPr>
        <p:spPr>
          <a:xfrm>
            <a:off x="1258920" y="2492280"/>
            <a:ext cx="2592360" cy="720720"/>
          </a:xfrm>
          <a:prstGeom prst="roundRect">
            <a:avLst>
              <a:gd name="adj" fmla="val 16667"/>
            </a:avLst>
          </a:prstGeom>
          <a:solidFill>
            <a:srgbClr val="dfd6c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ызо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AutoShape 4"/>
          <p:cNvSpPr/>
          <p:nvPr/>
        </p:nvSpPr>
        <p:spPr>
          <a:xfrm>
            <a:off x="3203640" y="3573360"/>
            <a:ext cx="2592360" cy="720720"/>
          </a:xfrm>
          <a:prstGeom prst="roundRect">
            <a:avLst>
              <a:gd name="adj" fmla="val 16667"/>
            </a:avLst>
          </a:prstGeom>
          <a:solidFill>
            <a:srgbClr val="dfd6c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смыслени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AutoShape 5"/>
          <p:cNvSpPr/>
          <p:nvPr/>
        </p:nvSpPr>
        <p:spPr>
          <a:xfrm>
            <a:off x="5724360" y="4437000"/>
            <a:ext cx="2592720" cy="792360"/>
          </a:xfrm>
          <a:prstGeom prst="roundRect">
            <a:avLst>
              <a:gd name="adj" fmla="val 16667"/>
            </a:avLst>
          </a:prstGeom>
          <a:solidFill>
            <a:srgbClr val="dfd6c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рефлекс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click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click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1"/>
          <p:cNvSpPr/>
          <p:nvPr/>
        </p:nvSpPr>
        <p:spPr>
          <a:xfrm>
            <a:off x="1066680" y="212760"/>
            <a:ext cx="777240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482400"/>
                </a:solidFill>
                <a:latin typeface="Times New Roman"/>
              </a:rPr>
              <a:t>Задачи фазы вызова</a:t>
            </a:r>
            <a:br>
              <a:rPr sz="4000"/>
            </a:br>
            <a:r>
              <a:rPr b="0" lang="ru-RU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482400"/>
                </a:solidFill>
                <a:latin typeface="Times New Roman"/>
              </a:rPr>
              <a:t>( пробуждение интереса к предмету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Text Box 2"/>
          <p:cNvSpPr/>
          <p:nvPr/>
        </p:nvSpPr>
        <p:spPr>
          <a:xfrm>
            <a:off x="106200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8680" indent="-3286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ктуализировать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имеющиеся у учащихся знания и смыслы в связи с изучаемым материалом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8680" indent="-3286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обудить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познавательный интерес к изучаемому материалу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8680" indent="-3286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мочь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учащимся самим определить направление в изучении темы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1643040" y="357120"/>
            <a:ext cx="66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990000"/>
                </a:solidFill>
                <a:latin typeface="Times New Roman"/>
              </a:rPr>
              <a:t>Используемые приемы на стадии «вызова»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1525320" y="2519280"/>
            <a:ext cx="5679000" cy="33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ru-RU" sz="2600" spc="-1" strike="noStrike">
                <a:solidFill>
                  <a:srgbClr val="990000"/>
                </a:solidFill>
                <a:latin typeface="Times New Roman"/>
              </a:rPr>
              <a:t>«Корзина идей»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ru-RU" sz="2600" spc="-1" strike="noStrike">
                <a:solidFill>
                  <a:srgbClr val="990000"/>
                </a:solidFill>
                <a:latin typeface="Times New Roman"/>
              </a:rPr>
              <a:t>«Верные и неверные утверждения»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ru-RU" sz="2600" spc="-1" strike="noStrike">
                <a:solidFill>
                  <a:srgbClr val="990000"/>
                </a:solidFill>
                <a:latin typeface="Times New Roman"/>
              </a:rPr>
              <a:t>«Кластер»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990000"/>
                </a:solidFill>
                <a:latin typeface="Times New Roman"/>
              </a:rPr>
              <a:t>- «Покопаемся в памяти»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990000"/>
                </a:solidFill>
                <a:latin typeface="Times New Roman"/>
              </a:rPr>
              <a:t>- «Ассоциация»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990000"/>
                </a:solidFill>
                <a:latin typeface="Times New Roman"/>
              </a:rPr>
              <a:t>- «Понятийное колесо»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990000"/>
                </a:solidFill>
                <a:latin typeface="Times New Roman"/>
              </a:rPr>
              <a:t>- «Парная мозговая атака»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1"/>
          <p:cNvSpPr/>
          <p:nvPr/>
        </p:nvSpPr>
        <p:spPr>
          <a:xfrm>
            <a:off x="1066680" y="81000"/>
            <a:ext cx="776628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482400"/>
                </a:solidFill>
                <a:latin typeface="Times New Roman"/>
              </a:rPr>
              <a:t>Русский язык    3 класс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Text Box 2"/>
          <p:cNvSpPr/>
          <p:nvPr/>
        </p:nvSpPr>
        <p:spPr>
          <a:xfrm>
            <a:off x="1062000" y="2592360"/>
            <a:ext cx="7763040" cy="34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6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rebuchet MS"/>
              </a:rPr>
              <a:t>Тема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6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Trebuchet MS"/>
              </a:rPr>
              <a:t>«Мягкий знак после шипящи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6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Trebuchet MS"/>
              </a:rPr>
              <a:t> </a:t>
            </a:r>
            <a:r>
              <a:rPr b="0" i="1" lang="ru-RU" sz="3200" spc="-1" strike="noStrike">
                <a:solidFill>
                  <a:srgbClr val="ff0000"/>
                </a:solidFill>
                <a:latin typeface="Trebuchet MS"/>
              </a:rPr>
              <a:t>на конце существительных женского рода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6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6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rebuchet MS"/>
              </a:rPr>
              <a:t>Фаза вызов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1"/>
          <p:cNvSpPr/>
          <p:nvPr/>
        </p:nvSpPr>
        <p:spPr>
          <a:xfrm>
            <a:off x="108000" y="792000"/>
            <a:ext cx="8712000" cy="7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rebuchet MS"/>
              </a:rPr>
              <a:t>Что посееш * , то и пожнёш*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Rectangle 2"/>
          <p:cNvSpPr/>
          <p:nvPr/>
        </p:nvSpPr>
        <p:spPr>
          <a:xfrm>
            <a:off x="3635280" y="519120"/>
            <a:ext cx="4969080" cy="25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Trebuchet MS"/>
              </a:rPr>
              <a:t>Ь                   Ь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Trebuchet MS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746280" y="4029120"/>
            <a:ext cx="8397720" cy="14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rebuchet MS"/>
              </a:rPr>
              <a:t>Хорошую</a:t>
            </a:r>
            <a:r>
              <a:rPr b="0" lang="ru-RU" sz="4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i="1" lang="ru-RU" sz="4400" spc="-1" strike="noStrike">
                <a:solidFill>
                  <a:srgbClr val="000000"/>
                </a:solidFill>
                <a:latin typeface="Trebuchet MS"/>
              </a:rPr>
              <a:t>речь хорошо и слушать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658800" y="2592360"/>
            <a:ext cx="7610400" cy="14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rebuchet MS"/>
              </a:rPr>
              <a:t>Повторенье – мать ученья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3T19:33:14Z</dcterms:created>
  <dc:creator>Ирландец</dc:creator>
  <dc:description/>
  <dc:language>en-US</dc:language>
  <cp:lastModifiedBy>Ирина</cp:lastModifiedBy>
  <dcterms:modified xsi:type="dcterms:W3CDTF">2019-01-26T02:29:15Z</dcterms:modified>
  <cp:revision>143</cp:revision>
  <dc:subject/>
  <dc:title>ТЕХНОЛОГИЯ РАЗВИТИЯ КРИТИЧЕСКОГО МЫШЛЕНИЯ</dc:title>
</cp:coreProperties>
</file>