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868993993993994"/>
          <c:y val="0.118615778346501"/>
          <c:w val="0.609421921921922"/>
          <c:h val="0.73973517302770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87628"/>
        <c:axId val="80991683"/>
      </c:barChart>
      <c:catAx>
        <c:axId val="34687628"/>
        <c:scaling>
          <c:orientation val="minMax"/>
        </c:scaling>
        <c:delete val="0"/>
        <c:axPos val="b"/>
        <c:numFmt formatCode="[$-419]dd/mm/yyyy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91683"/>
        <c:crosses val="autoZero"/>
        <c:auto val="1"/>
        <c:lblAlgn val="ctr"/>
        <c:lblOffset val="100"/>
        <c:noMultiLvlLbl val="0"/>
      </c:catAx>
      <c:valAx>
        <c:axId val="80991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87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A23B5-FC45-4608-8450-064527FA2E1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6807D-B198-4323-B1DD-6F45BBF97CB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49513-E3CD-4CF6-AEC5-D4B27F50F5B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DD181-0B41-4DAC-86CA-67040292BB4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EA9F8-CF2C-4018-85D6-A2A2C886974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CC4FB-5A9C-4794-B9EB-BD6C1C324A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5F539-4011-4C80-9948-65D6696897A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B78AD-29D2-4FD1-81C0-373D2606FA3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FC937-7E6E-4432-881C-91C24A02B61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34D26-C625-4538-A1E1-C0CB83959F6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1FF4C-0BC8-4C0C-BDE8-EF3DA407344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82DF9-CBB1-4479-A08D-2D256FF5858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30DFC-54E0-4BA3-8481-A2AE03D0E2C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BBF1B-C531-40B3-81B9-B373526BFB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C7439-2B46-4213-9758-7FBD8E94FA4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01DF3-ED8A-4E97-86F1-36D730CDCD0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C0E78-A769-4F53-85CF-D0D5F666D7A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CC93B-41F8-40B1-AFD4-93B669E9426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915EE-801D-410A-AD89-65ED38D13BC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E5130-E7E0-497F-8ED5-4BF87398A60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35C95-A5CE-41CA-96F4-F1C9F05CA77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128CB-616E-4A46-AC28-5ED00380045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F5751-F802-4531-A006-961C42B9ABA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71461-ED00-45C4-A34C-332260633A6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352FE-47F7-44DD-8AF0-552AB0C94A5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E3A71-C1B3-4E9B-A70E-026B63791EE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B0618-581E-42CE-BE3E-5474E0297F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4A230-2827-46D8-B558-F993C672999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F407F-5C72-4F99-B204-2EB645247B5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B3DDC-F7D8-4142-AC78-C2AC6E6149B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5FB02-FAE6-44DC-A6BF-612666AB436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45C4E-C202-491A-94AD-459E6A258FA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AE969-3913-4689-8994-47176B615CD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B611F-3621-4198-BCBA-109E7A75DB8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FC722-CF4D-4470-80F7-BC7359218C0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91C6E-92B3-44C3-8838-32BE9E53D2E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F813F-8927-4280-A46A-9353D1146D3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2FF05-ABB2-441D-B425-FF91A151C81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A8ABF-B48C-4CF9-9072-E84CEE69DD7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86C5B-1DB8-4DED-984C-82220BC0B24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1AF16-23C7-4FA7-A9F1-EC849CB78A5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8320C-F224-4C40-9449-4188908D62E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31CB1-9D4B-47BD-BF55-60A02718ED4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6E2BC-0FE9-428E-9423-A1223000B8C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EEE2A-4D27-4A6F-A7B2-4C01C848012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7A5CE-90A3-494A-B03C-D4FA1ED9B8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F058C-3A63-4FF4-81BF-85D5277E5EC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146B0-EABB-4094-8EE1-79A83BAE2D5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7E099-43B7-4F0D-851F-65493201DCB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9517F-96DB-4617-A7D7-BC00B4DA487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9336D-07DC-453F-A99A-CAB421783DE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F222B-CEF8-4980-9005-4407158E0FF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3EE5F-F11F-4E9A-A3A7-36E45D73BAC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B8883-491E-4B92-B89D-E856502AF1D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5B74A-79F1-4505-82E5-16293D2190C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37AE8-AA29-44B1-B761-9BB24B31A2F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AA3A7-5278-4D43-878A-0A763A6F338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64638-980E-4DF3-BBAA-18EF49049C8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99A69-53E2-4796-9D9A-A051FFF788A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ED4A7-37AE-46A6-B412-365D9F617B0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45A8C-5FE3-41EF-8296-3D169CF4D4D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E4581-B6CE-4131-84E7-952AADC2E20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39FB7-D136-49E7-8F6B-03A0168B63E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7995F-B6E3-432E-905A-BC774444298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F0F40-F2E3-463F-9A34-0A456D241A9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9BB20-983C-47B2-9602-88312ABA14F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7A0B7-82B2-485E-B389-B939DCC8088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C3606-B1B3-40E3-9061-2C27B4D2D62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ADA6F-B5D0-4F51-92EE-FBD63512006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CA16F-5B4C-4EF2-908C-0BC604C33C0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088A5-7250-42EB-A488-3EF0F1150ED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634BC-8F14-49A3-B1AD-AE325468855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42414-9CA9-4399-A1D2-FFB5914CBD9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7AF9F-50DF-425D-A720-955C484FC2F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B7F39-1CBD-46B8-881B-D142F91384C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3A73B-B7B8-4A3C-A20F-9599EC98102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E4915-F3B4-4568-9906-7E029D28F04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8E2A0-35B6-4A4A-90DD-DD33D25966F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0ABD2-1888-46C1-A44B-9D2B614E724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FD35E-1498-4939-86BD-A325C5EB40A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AA6CA-13C6-4A2C-84DE-692DD8FC0A9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6FD4A-CB29-43C0-87F3-CCBFCA92378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85B00-2F66-4A6C-B22B-0A10879F5D9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8D1F9-DB3E-44B8-82D3-1DF166F3547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4B440-7C83-4DD2-8E72-B3D0AA1B454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53243-D903-4591-B412-39FCD25C9E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E8ADA-702F-45D1-9E71-D50695BD97B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761FC-8D76-42D4-ADE4-B2CAE6EE97A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E3B9E-B81A-452D-B15C-A2DD7F3430F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CA63-1556-4547-8547-AF376486F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77551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2000" y="3908160"/>
            <a:ext cx="77551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BE1B-F9E2-4D87-9624-41C665A0B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2000" y="390816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6040" y="390816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E75C-3773-409E-B52E-57E4E50C1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4240" y="176688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06480" y="176688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2000" y="390816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4240" y="390816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06480" y="390816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7B8F-21FC-4BB4-9189-151EE22AF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6715-C6A3-4A34-9A38-5F73EC989C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2000" y="1766880"/>
            <a:ext cx="77551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D10F4-0B16-479B-8E67-407C77A11B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77551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74829-80B0-4B05-B0F1-5F1362C204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0CFF5-3089-4600-A750-EA1F0E504E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104DB-D207-45B4-A9E5-697E9B3985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6320"/>
            <a:ext cx="7758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44C47-B21B-4FDC-A8F8-027DAB6512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2000" y="390816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0A04E-C6C8-4537-AD20-ADB99D9B37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2000" y="1766880"/>
            <a:ext cx="77551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C48C-EC34-450B-B5AF-59E4B2E4D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6040" y="390816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F2207-DF9C-4719-979A-E71C066A2A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2000" y="3908160"/>
            <a:ext cx="77551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4F4DF-DEB7-4B1D-BE11-1E6911578C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77551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2000" y="3908160"/>
            <a:ext cx="77551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F8D6B-C44B-4702-B9EE-B3CBE66FB1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2000" y="390816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6040" y="390816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672D-1672-4137-AE53-F0BEC32154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4240" y="176688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06480" y="176688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2000" y="390816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4240" y="390816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06480" y="390816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4BB1-4FB3-40CA-969F-6BA20F1CBA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77551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7066-319C-408C-95FE-6A9C2FFE0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6539-EE26-4F0B-B637-30C19168B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0DD4-4C06-4868-801C-44A45E14D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320" y="76320"/>
            <a:ext cx="7758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C6B8-945B-4219-B1FB-76CA3B71D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2000" y="390816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F7C6-78CD-4286-887B-EECD3514E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6040" y="390816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F7E2-D295-46C5-8F7E-C1A9D96A5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2000" y="3908160"/>
            <a:ext cx="77551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49AF-007A-40F0-B670-586BDFE4A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838080" y="639756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29000" y="639756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7010280" y="6384960"/>
            <a:ext cx="1890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27096B-D6CF-4B91-9025-31F0E25C72B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062000" y="1766880"/>
            <a:ext cx="77551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0" y="0"/>
            <a:ext cx="6348240" cy="6843600"/>
            <a:chOff x="0" y="0"/>
            <a:chExt cx="6348240" cy="6843600"/>
          </a:xfrm>
        </p:grpSpPr>
        <p:pic>
          <p:nvPicPr>
            <p:cNvPr id="44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71400" cy="68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3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42920" cy="8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4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2000" y="1766880"/>
            <a:ext cx="77551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8907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4824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9BD489-B8D9-4C4E-A3E2-CE02D7EF564E}" type="slidenum">
              <a:rPr b="0" lang="ru-RU" sz="1400" spc="-1" strike="noStrike">
                <a:solidFill>
                  <a:srgbClr val="4824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chart" Target="../charts/chart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2"/>
          <a:stretch/>
        </p:blipFill>
        <p:spPr>
          <a:xfrm>
            <a:off x="2916360" y="5084640"/>
            <a:ext cx="4033800" cy="457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1763640" y="620640"/>
            <a:ext cx="69516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Использование технологии критического мышления в начальной школ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2073240" y="620640"/>
            <a:ext cx="54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Приём «Кластера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3500280" y="1643040"/>
            <a:ext cx="2735280" cy="1484280"/>
          </a:xfrm>
          <a:prstGeom prst="smileyFace">
            <a:avLst>
              <a:gd name="adj" fmla="val 9282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642960" y="3000240"/>
            <a:ext cx="3143160" cy="1335240"/>
          </a:xfrm>
          <a:prstGeom prst="ellipse">
            <a:avLst/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Разделитель-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3214800" y="3786120"/>
            <a:ext cx="3357360" cy="1440000"/>
          </a:xfrm>
          <a:prstGeom prst="ellipse">
            <a:avLst/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оказатель грамматической ро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6357960" y="3000240"/>
            <a:ext cx="2786040" cy="1500480"/>
          </a:xfrm>
          <a:prstGeom prst="ellipse">
            <a:avLst/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оказатель мягк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2" name="AutoShape 6"/>
          <p:cNvCxnSpPr/>
          <p:nvPr/>
        </p:nvCxnSpPr>
        <p:spPr>
          <a:xfrm flipH="1">
            <a:off x="3214080" y="3142800"/>
            <a:ext cx="648360" cy="57852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AutoShape 7"/>
          <p:cNvCxnSpPr/>
          <p:nvPr/>
        </p:nvCxnSpPr>
        <p:spPr>
          <a:xfrm>
            <a:off x="5904000" y="3024000"/>
            <a:ext cx="689760" cy="5418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8"/>
          <p:cNvCxnSpPr/>
          <p:nvPr/>
        </p:nvCxnSpPr>
        <p:spPr>
          <a:xfrm flipH="1">
            <a:off x="4142880" y="3215880"/>
            <a:ext cx="57384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9"/>
          <p:cNvSpPr/>
          <p:nvPr/>
        </p:nvSpPr>
        <p:spPr>
          <a:xfrm>
            <a:off x="6786720" y="5214960"/>
            <a:ext cx="20714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ма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служи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000680" y="5357880"/>
            <a:ext cx="20714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осееш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ожнеш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938160" y="5081760"/>
            <a:ext cx="20718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учен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овторень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2"/>
          <a:stretch/>
        </p:blipFill>
        <p:spPr>
          <a:xfrm>
            <a:off x="6391440" y="4149720"/>
            <a:ext cx="2752560" cy="27082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845640" y="2016000"/>
            <a:ext cx="73922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rebuchet MS"/>
              </a:rPr>
              <a:t>РЕЧЬ</a:t>
            </a:r>
            <a:r>
              <a:rPr b="1" lang="ru-RU" sz="8000" spc="-1" strike="noStrike">
                <a:solidFill>
                  <a:srgbClr val="3accff"/>
                </a:solidFill>
                <a:latin typeface="Trebuchet MS"/>
              </a:rPr>
              <a:t>        </a:t>
            </a:r>
            <a:r>
              <a:rPr b="1" lang="ru-RU" sz="8000" spc="-1" strike="noStrike">
                <a:solidFill>
                  <a:srgbClr val="ff0000"/>
                </a:solidFill>
                <a:latin typeface="Trebuchet MS"/>
              </a:rPr>
              <a:t>РЕЧ*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-6392880" y="2300400"/>
          <a:ext cx="3835440" cy="3235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066680" y="379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Задачи фазы реализации смысла –</a:t>
            </a:r>
            <a:br>
              <a:rPr sz="4000"/>
            </a:b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(осмысление материала во время работы над ним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90000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моч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но воспринимать изучаемый матери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моч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отнести старые знания с новы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643040" y="3571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</a:rPr>
              <a:t>Используемые приемы на стадии «осмысления»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428840" y="2735280"/>
            <a:ext cx="62964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Инсерт»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Таблица «Знаю – Хочу узнать - Узнал»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Перепутанные логические цепочки»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Бортовой журнал»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Дерево предсказаний»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Флешбоун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Отсюда – сюда»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066680" y="81000"/>
            <a:ext cx="77662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Математика     4 клас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062000" y="1766880"/>
            <a:ext cx="776304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оставление комбинированного теста по теме «Деление многозначного числа на однозначное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мини проект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за осмы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1066680" y="212760"/>
            <a:ext cx="7772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Стратегия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 «Отсюда – сюд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Oval 2"/>
          <p:cNvSpPr/>
          <p:nvPr/>
        </p:nvSpPr>
        <p:spPr>
          <a:xfrm>
            <a:off x="1403280" y="1773360"/>
            <a:ext cx="2879640" cy="79200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уппа получае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щее задание по тем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5292720" y="1989000"/>
            <a:ext cx="3166920" cy="107964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ждый член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уппы получае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свой» объект исследова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332000" y="2781360"/>
            <a:ext cx="2879640" cy="86508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бор информаци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 объект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5364000" y="3357720"/>
            <a:ext cx="3024360" cy="93492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мен информацией в групп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403280" y="3789360"/>
            <a:ext cx="2808360" cy="100800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деление общег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составления тест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5292720" y="4653000"/>
            <a:ext cx="3166920" cy="86364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ление тест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1476360" y="5013360"/>
            <a:ext cx="2664000" cy="100800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писание совместног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следования по тем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076720" y="5734080"/>
            <a:ext cx="3456000" cy="83664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я исследова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4284720" y="2205000"/>
            <a:ext cx="100800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H="1">
            <a:off x="4196880" y="2708280"/>
            <a:ext cx="118116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4211640" y="3284640"/>
            <a:ext cx="115236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13"/>
          <p:cNvSpPr/>
          <p:nvPr/>
        </p:nvSpPr>
        <p:spPr>
          <a:xfrm flipH="1">
            <a:off x="4125600" y="3933720"/>
            <a:ext cx="125244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4"/>
          <p:cNvSpPr/>
          <p:nvPr/>
        </p:nvSpPr>
        <p:spPr>
          <a:xfrm>
            <a:off x="4140360" y="4437000"/>
            <a:ext cx="122364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 flipH="1">
            <a:off x="4125600" y="5157720"/>
            <a:ext cx="118116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4140360" y="5589720"/>
            <a:ext cx="93636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619280" y="19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1547640" y="29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5364000" y="3645000"/>
            <a:ext cx="3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161928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50872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536400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1547640" y="53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5292720" y="5950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click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click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click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click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click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click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click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click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click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click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click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click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click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click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click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click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click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1066680" y="379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Задачи фазы рефлексии –</a:t>
            </a:r>
            <a:br>
              <a:rPr sz="4000"/>
            </a:b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(обобщение материала, подведение итого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щимся самостоятельно обобщить изучаемый материа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амостоятельно определить направления в дальнейшем изучении материа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1643040" y="3571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</a:rPr>
              <a:t>Используемые приемы на стадии «рефлексии»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1800000" y="2664000"/>
            <a:ext cx="32392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«Синквейн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«Ромашка Блума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«Шесть шляп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«Корзина знаний»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2833560" y="1851120"/>
            <a:ext cx="3251160" cy="4052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564000" y="12528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 составных зада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503280" y="936720"/>
            <a:ext cx="261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нятия: Цена, Количество, Стоимост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330960" y="3184560"/>
            <a:ext cx="2489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ение вести диалог по теме «Покупк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084720" y="861840"/>
            <a:ext cx="278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нежные единиц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рубль, копей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720720" y="2997360"/>
            <a:ext cx="18511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торение лексики по тем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Магазин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84360" y="3789360"/>
            <a:ext cx="187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6121440" y="5589720"/>
            <a:ext cx="230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 простых зада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576360" y="5589720"/>
            <a:ext cx="280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мы можем купить на почт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2835360" y="1852560"/>
            <a:ext cx="3303360" cy="12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711360" y="0"/>
            <a:ext cx="776556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Приём «верные и не верны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утверждения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649440" y="1844640"/>
            <a:ext cx="84758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а «Местоимение». 3 клас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   Здесь написаны  только  местоиме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,   к нему, один, я, они, со мн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   В предложении  местоимения бывают только подлежащи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   В предложении местоимения бывают второстепенны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леном или подлежащи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   Местоимения могут быть 1, 2 или 3 лиц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   Местоимения изменяются по падежам и числа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   В предложении « Долго у моря ждал он ответ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дождался, к старухе вернулся» местоимение являет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степенным член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1066680" y="379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Предполагаемые результа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применения ТКМ</a:t>
            </a: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283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творческих способностей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ния критически мыслить и принимать взвешенные решения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нность навыков самостоятельной и групповой работ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активное включение учащихся в учебно-воспитательный процесс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1155600" y="272880"/>
            <a:ext cx="7772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Инсерт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(условные значк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00000" y="1989000"/>
          <a:ext cx="7999560" cy="4772160"/>
        </p:xfrm>
        <a:graphic>
          <a:graphicData uri="http://schemas.openxmlformats.org/drawingml/2006/table">
            <a:tbl>
              <a:tblPr/>
              <a:tblGrid>
                <a:gridCol w="1587600"/>
                <a:gridCol w="2155680"/>
                <a:gridCol w="2179800"/>
                <a:gridCol w="2076480"/>
              </a:tblGrid>
              <a:tr h="1972800">
                <a:tc>
                  <a:txBody>
                    <a:bodyPr lIns="90000" rIns="90000" tIns="7300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осознать новые зна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2592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исправить неверные предположе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2592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исправить неверные предполо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300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обудить дальнейший интерес к тем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5320">
                <a:tc>
                  <a:txBody>
                    <a:bodyPr lIns="90000" rIns="90000" tIns="6321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это зн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321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 для меня абсолютно нов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321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 противоречит тому, что я зн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321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хочу знать об этом больш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73008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3008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3008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3008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1066680" y="334800"/>
            <a:ext cx="77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82400"/>
                </a:solidFill>
                <a:latin typeface="Times New Roman"/>
              </a:rPr>
              <a:t>Таблица </a:t>
            </a:r>
            <a:br>
              <a:rPr sz="3600"/>
            </a:br>
            <a:r>
              <a:rPr b="0" lang="ru-RU" sz="3600" spc="-1" strike="noStrike">
                <a:solidFill>
                  <a:srgbClr val="482400"/>
                </a:solidFill>
                <a:latin typeface="Times New Roman"/>
              </a:rPr>
              <a:t>«Знаю – Хочу знать – Узнал» (ЗХУ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258920" y="2133720"/>
          <a:ext cx="7332480" cy="1380960"/>
        </p:xfrm>
        <a:graphic>
          <a:graphicData uri="http://schemas.openxmlformats.org/drawingml/2006/table">
            <a:tbl>
              <a:tblPr/>
              <a:tblGrid>
                <a:gridCol w="2127240"/>
                <a:gridCol w="2478240"/>
                <a:gridCol w="2727000"/>
              </a:tblGrid>
              <a:tr h="1380960">
                <a:tc>
                  <a:txBody>
                    <a:bodyPr lIns="90000" rIns="90000" tIns="63216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что мы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3216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что мы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тим узн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3216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что мы узнали и что нам осталось узн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258920" y="3716280"/>
          <a:ext cx="7350120" cy="3009960"/>
        </p:xfrm>
        <a:graphic>
          <a:graphicData uri="http://schemas.openxmlformats.org/drawingml/2006/table">
            <a:tbl>
              <a:tblPr/>
              <a:tblGrid>
                <a:gridCol w="1693800"/>
                <a:gridCol w="1984320"/>
                <a:gridCol w="3672000"/>
              </a:tblGrid>
              <a:tr h="1167120">
                <a:tc gridSpan="2">
                  <a:txBody>
                    <a:bodyPr lIns="90000" rIns="90000" tIns="53460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тегории информации, которыми мы намерены пользоваться    /Главные слова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3460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, из которых мы намерены получить информаци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4280">
                <a:tc>
                  <a:txBody>
                    <a:bodyPr lIns="90000" rIns="90000" tIns="63216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3216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3216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066680" y="212760"/>
            <a:ext cx="7772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Прием «Перепутанные логические цепочки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042920" y="1700280"/>
            <a:ext cx="776916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лстой родился в усадьбе Ясная полян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льской губернии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лстой участник Великой Отечественной вой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ончил Казанский университ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л «Азбуку», Выпустил учебник «Новая азбук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ал басни, рассказы, пьесы, романы, стихотвор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066680" y="379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«Бортовые журналы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42920" y="2421000"/>
          <a:ext cx="7775640" cy="4359240"/>
        </p:xfrm>
        <a:graphic>
          <a:graphicData uri="http://schemas.openxmlformats.org/drawingml/2006/table">
            <a:tbl>
              <a:tblPr/>
              <a:tblGrid>
                <a:gridCol w="3890880"/>
                <a:gridCol w="3884760"/>
              </a:tblGrid>
              <a:tr h="1908000">
                <a:tc>
                  <a:txBody>
                    <a:bodyPr lIns="90000" rIns="90000" tIns="7311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мне извест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анной теме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311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нового я узнал из текста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240">
                <a:tc>
                  <a:txBody>
                    <a:bodyPr lIns="90000" rIns="90000" tIns="73116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на прилагательные изменяются по родам,чтобы определить род им.прилагательных надо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3116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имён прилагательных во множественном числе род не определяетс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865080" y="1714680"/>
            <a:ext cx="8128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«ствол дерев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Листочки» - эт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ГНО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Веточки» - эт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ГУМЕН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боснования                           прогнозо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706920" y="5445000"/>
            <a:ext cx="2270160" cy="11527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80000" y="2205000"/>
            <a:ext cx="2269800" cy="792360"/>
          </a:xfrm>
          <a:prstGeom prst="rect">
            <a:avLst/>
          </a:prstGeom>
          <a:blipFill rotWithShape="0">
            <a:blip r:embed="rId6">
              <a:alphaModFix amt="50000"/>
            </a:blip>
            <a:srcRect/>
            <a:stretch/>
          </a:blip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861840" y="3500280"/>
            <a:ext cx="2270160" cy="79236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stretch/>
          </a:blip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588000" y="3500280"/>
            <a:ext cx="2270160" cy="79236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stretch/>
          </a:blip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6"/>
          <p:cNvSpPr/>
          <p:nvPr/>
        </p:nvSpPr>
        <p:spPr>
          <a:xfrm flipH="1" flipV="1">
            <a:off x="1712880" y="4277880"/>
            <a:ext cx="2044800" cy="1181160"/>
          </a:xfrm>
          <a:prstGeom prst="line">
            <a:avLst/>
          </a:prstGeom>
          <a:ln cap="sq"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7"/>
          <p:cNvSpPr/>
          <p:nvPr/>
        </p:nvSpPr>
        <p:spPr>
          <a:xfrm flipV="1">
            <a:off x="5975280" y="4277880"/>
            <a:ext cx="2016360" cy="1181160"/>
          </a:xfrm>
          <a:prstGeom prst="line">
            <a:avLst/>
          </a:prstGeom>
          <a:ln cap="sq"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4896000" y="2997360"/>
            <a:ext cx="1440" cy="2447640"/>
          </a:xfrm>
          <a:prstGeom prst="line">
            <a:avLst/>
          </a:prstGeom>
          <a:ln cap="sq"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04292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«ДЕРЕВО ПРЕДСКАЗАНИЙ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1"/>
          <p:cNvSpPr/>
          <p:nvPr/>
        </p:nvSpPr>
        <p:spPr>
          <a:xfrm>
            <a:off x="3276720" y="549360"/>
            <a:ext cx="2590560" cy="604836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са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ьс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2"/>
          <p:cNvSpPr/>
          <p:nvPr/>
        </p:nvSpPr>
        <p:spPr>
          <a:xfrm rot="15840000">
            <a:off x="1054080" y="1421640"/>
            <a:ext cx="2103480" cy="1785960"/>
          </a:xfrm>
          <a:prstGeom prst="pie">
            <a:avLst/>
          </a:prstGeom>
          <a:solidFill>
            <a:srgbClr val="92d05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3"/>
          <p:cNvSpPr/>
          <p:nvPr/>
        </p:nvSpPr>
        <p:spPr>
          <a:xfrm rot="300000">
            <a:off x="6534000" y="1179000"/>
            <a:ext cx="1914840" cy="2046600"/>
          </a:xfrm>
          <a:prstGeom prst="pie">
            <a:avLst/>
          </a:prstGeom>
          <a:solidFill>
            <a:srgbClr val="92d05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2801880" y="2984400"/>
            <a:ext cx="978120" cy="13082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5497560" y="2862360"/>
            <a:ext cx="1263600" cy="17906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690560" y="19890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с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093440" y="1989000"/>
            <a:ext cx="10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ьс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 rot="18360000">
            <a:off x="5564520" y="384984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дела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 rot="2940000">
            <a:off x="2143080" y="37098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делае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066680" y="379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Прием «Рыба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2"/>
          <p:cNvSpPr/>
          <p:nvPr/>
        </p:nvSpPr>
        <p:spPr>
          <a:xfrm rot="10800000">
            <a:off x="1417680" y="2795760"/>
            <a:ext cx="1944720" cy="2016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2843280" y="3716280"/>
            <a:ext cx="3889440" cy="144360"/>
          </a:xfrm>
          <a:prstGeom prst="flowChartTerminator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 rot="10800000">
            <a:off x="6659640" y="3371400"/>
            <a:ext cx="1295280" cy="8636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3851280" y="1989000"/>
            <a:ext cx="576360" cy="360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5219640" y="1989000"/>
            <a:ext cx="576360" cy="360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547640" y="3573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564000" y="2060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5076720" y="2565360"/>
            <a:ext cx="11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492360" y="5013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к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5005440" y="443700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к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6732720" y="3573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Oval 13"/>
          <p:cNvSpPr/>
          <p:nvPr/>
        </p:nvSpPr>
        <p:spPr>
          <a:xfrm>
            <a:off x="1908000" y="3141720"/>
            <a:ext cx="287640" cy="28728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1189080" y="255600"/>
            <a:ext cx="7488360" cy="72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кружающий мир .3 класс. Тема. Поч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Живая, плодородна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зрушается, впитывает, выращивае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лнце, ветер и вода разрушают горы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емл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Живая, неживая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зрушают, беречь, выращивать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см образуется за 300 лет!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емля-матуш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"/>
          <p:cNvPicPr/>
          <p:nvPr/>
        </p:nvPicPr>
        <p:blipFill>
          <a:blip r:embed="rId2"/>
          <a:stretch/>
        </p:blipFill>
        <p:spPr>
          <a:xfrm>
            <a:off x="1539720" y="115920"/>
            <a:ext cx="6062760" cy="67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420200" y="2133720"/>
            <a:ext cx="813996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способность ставить новы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лные смысла </a:t>
            </a:r>
            <a:r>
              <a:rPr b="0" i="1" lang="ru-RU" sz="3200" spc="-1" strike="noStrike">
                <a:solidFill>
                  <a:srgbClr val="008080"/>
                </a:solidFill>
                <a:latin typeface="Times New Roman"/>
              </a:rPr>
              <a:t>вопрос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вырабатывать разнообразны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дкрепляющие </a:t>
            </a:r>
            <a:r>
              <a:rPr b="0" i="1" lang="ru-RU" sz="3200" spc="-1" strike="noStrike">
                <a:solidFill>
                  <a:srgbClr val="008080"/>
                </a:solidFill>
                <a:latin typeface="Times New Roman"/>
              </a:rPr>
              <a:t>аргумент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принимать независимые, продуманны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ктуальные,</a:t>
            </a:r>
            <a:r>
              <a:rPr b="0" i="1" lang="ru-RU" sz="3200" spc="-1" strike="noStrike">
                <a:solidFill>
                  <a:srgbClr val="008080"/>
                </a:solidFill>
                <a:latin typeface="Times New Roman"/>
              </a:rPr>
              <a:t> решен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977400" y="453960"/>
            <a:ext cx="754776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«Лучше иногда задавать вопросы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чем знать наперёд все ответы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                         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ж. Тэрбер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ритическое мышление-это 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1066680" y="379440"/>
            <a:ext cx="779148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482400"/>
                </a:solidFill>
                <a:latin typeface="Times New Roman"/>
              </a:rPr>
              <a:t>Роль учителя при использовании ТКМ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826920" y="191628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авляет усилия учеников в определенное рус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лкивает различные сужд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ет условия, побуждающие к принятию самостоятельных реш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ет учащимся возможность самостоятельно делать выво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готавливает новые познавательные ситуации внутри уже существующ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066680" y="379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а ТК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069920" y="162864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хфазная структура урок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2868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1258920" y="249228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з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3203640" y="357336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мыс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5724360" y="4437000"/>
            <a:ext cx="2592720" cy="79236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1066680" y="212760"/>
            <a:ext cx="7772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Задачи фазы вызова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82400"/>
                </a:solidFill>
                <a:latin typeface="Times New Roman"/>
              </a:rPr>
              <a:t>( пробуждение интереса к предмету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туализиров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меющиеся у учащихся знания и смыслы в связи с изучаемым материал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буди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знавательный интерес к изучаемому материал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чащимся самим определить направление в изучении те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1643040" y="3571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</a:rPr>
              <a:t>Используемые приемы на стадии «вызова»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1525320" y="2519280"/>
            <a:ext cx="5679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Корзина идей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Верные и неверные утверждения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Кластер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- «Покопаемся в памяти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- «Ассоциация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- «Понятийное колесо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- «Парная мозговая атака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1066680" y="81000"/>
            <a:ext cx="77662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Русский язык    3 клас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062000" y="2592360"/>
            <a:ext cx="776304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rebuchet MS"/>
              </a:rPr>
              <a:t>Тема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rebuchet MS"/>
              </a:rPr>
              <a:t>«Мягкий знак после шипящи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Trebuchet MS"/>
              </a:rPr>
              <a:t>на конце существительных женского род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rebuchet MS"/>
              </a:rPr>
              <a:t>Фаза выз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108000" y="792000"/>
            <a:ext cx="8712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rebuchet MS"/>
              </a:rPr>
              <a:t>Что посееш * , то и пожнёш*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3635280" y="519120"/>
            <a:ext cx="49690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Ь                   Ь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46280" y="4029120"/>
            <a:ext cx="839772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rebuchet MS"/>
              </a:rPr>
              <a:t>Хорошую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Trebuchet MS"/>
              </a:rPr>
              <a:t>речь хорошо и слушат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58800" y="2592360"/>
            <a:ext cx="761040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rebuchet MS"/>
              </a:rPr>
              <a:t>Повторенье – мать учень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9:33:14Z</dcterms:created>
  <dc:creator>Ирландец</dc:creator>
  <dc:description/>
  <dc:language>en-US</dc:language>
  <cp:lastModifiedBy>Ирина</cp:lastModifiedBy>
  <dcterms:modified xsi:type="dcterms:W3CDTF">2019-01-26T02:29:15Z</dcterms:modified>
  <cp:revision>143</cp:revision>
  <dc:subject/>
  <dc:title>ТЕХНОЛОГИЯ РАЗВИТИЯ КРИТИЧЕСКОГО МЫШЛЕНИЯ</dc:title>
</cp:coreProperties>
</file>