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deti-66.r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российский интернет-конкурс "Детский исследовательский проект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FF1D-5604-4C44-9710-769A6F874E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российский интернет-конкурс "Детский исследовательский проект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Верхний колонтитул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deti-66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6438-3710-45DC-B564-17B8BE2B1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24CE-7E89-4A04-9AF4-5368DFAE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9DBF-2E14-4249-AE5F-EB57CF4BB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AD37-FE49-4DD8-AAFE-6EC2E09E7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933A-57F0-4A4F-ACD6-47C212CB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DC42-4AE6-4CCE-AD8D-F1676499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5827-0E1B-4E23-BAA1-14B3D20A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B85A-FBDF-4B26-B742-A89995C3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DD9B-B1DB-448F-B82E-364061E9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42FC-C2F1-4524-9F94-BE3366C3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AB48-8134-4124-8841-59E7E7EA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EC5F-A3D1-4B17-A338-AB569FAF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59E4-E546-458D-8C17-EC1D5FCC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7022-D823-4A26-820D-F802F4C1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D6B2-42A2-4119-83EF-D0B244D8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8366-14FD-4CBF-B6C9-E97307813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95C6-EE9E-4503-9A54-D5809E8F7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3BE86-7A90-4084-B7A3-1B3939B2F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E9C13-6848-438B-B9C3-830D40F6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A77EF-AA72-4324-B553-B189ED80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2AF07-8392-47CF-A7CB-5C669CFA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5DDC4-2BC4-4312-9200-A794B068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07A3-B9B1-4D03-826E-38857311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336F9-40C8-4A1B-8863-9CDADCB1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8008A-0B13-4944-B1FD-DF93EDED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E2345-6600-40EC-B352-54CEC178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01E5B-53DE-4618-BAA6-95C25A49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96736-FCEC-4002-93F4-CC69FE02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156FD-6C9D-4FC8-B13D-821BB5A12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E3A87-8E6F-4DA8-AD48-6492AD40E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62D324-0513-48A5-BEB1-BBE922DE8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4F772F-EF5B-46DD-BC29-29F30B2B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998E80-1987-4C9B-A72A-1ABBD240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E4A2-2E0B-4D67-8B43-6767C1BC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FC4CF3-B59A-4178-8533-D5207F4C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BA06F7-5222-4974-B6CF-2C3E34EE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E10232-C590-42C1-B535-1C81AE09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889241-AFFF-4DFC-A6E7-94B81A3B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4B5695-B204-4C0C-920A-B7F3652C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6D7FB4-EC5B-4FCA-8333-CFF6FE58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84549C-92A2-4C15-819D-5CB58713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2FF791-5CDA-4126-AFD1-0A1D0F301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047DEC-0001-4DC9-8FE1-10BD453B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993E1B-BA59-48A6-A9BE-19B162D97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BEE3-BB6A-4DA6-8D2E-677B5515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150C12-0E1A-4FAE-8885-4C2533FF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805791-592A-424F-B18B-2369EA8C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A4C2BA-CD01-4ABB-8CBC-5B4973D3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4D3785-ADA4-4024-8D29-FF861835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D20977-FEB6-4B40-9479-ACA09EE0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C4915B-5418-45C3-B143-441EAA41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5627F8-03D3-4D2E-AFD2-4B72B77C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6D8393-C086-4D11-86D3-F66C1DDC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F5F3BE-49B8-4535-8A8A-98FBEA64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C8572F-951A-4EC4-87EC-064D8C549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B4DD-A82E-45C7-B69E-446D71B3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F2780A-3928-4C59-A28F-B826D3C57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AD52-283B-457F-8707-E8806E6D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8053-FA08-42AC-82FD-3D3BE31C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3FEE-0355-47E8-B89E-2CB0E468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144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2960" indent="-18288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584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2652-65C2-47E0-B835-C343EAEA8702}" type="datetime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Всероссийский интернет-конкурс "Детский исследовательский проект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DEE1-CBD8-490B-BD61-B4A87DDABCE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144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2960" indent="-18288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584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F91E-E98E-4508-A4D3-953C21F3F65B}" type="datetime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Всероссийский интернет-конкурс "Детский исследовательский проект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350E-2E4A-48AA-8EF8-DF937645786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144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2960" indent="-18288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584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1328-2CA5-4941-AAF8-6E1C35CA15B1}" type="datetime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Всероссийский интернет-конкурс "Детский исследовательский проект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D15B-F2D3-4909-B61D-25D6E16B4E2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144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2960" indent="-18288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584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BF3A-24F3-4F88-9F0A-B629C0D3114C}" type="datetime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E330-99E7-4758-8C1C-FA10BAF51A9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Всероссийский интернет-конкурс "Детский исследовательский проект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144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2960" indent="-18288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584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6538-7AB7-440A-90A4-5826BEF332DA}" type="datetime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34BE-662B-40EF-94B7-3AB989CDC02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Всероссийский интернет-конкурс "Детский исследовательский проект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56880" y="785880"/>
            <a:ext cx="6000840" cy="714240"/>
          </a:xfrm>
          <a:prstGeom prst="rect">
            <a:avLst/>
          </a:prstGeom>
          <a:solidFill>
            <a:srgbClr val="7fd13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ИССЛЕДОВАТЕЛЬСКИЙ  ПРОЕКТ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2714400" y="4214880"/>
            <a:ext cx="6143400" cy="1714320"/>
          </a:xfrm>
          <a:prstGeom prst="rect">
            <a:avLst/>
          </a:prstGeom>
          <a:solidFill>
            <a:srgbClr val="7fd13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Ученики 2 класс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уководитель: Афанасьева А.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Подзаголовок 4"/>
          <p:cNvSpPr/>
          <p:nvPr/>
        </p:nvSpPr>
        <p:spPr>
          <a:xfrm>
            <a:off x="2214720" y="2214720"/>
            <a:ext cx="6215040" cy="1371600"/>
          </a:xfrm>
          <a:prstGeom prst="rect">
            <a:avLst/>
          </a:prstGeom>
          <a:solidFill>
            <a:srgbClr val="b2e389"/>
          </a:solidFill>
          <a:ln w="25560">
            <a:solidFill>
              <a:srgbClr val="738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Можно  ли  вырастить  фасоль  осенью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Нижний колонтитул 6"/>
          <p:cNvSpPr/>
          <p:nvPr/>
        </p:nvSpPr>
        <p:spPr>
          <a:xfrm>
            <a:off x="2428920" y="6215040"/>
            <a:ext cx="54878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Нижний колонтитул 6"/>
          <p:cNvSpPr/>
          <p:nvPr/>
        </p:nvSpPr>
        <p:spPr>
          <a:xfrm>
            <a:off x="3857760" y="214200"/>
            <a:ext cx="2714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714240" y="1356840"/>
            <a:ext cx="77155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9 ноября  (1-й день)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– подготовили  почву  и  замочили  семена  фасол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10 ноября (2-й день)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– семена набухли, и начал расти  корешок. Поместили  проросшие  семена  в  почву,  полили  водой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11 ноября (3-й день)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остк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бились  сквозь  почв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13 ноября (4-й день)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явились  первые  листочк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85880" y="500040"/>
            <a:ext cx="7143840" cy="714240"/>
          </a:xfrm>
          <a:prstGeom prst="rect">
            <a:avLst/>
          </a:prstGeom>
          <a:solidFill>
            <a:srgbClr val="7fd13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ДНЕВНИК  ИССЛЕДОВАНИЯ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02" name="Нижний колонтитул 5"/>
          <p:cNvSpPr/>
          <p:nvPr/>
        </p:nvSpPr>
        <p:spPr>
          <a:xfrm>
            <a:off x="1785960" y="5929200"/>
            <a:ext cx="5500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5435640" y="2997360"/>
            <a:ext cx="1584360" cy="16556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"/>
          <p:cNvPicPr/>
          <p:nvPr/>
        </p:nvPicPr>
        <p:blipFill>
          <a:blip r:embed="rId2"/>
          <a:stretch/>
        </p:blipFill>
        <p:spPr>
          <a:xfrm>
            <a:off x="7236000" y="2997360"/>
            <a:ext cx="1296720" cy="16477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"/>
          <p:cNvPicPr/>
          <p:nvPr/>
        </p:nvPicPr>
        <p:blipFill>
          <a:blip r:embed="rId3"/>
          <a:stretch/>
        </p:blipFill>
        <p:spPr>
          <a:xfrm>
            <a:off x="6156360" y="4941720"/>
            <a:ext cx="15256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571680"/>
            <a:ext cx="81154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endParaRPr b="0" lang="en-US" sz="27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42600" y="1213920"/>
            <a:ext cx="728172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Цель  проекта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 вырастить  фасоль  осенью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ывод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разрешая  поставленную  в  проекте  проблему,  мы  выяснили,  что  есть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3 основные группы  растений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стения длинного  светового  дня:  горох, картофель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стения  короткого  светового  дня:  фасоль, кукуруз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йтральные  растения: томаты, гречих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езультат - растения  выросли  и  дали   плоды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Заголовок 5"/>
          <p:cNvSpPr/>
          <p:nvPr/>
        </p:nvSpPr>
        <p:spPr>
          <a:xfrm>
            <a:off x="642960" y="500040"/>
            <a:ext cx="7429320" cy="642960"/>
          </a:xfrm>
          <a:prstGeom prst="rect">
            <a:avLst/>
          </a:prstGeom>
          <a:solidFill>
            <a:srgbClr val="7fd13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Результаты 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Нижний колонтитул 5"/>
          <p:cNvSpPr/>
          <p:nvPr/>
        </p:nvSpPr>
        <p:spPr>
          <a:xfrm>
            <a:off x="1928880" y="5857920"/>
            <a:ext cx="55008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928440" y="1714320"/>
            <a:ext cx="742932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just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остав проектной групп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 algn="just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ченики  2 «б» класса  МБОУ «Мужевская СОШ имени Н.В.Архангельского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 algn="just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зраст учащихся - 9 л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 algn="just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уководитель проект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 algn="just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рпова Наталья Александровна, учитель начальных классов МБОУ «Мужевская СОШ им. Н.В.Архангельского», категория первая, педагогический стаж 15 л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42600" y="571680"/>
            <a:ext cx="7358040" cy="1071360"/>
          </a:xfrm>
          <a:prstGeom prst="rect">
            <a:avLst/>
          </a:prstGeom>
          <a:solidFill>
            <a:srgbClr val="7fd13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1" i="1" lang="ru-RU" sz="2900" spc="-1" strike="noStrike">
                <a:solidFill>
                  <a:srgbClr val="000000"/>
                </a:solidFill>
                <a:latin typeface="Century Schoolbook"/>
              </a:rPr>
              <a:t>ИНФОРМАЦИЯ ОБ АВТОРЕ</a:t>
            </a:r>
            <a:br>
              <a:rPr sz="2900"/>
            </a:br>
            <a:endParaRPr b="0" lang="en-US" sz="29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2" name="Нижний колонтитул 5"/>
          <p:cNvSpPr/>
          <p:nvPr/>
        </p:nvSpPr>
        <p:spPr>
          <a:xfrm>
            <a:off x="1857240" y="6215040"/>
            <a:ext cx="53578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85520" y="500040"/>
            <a:ext cx="7467480" cy="797040"/>
          </a:xfrm>
          <a:prstGeom prst="rect">
            <a:avLst/>
          </a:prstGeom>
          <a:solidFill>
            <a:srgbClr val="7fd13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СПИСОК   ЛИТЕРАТУРЫ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28400" y="1500120"/>
            <a:ext cx="578628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Федотова О.Н., Трафимова Г.В., Трафимов С.А.. Учебник «Окружающий  мир»  2 класс, УМК «Перспективная  начальная  школа», -  Москва: Академкнига/Учебник», 2013 г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ttp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:/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www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vse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a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dacy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ru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asol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ttp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://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ir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rekrasen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et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/2010/11/01/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otoperiodizm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214680" y="1500120"/>
            <a:ext cx="25002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16" name="Рисунок 6" descr="D:\М А М А 2\Всероссийская  конференция  март 2011г\img004.jpg"/>
          <p:cNvPicPr/>
          <p:nvPr/>
        </p:nvPicPr>
        <p:blipFill>
          <a:blip r:embed="rId1"/>
          <a:stretch/>
        </p:blipFill>
        <p:spPr>
          <a:xfrm>
            <a:off x="6357960" y="1571760"/>
            <a:ext cx="2000160" cy="2571480"/>
          </a:xfrm>
          <a:prstGeom prst="rect">
            <a:avLst/>
          </a:prstGeom>
          <a:ln w="0">
            <a:noFill/>
          </a:ln>
        </p:spPr>
      </p:pic>
      <p:sp>
        <p:nvSpPr>
          <p:cNvPr id="317" name="Нижний колонтитул 6"/>
          <p:cNvSpPr/>
          <p:nvPr/>
        </p:nvSpPr>
        <p:spPr>
          <a:xfrm>
            <a:off x="1785960" y="5929200"/>
            <a:ext cx="53578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714240" y="1285920"/>
            <a:ext cx="74678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тодический паспорт проект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5760" indent="-45576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блема и гипотез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5760" indent="-45576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Цели и задачи проект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5760" indent="-45576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лан выполнения проекта и предполагаемый результа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5760" indent="-45576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од работ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5760" indent="-45576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словия роста растен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5760" indent="-45576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невник исследов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5760" indent="-45576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езультаты проекта, общий выво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5760" indent="-45576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нформация об автор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5760" indent="-45576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исок литератур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5760" indent="-45576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5760" indent="-45576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5760" indent="-45576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5760" indent="-45576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5760" indent="-45576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1320" y="500040"/>
            <a:ext cx="7786440" cy="642960"/>
          </a:xfrm>
          <a:prstGeom prst="rect">
            <a:avLst/>
          </a:prstGeom>
          <a:solidFill>
            <a:srgbClr val="7fd13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СОДЕРЖАНИЕ</a:t>
            </a:r>
            <a:endParaRPr b="0" lang="en-US" sz="36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1" name="Нижний колонтитул 5"/>
          <p:cNvSpPr/>
          <p:nvPr/>
        </p:nvSpPr>
        <p:spPr>
          <a:xfrm>
            <a:off x="1928880" y="6072120"/>
            <a:ext cx="585792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768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857160" y="2071800"/>
            <a:ext cx="70675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 содержанию – монопредметный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предмет - окружающий  мир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 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 форме организации – коллективный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 срокам выполнения – долгосрочный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 результатам выполнения –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следовательск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4" name="Заголовок 5"/>
          <p:cNvSpPr/>
          <p:nvPr/>
        </p:nvSpPr>
        <p:spPr>
          <a:xfrm>
            <a:off x="500040" y="642960"/>
            <a:ext cx="7429680" cy="857160"/>
          </a:xfrm>
          <a:prstGeom prst="rect">
            <a:avLst/>
          </a:prstGeom>
          <a:solidFill>
            <a:srgbClr val="7fd13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МЕТОДИЧЕСКИЙ  ПАСПОРТ 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" descr="фасоль обыкновенная (Phaseolus vulgaris), рисунок, картинка"/>
          <p:cNvPicPr/>
          <p:nvPr/>
        </p:nvPicPr>
        <p:blipFill>
          <a:blip r:embed="rId1"/>
          <a:stretch/>
        </p:blipFill>
        <p:spPr>
          <a:xfrm>
            <a:off x="6143760" y="3786120"/>
            <a:ext cx="1500120" cy="2197080"/>
          </a:xfrm>
          <a:prstGeom prst="rect">
            <a:avLst/>
          </a:prstGeom>
          <a:ln w="0">
            <a:noFill/>
          </a:ln>
        </p:spPr>
      </p:pic>
      <p:sp>
        <p:nvSpPr>
          <p:cNvPr id="276" name="Нижний колонтитул 6"/>
          <p:cNvSpPr/>
          <p:nvPr/>
        </p:nvSpPr>
        <p:spPr>
          <a:xfrm>
            <a:off x="1785960" y="6072120"/>
            <a:ext cx="5500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5880" y="500040"/>
            <a:ext cx="521496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МК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ЕРСПЕКТИВНАЯ   НАЧАЛЬНАЯ   ШКОЛА»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ЧЕБНИК  «ОКРУЖАЮЩИЙ  МИР»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2  КЛАСС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ЕМА: «ПИТАНИЕ РАСТЕНИЙ». </a:t>
            </a:r>
            <a:br>
              <a:rPr sz="2400"/>
            </a:br>
            <a:r>
              <a:rPr b="1" lang="ru-RU" sz="2400" spc="-1" strike="noStrike">
                <a:solidFill>
                  <a:srgbClr val="4e5b6f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278" name="Рисунок 3" descr="D:\М А М А 2\Всероссийская  конференция  март 2011г\img004.jpg"/>
          <p:cNvPicPr/>
          <p:nvPr/>
        </p:nvPicPr>
        <p:blipFill>
          <a:blip r:embed="rId1"/>
          <a:stretch/>
        </p:blipFill>
        <p:spPr>
          <a:xfrm>
            <a:off x="6143760" y="714240"/>
            <a:ext cx="1857240" cy="2305080"/>
          </a:xfrm>
          <a:prstGeom prst="rect">
            <a:avLst/>
          </a:prstGeom>
          <a:ln w="0">
            <a:noFill/>
          </a:ln>
        </p:spPr>
      </p:pic>
      <p:pic>
        <p:nvPicPr>
          <p:cNvPr id="279" name="Содержимое 4" descr="D:\М А М А 2\Всероссийская  конференция  март 2011г\img006.jpg"/>
          <p:cNvPicPr/>
          <p:nvPr/>
        </p:nvPicPr>
        <p:blipFill>
          <a:blip r:embed="rId2"/>
          <a:stretch/>
        </p:blipFill>
        <p:spPr>
          <a:xfrm>
            <a:off x="785880" y="3429000"/>
            <a:ext cx="7429320" cy="2379600"/>
          </a:xfrm>
          <a:prstGeom prst="rect">
            <a:avLst/>
          </a:prstGeom>
          <a:ln w="0">
            <a:noFill/>
          </a:ln>
        </p:spPr>
      </p:pic>
      <p:sp>
        <p:nvSpPr>
          <p:cNvPr id="280" name="Нижний колонтитул 5"/>
          <p:cNvSpPr/>
          <p:nvPr/>
        </p:nvSpPr>
        <p:spPr>
          <a:xfrm>
            <a:off x="2000160" y="6215040"/>
            <a:ext cx="59295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56840" y="714240"/>
            <a:ext cx="76150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f6d19"/>
                </a:solidFill>
                <a:latin typeface="Century Schoolbook"/>
              </a:rPr>
              <a:t>   </a:t>
            </a:r>
            <a:r>
              <a:rPr b="1" lang="ru-RU" sz="3000" spc="-1" strike="noStrike">
                <a:solidFill>
                  <a:srgbClr val="3f6d19"/>
                </a:solidFill>
                <a:latin typeface="Century Schoolbook"/>
              </a:rPr>
              <a:t>Проблема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f6d19"/>
                </a:solidFill>
                <a:latin typeface="Century Schoolbook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а  экскурсии мы  заметили, что с  наступлением  осени  отмирают  все  наземные части  травянистых растений. Так растения готовятся  к  зиме. Возник  вопрос:  «Можно  ли в  дома искусственно  создать  условия  для  роста  и  развития  травянистых  растений  осенью?»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f6d19"/>
                </a:solidFill>
                <a:latin typeface="Century Schoolbook"/>
              </a:rPr>
              <a:t>Гипотеза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Среди  большого  разнообразия  растений есть  такие,  которые  не  столь  требовательны  к  долготе  светового  дня и  могут  вырасти  в  условиях  «искусственного  лета»  в  осеннее - зимний  период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Нижний колонтитул 4"/>
          <p:cNvSpPr/>
          <p:nvPr/>
        </p:nvSpPr>
        <p:spPr>
          <a:xfrm>
            <a:off x="2000160" y="6072120"/>
            <a:ext cx="5214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999720" y="642960"/>
            <a:ext cx="7139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57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Цель  проект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опытным  путём  установить вырастет  ли  фасоль  осень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7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Задачи  проекта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157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Уточнение   условий  для  прорастания  растен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157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иск информации о растениях менее требовательных   к  долготе  светового  дн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70000"/>
              <a:buFont typeface="Calibri"/>
              <a:buChar char="•"/>
              <a:tabLst>
                <a:tab algn="l" pos="157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Выращивание  фасоли  в    условиях  искусственного  лет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57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Объект  исследования: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фасол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7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едмет  исследования: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условия  роста  растен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7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157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157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Нижний колонтитул 4"/>
          <p:cNvSpPr/>
          <p:nvPr/>
        </p:nvSpPr>
        <p:spPr>
          <a:xfrm>
            <a:off x="1785960" y="5929200"/>
            <a:ext cx="5715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57200" y="1285560"/>
            <a:ext cx="79725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точнить  условия  роста растен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знать о растениях менее требовательных к  долготе  светового  дн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растить  семена  фасоли и поместить  их в  почву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блюдать  за  развитием рост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ледить  за  соблюдением  услов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ести  дневник  исследов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лучить  конечный  результа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делать выво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едполагаемый результат: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ращенное из  семени растение фасол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00080" y="500040"/>
            <a:ext cx="7143840" cy="714240"/>
          </a:xfrm>
          <a:prstGeom prst="rect">
            <a:avLst/>
          </a:prstGeom>
          <a:solidFill>
            <a:srgbClr val="7fd13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ПЛАН ВЫПОЛНЕНИЯ  ПРОЕКТА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7" name="Нижний колонтитул 5"/>
          <p:cNvSpPr/>
          <p:nvPr/>
        </p:nvSpPr>
        <p:spPr>
          <a:xfrm>
            <a:off x="1643040" y="6286680"/>
            <a:ext cx="5500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28400" y="571680"/>
            <a:ext cx="778644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28520"/>
            <a:ext cx="797256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уроках окружающего мира  вспомнили условия необходимые для  нормального  роста растен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сети интернет нашли информацию о 3 основных группах растений по отношению к  долготе  светового  дн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 9 ноября по 13 ноября провели исследование по проращиванию фасол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делали вывод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Заголовок 5"/>
          <p:cNvSpPr/>
          <p:nvPr/>
        </p:nvSpPr>
        <p:spPr>
          <a:xfrm>
            <a:off x="928800" y="714240"/>
            <a:ext cx="7072200" cy="797040"/>
          </a:xfrm>
          <a:prstGeom prst="rect">
            <a:avLst/>
          </a:prstGeom>
          <a:solidFill>
            <a:srgbClr val="7fd13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ХОД 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Нижний колонтитул 5"/>
          <p:cNvSpPr/>
          <p:nvPr/>
        </p:nvSpPr>
        <p:spPr>
          <a:xfrm>
            <a:off x="1500120" y="6000840"/>
            <a:ext cx="54291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Содержимое 3" descr="фасоль обыкновенная (Phaseolus vulgaris), рисунок, картинка"/>
          <p:cNvPicPr/>
          <p:nvPr/>
        </p:nvPicPr>
        <p:blipFill>
          <a:blip r:embed="rId1"/>
          <a:stretch/>
        </p:blipFill>
        <p:spPr>
          <a:xfrm>
            <a:off x="3143160" y="2143080"/>
            <a:ext cx="2428920" cy="3786120"/>
          </a:xfrm>
          <a:prstGeom prst="rect">
            <a:avLst/>
          </a:prstGeom>
          <a:ln w="0">
            <a:noFill/>
          </a:ln>
        </p:spPr>
      </p:pic>
      <p:sp>
        <p:nvSpPr>
          <p:cNvPr id="293" name="Овал 4"/>
          <p:cNvSpPr/>
          <p:nvPr/>
        </p:nvSpPr>
        <p:spPr>
          <a:xfrm>
            <a:off x="571680" y="2214720"/>
            <a:ext cx="2428560" cy="714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возд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Овал 5"/>
          <p:cNvSpPr/>
          <p:nvPr/>
        </p:nvSpPr>
        <p:spPr>
          <a:xfrm>
            <a:off x="642960" y="3500280"/>
            <a:ext cx="2428920" cy="714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вла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Овал 6"/>
          <p:cNvSpPr/>
          <p:nvPr/>
        </p:nvSpPr>
        <p:spPr>
          <a:xfrm>
            <a:off x="642960" y="4857840"/>
            <a:ext cx="2428920" cy="714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оч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32-конечная звезда 7"/>
          <p:cNvSpPr/>
          <p:nvPr/>
        </p:nvSpPr>
        <p:spPr>
          <a:xfrm>
            <a:off x="5715000" y="1643040"/>
            <a:ext cx="2357280" cy="2143080"/>
          </a:xfrm>
          <a:custGeom>
            <a:avLst/>
            <a:gdLst>
              <a:gd name="textAreaLeft" fmla="*/ 538200 w 2357280"/>
              <a:gd name="textAreaRight" fmla="*/ 1819080 w 2357280"/>
              <a:gd name="textAreaTop" fmla="*/ 489240 h 2143080"/>
              <a:gd name="textAreaBottom" fmla="*/ 1653840 h 214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eb80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лне-чный  с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Овал 8" descr=""/>
          <p:cNvPicPr/>
          <p:nvPr/>
        </p:nvPicPr>
        <p:blipFill>
          <a:blip r:embed="rId2"/>
          <a:stretch/>
        </p:blipFill>
        <p:spPr>
          <a:xfrm>
            <a:off x="5913360" y="4767120"/>
            <a:ext cx="2462400" cy="7495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00080" y="571680"/>
            <a:ext cx="6858000" cy="653760"/>
          </a:xfrm>
          <a:prstGeom prst="rect">
            <a:avLst/>
          </a:prstGeom>
          <a:solidFill>
            <a:srgbClr val="7fd13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УСЛОВИЯ  РОСТА РАСТЕНИЙ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9" name="Нижний колонтитул 11"/>
          <p:cNvSpPr/>
          <p:nvPr/>
        </p:nvSpPr>
        <p:spPr>
          <a:xfrm>
            <a:off x="2000160" y="6072120"/>
            <a:ext cx="55720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3:39:08Z</dcterms:created>
  <dc:creator>Андрей</dc:creator>
  <dc:description/>
  <dc:language>en-US</dc:language>
  <cp:lastModifiedBy>Apple</cp:lastModifiedBy>
  <dcterms:modified xsi:type="dcterms:W3CDTF">2019-01-27T13:36:33Z</dcterms:modified>
  <cp:revision>324</cp:revision>
  <dc:subject/>
  <dc:title>Слайд 1</dc:title>
</cp:coreProperties>
</file>