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eti-66.r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598C-BE96-485B-B4B0-AC5944CC45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Верхний колонтитул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eti-66.r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4F4-01DB-41B3-BE5D-25C30219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BDE-50A7-4D3D-AB81-930EF863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A68-7DAC-40B9-8CC8-EABBCDDF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EFF-F3E5-471E-9A77-E134AFED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3A1E-C638-4815-A359-5FFA8FA7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6428-7E02-417B-BFF3-703A1B20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EF1F-8CE4-4A41-B0F0-7EDDAA5D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51C8-749B-4EC5-894A-C3DA11DA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9373-CC86-41DF-BD95-3ADB0EA8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B7D1-2A8A-4543-84E0-BD1E16CE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7EF2-53AD-4E0F-BB41-44F0FB09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147-74FD-472A-A7D2-D7C60A4C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55AB-A55F-4C71-8584-7279470B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3BE9-1682-4898-9379-51D29AB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0452-51A8-4799-B216-65859FCF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4EFF-3E55-4084-BA60-A0659303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2055-633A-4FBC-819B-26C8C1FB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7ECB5-9D88-4F5E-A893-2565407F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AA3FB-5D08-4CD8-BE57-E0A6F4E3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0CF1-0DD6-4D05-8023-774B1580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57FE-12E5-41AB-9352-466B80DA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603E-2FFA-45C1-AC7D-7B8C2FA9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ABB-C3EF-4F4D-9E8A-1A8A115E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A7A1-BEB7-4D6E-91CC-A02CC2A1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C3098-A50A-4803-A77B-27A28137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6399-B252-4FC0-8161-3318BF10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2025-96FE-4244-B4CC-B9822392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E67E-AC8D-43D8-AAE3-3787E4FB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2D2F-EA79-4457-96DD-1396AD05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4FEB9-A1D1-435F-AD81-4897977D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BD758-B3CC-4C03-8736-A0FA557A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7553F4-E57A-481A-9D52-F359E7F4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4BD51-8285-4179-9096-00977130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E42-12F3-4C93-AD55-C7D7B6D3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D313A-6AD5-4DB4-89E8-7C0CFA60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B3765-7988-4D6C-96A4-E899931E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7866A-1AB9-4C31-87BB-DEFC304E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6BF7A-6490-470D-88CB-8C532260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B5615-EE72-4BDF-9E03-46D9CDF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BC337-B18D-4D86-9A43-8C96CC6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AC854-0B00-449E-BB9E-9BB96DCA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D993F-D869-42B8-8D2A-36F639F3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D055E4-3772-4961-8FE5-412EC1DB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173E82-01DC-4465-9CE9-8480707D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93B-DCA3-4850-ABCE-AEC5CCCB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038D8-DB05-468B-AF6F-7F31CFC7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AD016-DEF6-4FF6-BA77-44C151A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ED5854-1D08-48DF-B995-772CAA2A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CE2FE-E8CB-42FA-A464-9DC6C0E5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2E14AA-D65B-4C44-909D-7F98DC8E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B7759-8B46-4E4C-87EE-F936023D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B0C86-C07E-49B0-90E1-3BA2A996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53A53-A0E8-4F77-B6A2-0551649E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3120D-8854-4204-8A06-630BD2F1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BF04A1-9883-415E-A6BE-861A10BC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444-4971-4F93-ADB6-113FCF39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91CE9-97D5-4258-8086-BE5B1965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C46-A776-4099-B326-E0443B34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8EB-2516-4F11-A011-56698C0E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CA8-C773-47B8-9E49-9201AC33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1447-1DE9-49F3-8C97-2B2B0406C61A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0ED2-FEC5-4918-BC7D-FE2DEB484E9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15C2-A7B8-4873-A8B5-2829C817307A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202E-A841-49DA-83CF-0B44C6445C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0E42-9196-4642-BA99-F58A5E0E758D}" type="datetime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34C1-E8CE-48B7-A9E4-62C0D27A1B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0552-6D53-4DE7-9395-3EBC111D3FC2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CB74-591F-4F90-B7E3-ECA1568ECD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144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2960" indent="-18288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584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852B-3C67-4598-B74D-693E4C0E1F61}" type="datetime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04D6-BA24-483D-B182-4519328FEDD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Всероссийский интернет-конкурс "Детский исследовательский проект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6880" y="785880"/>
            <a:ext cx="6000840" cy="7142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entury Schoolbook"/>
              </a:rPr>
              <a:t>ИССЛЕДОВАТЕЛЬСКИЙ  ПРОЕКТ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714400" y="4214880"/>
            <a:ext cx="6143400" cy="171432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Ученики 2 кла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уководитель: Афанасьева А.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Подзаголовок 4"/>
          <p:cNvSpPr/>
          <p:nvPr/>
        </p:nvSpPr>
        <p:spPr>
          <a:xfrm>
            <a:off x="2214720" y="2214720"/>
            <a:ext cx="6215040" cy="1371600"/>
          </a:xfrm>
          <a:prstGeom prst="rect">
            <a:avLst/>
          </a:prstGeom>
          <a:solidFill>
            <a:srgbClr val="b2e389"/>
          </a:solidFill>
          <a:ln w="255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Schoolbook"/>
              </a:rPr>
              <a:t>Можно  ли  вырастить  фасоль  осенью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6"/>
          <p:cNvSpPr/>
          <p:nvPr/>
        </p:nvSpPr>
        <p:spPr>
          <a:xfrm>
            <a:off x="2428920" y="6215040"/>
            <a:ext cx="5487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ижний колонтитул 6"/>
          <p:cNvSpPr/>
          <p:nvPr/>
        </p:nvSpPr>
        <p:spPr>
          <a:xfrm>
            <a:off x="3857760" y="214200"/>
            <a:ext cx="27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714240" y="1356840"/>
            <a:ext cx="77155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9 ноября  (1-й день)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подготовили  почву  и  замочили  семена  фасол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0 ноября (2-й день)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– семена набухли, и начал расти  корешок. Поместили  проросшие  семена  в  почву,  полили  водо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1 ноября (3-й день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ост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бились  сквозь  почв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13 ноября (4-й день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явились  первые  листочк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143840" cy="7142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ДНЕВНИК  ИССЛЕДОВАНИЯ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2" name="Нижний колонтитул 5"/>
          <p:cNvSpPr/>
          <p:nvPr/>
        </p:nvSpPr>
        <p:spPr>
          <a:xfrm>
            <a:off x="1785960" y="5929200"/>
            <a:ext cx="5500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5435640" y="2997360"/>
            <a:ext cx="1584360" cy="1655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7236000" y="2997360"/>
            <a:ext cx="1296720" cy="1647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3"/>
          <a:stretch/>
        </p:blipFill>
        <p:spPr>
          <a:xfrm>
            <a:off x="6156360" y="4941720"/>
            <a:ext cx="1525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115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42600" y="1213920"/>
            <a:ext cx="72817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Цель  проекта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 вырастить  фасоль  осенью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ыво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азрешая  поставленную  в  проекте  проблему,  мы  выяснили,  что  есть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 основные группы  растений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тения длинного  светового  дня:  горох, картоф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тения  короткого  светового  дня:  фасоль, кукуруз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йтральные  растения: томаты, гречих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 - растения  выросли  и  дали   плод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Заголовок 5"/>
          <p:cNvSpPr/>
          <p:nvPr/>
        </p:nvSpPr>
        <p:spPr>
          <a:xfrm>
            <a:off x="642960" y="500040"/>
            <a:ext cx="7429320" cy="6429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Результаты 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5"/>
          <p:cNvSpPr/>
          <p:nvPr/>
        </p:nvSpPr>
        <p:spPr>
          <a:xfrm>
            <a:off x="1928880" y="5857920"/>
            <a:ext cx="5500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928440" y="1714320"/>
            <a:ext cx="74293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став проектной групп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ники  2 «б» класса  МБОУ «Мужевская СОШ имени Н.В.Архангельског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зраст учащихся - 9 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уководитель проек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 algn="just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рпова Наталья Александровна, учитель начальных классов МБОУ «Мужевская СОШ им. Н.В.Архангельского», категория первая, педагогический стаж 15 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42600" y="571680"/>
            <a:ext cx="7358040" cy="10713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Century Schoolbook"/>
              </a:rPr>
              <a:t>ИНФОРМАЦИЯ ОБ АВТОРЕ</a:t>
            </a:r>
            <a:br>
              <a:rPr sz="2900"/>
            </a:br>
            <a:endParaRPr b="0" lang="en-US" sz="29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Нижний колонтитул 5"/>
          <p:cNvSpPr/>
          <p:nvPr/>
        </p:nvSpPr>
        <p:spPr>
          <a:xfrm>
            <a:off x="1857240" y="6215040"/>
            <a:ext cx="5357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85520" y="500040"/>
            <a:ext cx="7467480" cy="7970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СПИСОК   ЛИТЕРАТУРЫ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28400" y="1500120"/>
            <a:ext cx="57862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Федотова О.Н., Трафимова Г.В., Трафимов С.А.. Учебник «Окружающий  мир»  2 класс, УМК «Перспективная  начальная  школа», -  Москва: Академкнига/Учебник», 2013 г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ww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vse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acy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aso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tp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:/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i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ekrasen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et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/2010/11/01/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otoperiodizm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214680" y="1500120"/>
            <a:ext cx="25002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16" name="Рисунок 6" descr="D:\М А М А 2\Всероссийская  конференция  март 2011г\img004.jpg"/>
          <p:cNvPicPr/>
          <p:nvPr/>
        </p:nvPicPr>
        <p:blipFill>
          <a:blip r:embed="rId1"/>
          <a:stretch/>
        </p:blipFill>
        <p:spPr>
          <a:xfrm>
            <a:off x="6357960" y="1571760"/>
            <a:ext cx="2000160" cy="2571480"/>
          </a:xfrm>
          <a:prstGeom prst="rect">
            <a:avLst/>
          </a:prstGeom>
          <a:ln w="0">
            <a:noFill/>
          </a:ln>
        </p:spPr>
      </p:pic>
      <p:sp>
        <p:nvSpPr>
          <p:cNvPr id="317" name="Нижний колонтитул 6"/>
          <p:cNvSpPr/>
          <p:nvPr/>
        </p:nvSpPr>
        <p:spPr>
          <a:xfrm>
            <a:off x="1785960" y="5929200"/>
            <a:ext cx="53578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14240" y="1285920"/>
            <a:ext cx="7467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ческий паспорт прое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блема и гипотез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и и задачи проек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лан выполнения проекта и предполагаемый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абот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ловия роста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невник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зультаты проекта, общий выв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формация об автор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исок литерату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5760" indent="-45576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500040"/>
            <a:ext cx="7786440" cy="6429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entury Schoolbook"/>
              </a:rPr>
              <a:t>СОДЕРЖАНИЕ</a:t>
            </a:r>
            <a:endParaRPr b="0" lang="en-US" sz="36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1" name="Нижний колонтитул 5"/>
          <p:cNvSpPr/>
          <p:nvPr/>
        </p:nvSpPr>
        <p:spPr>
          <a:xfrm>
            <a:off x="1928880" y="6072120"/>
            <a:ext cx="5857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7686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57160" y="2071800"/>
            <a:ext cx="70675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одержанию – монопредметный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предмет - окружающий  мир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форме организации – коллективны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рокам выполнения – долгосрочны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результатам выполнения –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следовательск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Заголовок 5"/>
          <p:cNvSpPr/>
          <p:nvPr/>
        </p:nvSpPr>
        <p:spPr>
          <a:xfrm>
            <a:off x="500040" y="642960"/>
            <a:ext cx="7429680" cy="8571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МЕТОДИЧЕСКИЙ  ПАСПОРТ 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фасоль обыкновенная (Phaseolus vulgaris), рисунок, картинка"/>
          <p:cNvPicPr/>
          <p:nvPr/>
        </p:nvPicPr>
        <p:blipFill>
          <a:blip r:embed="rId1"/>
          <a:stretch/>
        </p:blipFill>
        <p:spPr>
          <a:xfrm>
            <a:off x="6143760" y="3786120"/>
            <a:ext cx="1500120" cy="2197080"/>
          </a:xfrm>
          <a:prstGeom prst="rect">
            <a:avLst/>
          </a:prstGeom>
          <a:ln w="0">
            <a:noFill/>
          </a:ln>
        </p:spPr>
      </p:pic>
      <p:sp>
        <p:nvSpPr>
          <p:cNvPr id="276" name="Нижний колонтитул 6"/>
          <p:cNvSpPr/>
          <p:nvPr/>
        </p:nvSpPr>
        <p:spPr>
          <a:xfrm>
            <a:off x="1785960" y="6072120"/>
            <a:ext cx="55008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521496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ЕРСПЕКТИВНАЯ   НАЧАЛЬНАЯ   ШКОЛА»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ИК  «ОКРУЖАЮЩИЙ  МИР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2  КЛАС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: «ПИТАНИЕ РАСТЕНИЙ». </a:t>
            </a:r>
            <a:br>
              <a:rPr sz="2400"/>
            </a:br>
            <a:r>
              <a:rPr b="1" lang="ru-RU" sz="2400" spc="-1" strike="noStrike">
                <a:solidFill>
                  <a:srgbClr val="4e5b6f"/>
                </a:solidFill>
                <a:latin typeface="Century Schoolbook"/>
              </a:rPr>
              <a:t> </a:t>
            </a:r>
            <a:endParaRPr b="0" lang="en-US" sz="24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278" name="Рисунок 3" descr="D:\М А М А 2\Всероссийская  конференция  март 2011г\img004.jpg"/>
          <p:cNvPicPr/>
          <p:nvPr/>
        </p:nvPicPr>
        <p:blipFill>
          <a:blip r:embed="rId1"/>
          <a:stretch/>
        </p:blipFill>
        <p:spPr>
          <a:xfrm>
            <a:off x="6143760" y="714240"/>
            <a:ext cx="1857240" cy="2305080"/>
          </a:xfrm>
          <a:prstGeom prst="rect">
            <a:avLst/>
          </a:prstGeom>
          <a:ln w="0">
            <a:noFill/>
          </a:ln>
        </p:spPr>
      </p:pic>
      <p:pic>
        <p:nvPicPr>
          <p:cNvPr id="279" name="Содержимое 4" descr="D:\М А М А 2\Всероссийская  конференция  март 2011г\img006.jpg"/>
          <p:cNvPicPr/>
          <p:nvPr/>
        </p:nvPicPr>
        <p:blipFill>
          <a:blip r:embed="rId2"/>
          <a:stretch/>
        </p:blipFill>
        <p:spPr>
          <a:xfrm>
            <a:off x="785880" y="3429000"/>
            <a:ext cx="7429320" cy="2379600"/>
          </a:xfrm>
          <a:prstGeom prst="rect">
            <a:avLst/>
          </a:prstGeom>
          <a:ln w="0">
            <a:noFill/>
          </a:ln>
        </p:spPr>
      </p:pic>
      <p:sp>
        <p:nvSpPr>
          <p:cNvPr id="280" name="Нижний колонтитул 5"/>
          <p:cNvSpPr/>
          <p:nvPr/>
        </p:nvSpPr>
        <p:spPr>
          <a:xfrm>
            <a:off x="2000160" y="6215040"/>
            <a:ext cx="59295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714240"/>
            <a:ext cx="7615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   </a:t>
            </a: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Проблема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а  экскурсии мы  заметили, что с  наступлением  осени  отмирают  все  наземные части  травянистых растений. Так растения готовятся  к  зиме. Возник  вопрос:  «Можно  ли в  дома искусственно  создать  условия  для  роста  и  развития  травянистых  растений  осенью?»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f6d19"/>
                </a:solidFill>
                <a:latin typeface="Century Schoolbook"/>
              </a:rPr>
              <a:t>Гипотеза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реди  большого  разнообразия  растений есть  такие,  которые  не  столь  требовательны  к  долготе  светового  дня и  могут  вырасти  в  условиях  «искусственного  лета»  в  осеннее - зимний  перио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Нижний колонтитул 4"/>
          <p:cNvSpPr/>
          <p:nvPr/>
        </p:nvSpPr>
        <p:spPr>
          <a:xfrm>
            <a:off x="2000160" y="6072120"/>
            <a:ext cx="5214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999720" y="642960"/>
            <a:ext cx="7139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ль  проект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ытным  путём  установить вырастет  ли  фасоль  осень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дачи  проекта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точнение   условий  для  прорастания 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иск информации о растениях менее требовательных   к  долготе  светового 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Calibri"/>
              <a:buChar char="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ращивание  фасоли  в    условиях  искусственного  ле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ъект  исследования: 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асол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дмет  исследования: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овия  роста 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157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Нижний колонтитул 4"/>
          <p:cNvSpPr/>
          <p:nvPr/>
        </p:nvSpPr>
        <p:spPr>
          <a:xfrm>
            <a:off x="1785960" y="5929200"/>
            <a:ext cx="5715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1285560"/>
            <a:ext cx="79725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точнить  условия  роста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знать о растениях менее требовательных к  долготе  светового 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растить  семена  фасоли и поместить  их в  почв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блюдать  за  развитием рост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ледить  за  соблюдением  услов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ести  дневник  исследо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учить  конечный  результа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делать выв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едполагаемый результат: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ращенное из  семени растение фасо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0080" y="500040"/>
            <a:ext cx="7143840" cy="7142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ЛАН ВЫПОЛНЕНИЯ  ПРОЕКТА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Нижний колонтитул 5"/>
          <p:cNvSpPr/>
          <p:nvPr/>
        </p:nvSpPr>
        <p:spPr>
          <a:xfrm>
            <a:off x="1643040" y="6286680"/>
            <a:ext cx="5500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77864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28520"/>
            <a:ext cx="79725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уроках окружающего мира  вспомнили условия необходимые для  нормального  роста раст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сети интернет нашли информацию о 3 основных группах растений по отношению к  долготе  светового  дн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 9 ноября по 13 ноября провели исследование по проращиванию фасол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делали вывод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1440" indent="-27144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Заголовок 5"/>
          <p:cNvSpPr/>
          <p:nvPr/>
        </p:nvSpPr>
        <p:spPr>
          <a:xfrm>
            <a:off x="928800" y="714240"/>
            <a:ext cx="7072200" cy="79704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ХОД 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Нижний колонтитул 5"/>
          <p:cNvSpPr/>
          <p:nvPr/>
        </p:nvSpPr>
        <p:spPr>
          <a:xfrm>
            <a:off x="1500120" y="6000840"/>
            <a:ext cx="54291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Содержимое 3" descr="фасоль обыкновенная (Phaseolus vulgaris), рисунок, картинка"/>
          <p:cNvPicPr/>
          <p:nvPr/>
        </p:nvPicPr>
        <p:blipFill>
          <a:blip r:embed="rId1"/>
          <a:stretch/>
        </p:blipFill>
        <p:spPr>
          <a:xfrm>
            <a:off x="3143160" y="2143080"/>
            <a:ext cx="2428920" cy="3786120"/>
          </a:xfrm>
          <a:prstGeom prst="rect">
            <a:avLst/>
          </a:prstGeom>
          <a:ln w="0">
            <a:noFill/>
          </a:ln>
        </p:spPr>
      </p:pic>
      <p:sp>
        <p:nvSpPr>
          <p:cNvPr id="293" name="Овал 4"/>
          <p:cNvSpPr/>
          <p:nvPr/>
        </p:nvSpPr>
        <p:spPr>
          <a:xfrm>
            <a:off x="571680" y="2214720"/>
            <a:ext cx="242856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5"/>
          <p:cNvSpPr/>
          <p:nvPr/>
        </p:nvSpPr>
        <p:spPr>
          <a:xfrm>
            <a:off x="642960" y="3500280"/>
            <a:ext cx="2428920" cy="714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ла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6"/>
          <p:cNvSpPr/>
          <p:nvPr/>
        </p:nvSpPr>
        <p:spPr>
          <a:xfrm>
            <a:off x="642960" y="4857840"/>
            <a:ext cx="2428920" cy="714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оч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32-конечная звезда 7"/>
          <p:cNvSpPr/>
          <p:nvPr/>
        </p:nvSpPr>
        <p:spPr>
          <a:xfrm>
            <a:off x="5715000" y="1643040"/>
            <a:ext cx="2357280" cy="2143080"/>
          </a:xfrm>
          <a:custGeom>
            <a:avLst/>
            <a:gdLst>
              <a:gd name="textAreaLeft" fmla="*/ 538200 w 2357280"/>
              <a:gd name="textAreaRight" fmla="*/ 1819080 w 2357280"/>
              <a:gd name="textAreaTop" fmla="*/ 489240 h 2143080"/>
              <a:gd name="textAreaBottom" fmla="*/ 16538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eb80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лне-чный 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Овал 8" descr=""/>
          <p:cNvPicPr/>
          <p:nvPr/>
        </p:nvPicPr>
        <p:blipFill>
          <a:blip r:embed="rId2"/>
          <a:stretch/>
        </p:blipFill>
        <p:spPr>
          <a:xfrm>
            <a:off x="5913360" y="4767120"/>
            <a:ext cx="2462400" cy="74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6858000" cy="653760"/>
          </a:xfrm>
          <a:prstGeom prst="rect">
            <a:avLst/>
          </a:prstGeom>
          <a:solidFill>
            <a:srgbClr val="7fd13b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УСЛОВИЯ  РОСТА РАСТЕНИЙ</a:t>
            </a:r>
            <a:endParaRPr b="0" lang="en-US" sz="32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9" name="Нижний колонтитул 11"/>
          <p:cNvSpPr/>
          <p:nvPr/>
        </p:nvSpPr>
        <p:spPr>
          <a:xfrm>
            <a:off x="2000160" y="6072120"/>
            <a:ext cx="55720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3:39:08Z</dcterms:created>
  <dc:creator>Андрей</dc:creator>
  <dc:description/>
  <dc:language>en-US</dc:language>
  <cp:lastModifiedBy>Apple</cp:lastModifiedBy>
  <dcterms:modified xsi:type="dcterms:W3CDTF">2019-01-27T13:36:33Z</dcterms:modified>
  <cp:revision>324</cp:revision>
  <dc:subject/>
  <dc:title>Слайд 1</dc:title>
</cp:coreProperties>
</file>