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AD0-6629-4E02-B02F-B110BC04C5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F0A-594F-4DA6-99A9-2DD150EA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2E5-1CCC-427F-86FD-801354D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E65-C1B1-4615-9D5D-FF157C0A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412-0382-454C-A6DC-9CD2FA31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878-75E8-4E73-892A-07B35AF0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4201-0EBF-4089-A23C-3C6C20D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CE73-3FD8-4400-BCA0-DA0089E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B2A-BDC5-4F3E-944C-90DEFA9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D41-5B9B-4343-AE47-609B281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3C2-E416-4889-9CA5-D771BDA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1BF7-CE05-4AC7-98BA-3AF3E6F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137-F524-423F-A851-5387737C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9966-3999-401D-82A2-E8968E8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51F-3A62-47CC-85A5-056926C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791C-0F4D-42F0-94AB-F2B7BE0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5627-031A-44F7-A2BC-E06F3F8F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F72D-D280-483D-A8F0-56DBCA5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0F50-819B-44E3-A0E7-BBF235E1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CC21-B74F-49B2-9DE0-43BE5336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6681-D192-4E26-A700-45C80CE5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C3BF-A35B-47DA-B138-6ED68FC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77CE-6895-4D0D-87B3-5900ADE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B34-9551-47C5-945C-9EAE327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71D9-02DF-43A6-829A-76B273E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7A7D-1CEA-4007-A826-2984992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5C3A-2C03-456C-832B-2FDC80F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721D-3E6D-449B-AD4C-E946AB68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6554-D8B2-4414-90C8-7144BD1A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3447-49F6-465C-A8EA-1814A416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5434-42C2-4A9D-B426-845FBE82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DA2BA-CF22-482F-9695-DE69D12D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D6B09-A571-4483-B77E-40414E0F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15B44-5F41-4DE5-A8B5-058397E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F41-DB17-40B8-B9DE-FA1DC18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E8B14-E1F5-4273-8612-7B87D97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93D25-063D-457D-8F75-8F5F328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9D8CD-95F0-4D74-9870-A9C4EB84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D57FE-1F13-43B3-B9C0-C08FAA1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3321C-CFBC-4942-81A3-0550762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93014-BA82-49B8-AB64-AFE8CFD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35C2C-627E-401E-8A55-714C8EA1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1E485-B8A9-4774-9CB6-6DB2CC2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E7E49-00D4-46C2-9119-95E623B2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D779B-2429-4A43-AFEE-30C00E20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CEC-8A16-4E8C-B70E-366BCED9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BCD62-13E8-4209-9E22-642A073F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2CE3A-A822-45BC-B517-81EC01B0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BFDEC-F27C-4AB1-BC3D-075BD9D0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113E2-069D-4488-A979-D727321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073AB-B0B0-466D-9316-E087280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F1EDF-77C6-49CF-8355-B12EFC02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4CEE3-7D4C-44EF-B51B-7F619E6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B6D6A-C078-4EE1-BD51-4E51244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B0B4D-A42A-4F49-8636-21E9E28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FC1EE-E2EC-4544-B5F8-DA383240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140-3413-4A4C-A0B5-6835FB1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84970-9CE6-4195-948D-6DE59978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8A0-D385-453F-96D7-74E95E7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00E-CD91-4801-B441-9C2F73B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96D-184C-4BFD-B71E-1BD24B2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6B97-077A-460E-9C6B-21F25DA60CE8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5D7C-AE44-48C6-B10C-A96E738723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B8CB-78AF-49FC-884C-4C8CF894BB6F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D68-6E8C-478E-BE54-196BEAB670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720-7B74-46BD-9D5B-571EBEB8C1D6}" type="datetime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0826-9DA8-4EA3-8AC8-DC46942564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D51-4E95-48BD-8CE0-34AC3255EB54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6F05-5321-4D2D-9B82-A6584A17EB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FC6-7C1F-414D-BA95-C62207338F12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13B-073F-40CA-9C85-95D247FB11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6000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ИССЛЕДОВАТЕЛЬСКИЙ  ПРОЕКТ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714400" y="4214880"/>
            <a:ext cx="6143400" cy="171432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еники 2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: Афанасьева А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Подзаголовок 4"/>
          <p:cNvSpPr/>
          <p:nvPr/>
        </p:nvSpPr>
        <p:spPr>
          <a:xfrm>
            <a:off x="2214720" y="2214720"/>
            <a:ext cx="6215040" cy="1371600"/>
          </a:xfrm>
          <a:prstGeom prst="rect">
            <a:avLst/>
          </a:prstGeom>
          <a:solidFill>
            <a:srgbClr val="b2e389"/>
          </a:solidFill>
          <a:ln w="255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ожно  ли  вырастить  фасоль  осенью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2428920" y="6215040"/>
            <a:ext cx="5487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ижний колонтитул 6"/>
          <p:cNvSpPr/>
          <p:nvPr/>
        </p:nvSpPr>
        <p:spPr>
          <a:xfrm>
            <a:off x="3857760" y="214200"/>
            <a:ext cx="27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14240" y="1356840"/>
            <a:ext cx="7715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9 ноября  (1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одготовили  почву  и  замочили  семена  фасо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0 ноября (2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семена набухли, и начал расти  корешок. Поместили  проросшие  семена  в  почву,  полили  водо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1 ноября (3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ились  сквозь  почв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3 ноября (4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явились  первые  листоч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ДНЕВНИК  ИССЛЕДОВАНИЯ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2" name="Нижний колонтитул 5"/>
          <p:cNvSpPr/>
          <p:nvPr/>
        </p:nvSpPr>
        <p:spPr>
          <a:xfrm>
            <a:off x="1785960" y="5929200"/>
            <a:ext cx="5500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296720" cy="1647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3"/>
          <a:stretch/>
        </p:blipFill>
        <p:spPr>
          <a:xfrm>
            <a:off x="6156360" y="4941720"/>
            <a:ext cx="1525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115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2600" y="1213920"/>
            <a:ext cx="7281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  проект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 вырастить  фасоль  осень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решая  поставленную  в  проекте  проблему,  мы  выяснили,  что  е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основные группы  растений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длинного  светового  дня:  горох, картоф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 короткого  светового  дня:  фасоль, кукуруз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йтральные  растения: томаты, гречи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 - растения  выросли  и  дали   плод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Заголовок 5"/>
          <p:cNvSpPr/>
          <p:nvPr/>
        </p:nvSpPr>
        <p:spPr>
          <a:xfrm>
            <a:off x="642960" y="500040"/>
            <a:ext cx="742932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Результаты 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5"/>
          <p:cNvSpPr/>
          <p:nvPr/>
        </p:nvSpPr>
        <p:spPr>
          <a:xfrm>
            <a:off x="1928880" y="5857920"/>
            <a:ext cx="5500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928440" y="1714320"/>
            <a:ext cx="7429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став проектной груп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ники  2 «б» класса  МБОУ «Мужевская СОШ имени Н.В.Архангельског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раст учащихся - 9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рпова Наталья Александровна, учитель начальных классов МБОУ «Мужевская СОШ им. Н.В.Архангельского», категория первая, педагогический стаж 15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358040" cy="10713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entury Schoolbook"/>
              </a:rPr>
              <a:t>ИНФОРМАЦИЯ ОБ АВТОРЕ</a:t>
            </a:r>
            <a:br>
              <a:rPr sz="2900"/>
            </a:br>
            <a:endParaRPr b="0" lang="en-US" sz="29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Нижний колонтитул 5"/>
          <p:cNvSpPr/>
          <p:nvPr/>
        </p:nvSpPr>
        <p:spPr>
          <a:xfrm>
            <a:off x="1857240" y="621504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46748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ПИСОК   ЛИТЕРАТУРЫ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28400" y="1500120"/>
            <a:ext cx="57862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дотова О.Н., Трафимова Г.В., Трафимов С.А.. Учебник «Окружающий  мир»  2 класс, УМК «Перспективная  начальная  школа», -  Москва: Академкнига/Учебник», 2013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s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c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so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ekrase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et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2010/11/01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toperiodiz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214680" y="1500120"/>
            <a:ext cx="25002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6" name="Рисунок 6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357960" y="1571760"/>
            <a:ext cx="2000160" cy="2571480"/>
          </a:xfrm>
          <a:prstGeom prst="rect">
            <a:avLst/>
          </a:prstGeom>
          <a:ln w="0">
            <a:noFill/>
          </a:ln>
        </p:spPr>
      </p:pic>
      <p:sp>
        <p:nvSpPr>
          <p:cNvPr id="317" name="Нижний колонтитул 6"/>
          <p:cNvSpPr/>
          <p:nvPr/>
        </p:nvSpPr>
        <p:spPr>
          <a:xfrm>
            <a:off x="1785960" y="592920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14240" y="1285920"/>
            <a:ext cx="746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ческий паспорт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лема и гипоте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и и задачи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выполнения проекта и предполагаемый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я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невник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проекта, общий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формация об автор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ок литера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778644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СОДЕРЖАНИЕ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1" name="Нижний колонтитул 5"/>
          <p:cNvSpPr/>
          <p:nvPr/>
        </p:nvSpPr>
        <p:spPr>
          <a:xfrm>
            <a:off x="1928880" y="6072120"/>
            <a:ext cx="5857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768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7160" y="2071800"/>
            <a:ext cx="70675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– монопредметный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едмет - окружающий  ми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форме организации – коллектив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рокам выполнения – долгосроч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результатам выполнения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ельск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Заголовок 5"/>
          <p:cNvSpPr/>
          <p:nvPr/>
        </p:nvSpPr>
        <p:spPr>
          <a:xfrm>
            <a:off x="500040" y="642960"/>
            <a:ext cx="7429680" cy="8571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ЕТОДИЧЕСКИЙ  ПАСПОРТ 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6143760" y="3786120"/>
            <a:ext cx="1500120" cy="219708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1785960" y="6072120"/>
            <a:ext cx="5500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52149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РСПЕКТИВНАЯ   НАЧАЛЬНАЯ   ШКОЛА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ИК  «ОКРУЖАЮЩИЙ  МИР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2 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: «ПИТАНИЕ РАСТЕНИЙ». </a:t>
            </a: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278" name="Рисунок 3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143760" y="714240"/>
            <a:ext cx="1857240" cy="2305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4" descr="D:\М А М А 2\Всероссийская  конференция  март 2011г\img006.jpg"/>
          <p:cNvPicPr/>
          <p:nvPr/>
        </p:nvPicPr>
        <p:blipFill>
          <a:blip r:embed="rId2"/>
          <a:stretch/>
        </p:blipFill>
        <p:spPr>
          <a:xfrm>
            <a:off x="785880" y="3429000"/>
            <a:ext cx="7429320" cy="237960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2000160" y="6215040"/>
            <a:ext cx="5929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71424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 экскурсии мы  заметили, что с  наступлением  осени  отмирают  все  наземные части  травянистых растений. Так растения готовятся  к  зиме. Возник  вопрос:  «Можно  ли в  дома искусственно  создать  условия  для  роста  и  развития  травянистых  растений  осенью?»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Гипотеза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реди  большого  разнообразия  растений есть  такие,  которые  не  столь  требовательны  к  долготе  светового  дня и  могут  вырасти  в  условиях  «искусственного  лета»  в  осеннее - зимний  перио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Нижний колонтитул 4"/>
          <p:cNvSpPr/>
          <p:nvPr/>
        </p:nvSpPr>
        <p:spPr>
          <a:xfrm>
            <a:off x="2000160" y="6072120"/>
            <a:ext cx="5214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9720" y="642960"/>
            <a:ext cx="7139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ль 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м  путём  установить вырастет  ли  фасоль  осе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дачи  проект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точнение   условий  для  прорастания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иск информации о растениях менее требовательных  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Calibri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ращивание  фасоли  в    условиях  искусственного  л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ъект  исследования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  исследования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я  роста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Нижний колонтитул 4"/>
          <p:cNvSpPr/>
          <p:nvPr/>
        </p:nvSpPr>
        <p:spPr>
          <a:xfrm>
            <a:off x="1785960" y="592920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285560"/>
            <a:ext cx="7972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очнить  условия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растениях менее требовательных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растить  семена  фасоли и поместить  их в  почв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блюдать  за  развитием рост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ить  за  соблюдением  усло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сти  дневник 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ть  конечный 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ть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полагаемый результат: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ращенное из  семени растение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ЛАН ВЫПОЛНЕНИЯ  ПРОЕКТА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1643040" y="6286680"/>
            <a:ext cx="55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77864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28520"/>
            <a:ext cx="7972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окружающего мира  вспомнили условия необходимые для  нормального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ети интернет нашли информацию о 3 основных группах растений по отношению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9 ноября по 13 ноября провели исследование по проращиванию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ли выво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Заголовок 5"/>
          <p:cNvSpPr/>
          <p:nvPr/>
        </p:nvSpPr>
        <p:spPr>
          <a:xfrm>
            <a:off x="928800" y="714240"/>
            <a:ext cx="707220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ОД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ижний колонтитул 5"/>
          <p:cNvSpPr/>
          <p:nvPr/>
        </p:nvSpPr>
        <p:spPr>
          <a:xfrm>
            <a:off x="1500120" y="6000840"/>
            <a:ext cx="5429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Содержимое 3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3143160" y="2143080"/>
            <a:ext cx="2428920" cy="378612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71680" y="2214720"/>
            <a:ext cx="242856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"/>
          <p:cNvSpPr/>
          <p:nvPr/>
        </p:nvSpPr>
        <p:spPr>
          <a:xfrm>
            <a:off x="642960" y="3500280"/>
            <a:ext cx="242892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л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6"/>
          <p:cNvSpPr/>
          <p:nvPr/>
        </p:nvSpPr>
        <p:spPr>
          <a:xfrm>
            <a:off x="642960" y="4857840"/>
            <a:ext cx="24289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ч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32-конечная звезда 7"/>
          <p:cNvSpPr/>
          <p:nvPr/>
        </p:nvSpPr>
        <p:spPr>
          <a:xfrm>
            <a:off x="5715000" y="1643040"/>
            <a:ext cx="2357280" cy="2143080"/>
          </a:xfrm>
          <a:custGeom>
            <a:avLst/>
            <a:gdLst>
              <a:gd name="textAreaLeft" fmla="*/ 538200 w 2357280"/>
              <a:gd name="textAreaRight" fmla="*/ 1819080 w 2357280"/>
              <a:gd name="textAreaTop" fmla="*/ 489240 h 2143080"/>
              <a:gd name="textAreaBottom" fmla="*/ 1653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eb8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лне-чный 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Овал 8" descr=""/>
          <p:cNvPicPr/>
          <p:nvPr/>
        </p:nvPicPr>
        <p:blipFill>
          <a:blip r:embed="rId2"/>
          <a:stretch/>
        </p:blipFill>
        <p:spPr>
          <a:xfrm>
            <a:off x="5913360" y="4767120"/>
            <a:ext cx="2462400" cy="74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6858000" cy="6537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СЛОВИЯ  РОСТА РАСТЕНИЙ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Нижний колонтитул 11"/>
          <p:cNvSpPr/>
          <p:nvPr/>
        </p:nvSpPr>
        <p:spPr>
          <a:xfrm>
            <a:off x="2000160" y="6072120"/>
            <a:ext cx="5572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39:08Z</dcterms:created>
  <dc:creator>Андрей</dc:creator>
  <dc:description/>
  <dc:language>en-US</dc:language>
  <cp:lastModifiedBy>Apple</cp:lastModifiedBy>
  <dcterms:modified xsi:type="dcterms:W3CDTF">2019-01-27T13:36:33Z</dcterms:modified>
  <cp:revision>324</cp:revision>
  <dc:subject/>
  <dc:title>Слайд 1</dc:title>
</cp:coreProperties>
</file>