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848-DAA5-4FA1-87E0-7D5B2E3E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6B0-63BB-4FB1-BBC3-DBF93ED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138-40A8-4E64-AE36-9F7BAB24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0AF-A7A0-4F48-85E7-C80F6D78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1200-C164-412F-BBC9-4BF538A9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167C-3ED6-4646-978F-E50A5BBA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153-F1BD-4AD3-8B32-516CE81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2BC-29DC-4562-B059-CD9C8657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620B-5C8E-41E2-9D94-EB13B3A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9564-23C2-4A52-8AA3-1A8D36E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DC3F-1741-459E-9618-428FC8B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36C-523C-44B4-92C3-2485FAC1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6B29-2A55-47D7-84AB-362DCEDF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7237-ACBF-4A4C-B2FD-215113F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87E1-7BCE-43AC-A433-2A27721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3A00-4EE4-4FC8-AABE-EC9BB439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FFAE-6470-4490-AC0D-9DCBBF07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CE0-FE15-4E2C-9333-12071A3A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CE8-8470-4757-92C8-7F172FC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3A8-6D16-4DCB-AE1C-5F3983D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AD4-557B-4EED-8A50-CF5816E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97A-98CE-48A7-A791-C2A3D58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E43-944E-4146-B170-3B175C5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69A-5DE4-45C9-81F5-B879AD5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E84-0DED-4AC7-8E22-E4597C77C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7249-9008-4BA1-ABAA-749E73D97D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Добрый день!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Решение практического задания 19- ОГЭ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69608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колько продуктов в таблице содержат меньше 50 г углеводов и меньше 50 г белков? Запишите число этих продукто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ячейку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189640" cy="3105000"/>
          </a:xfrm>
          <a:prstGeom prst="rect">
            <a:avLst/>
          </a:prstGeom>
          <a:ln w="0">
            <a:noFill/>
          </a:ln>
        </p:spPr>
      </p:pic>
      <p:sp>
        <p:nvSpPr>
          <p:cNvPr id="130" name="Oval 6"/>
          <p:cNvSpPr/>
          <p:nvPr/>
        </p:nvSpPr>
        <p:spPr>
          <a:xfrm>
            <a:off x="7524720" y="3284640"/>
            <a:ext cx="1008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23640" y="475920"/>
            <a:ext cx="8056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кова средняя калорийность продуктов с содержанием жиров менее 1 г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ответа на вопрос нужно выполнить три действия: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Найти общую сумму калорий продуктов с содержанием жиров менее 1 г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Выделить из всего списка продуктов те, которые удовлетворяют поставленным условиям (содержание жиров менее 1 г.)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. Найти среднюю калорийность выбранных продуктов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выполнения первого пун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 потребуются дополнительные ячейки:  возьмем столбе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ромежуточных вычислений. Выберем из общего списка продукты, удовлетворяющие требованию с помощью функции СУ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 (диапазон 1;условие;диапазон2условие;), т.е. диапазон 1 сравнивает количество жиров меньше 1г., а диапазон 2 складывает калор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в ячей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лу: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=СУММЕСЛИ(B2:B1001;"&lt;1";E2:E1001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автозаполнение копируем формулу для каждого продук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549360"/>
            <a:ext cx="7912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перь как посчитать количество продуктов с содержанием жиров меньш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ем функцию СЧЁТЕСЛИ(диапазон;условие) т.е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пазон будет с жирами,а  условие меньше 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B2:B1001;"&lt;1") запишем в ячейк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чей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среднее арифметическое полученных значений 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 поделим на количество, т.е. первая функция нашла сумму калорий, вторая посчитала все ячейки с количеством  жиров менее 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51958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акова средняя калорийность продуктов с содержанием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иров менее 1 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? Ответ на этот вопрос запишите в ячейку H3 таблицы с точностью не менее двух знаков после запятой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rcRect l="9372" t="0" r="5193" b="28056"/>
          <a:stretch/>
        </p:blipFill>
        <p:spPr>
          <a:xfrm>
            <a:off x="5095800" y="260280"/>
            <a:ext cx="4048200" cy="1876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79280" y="220500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indows Exc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=СУММЕСЛИ(B2:B1001;"&lt;1";E2:E100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6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ЕСЛИ(B2:B1001;"&lt;1"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3=H5/H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124000" y="2781360"/>
            <a:ext cx="9352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516720" y="1197000"/>
            <a:ext cx="431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635280" y="278136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8209080" y="119700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2"/>
          <a:stretch/>
        </p:blipFill>
        <p:spPr>
          <a:xfrm>
            <a:off x="611280" y="3390840"/>
            <a:ext cx="741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250920" y="189000"/>
            <a:ext cx="84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акова средняя калорийность продуктов с содержанием жиров менее 1 г? Ответ на этот вопрос запишите в ячейку H3 таблиц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точностью не менее двух знаков после запя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92720" cy="3808440"/>
          </a:xfrm>
          <a:prstGeom prst="rect">
            <a:avLst/>
          </a:prstGeom>
          <a:ln w="0">
            <a:noFill/>
          </a:ln>
        </p:spPr>
      </p:pic>
      <p:sp>
        <p:nvSpPr>
          <p:cNvPr id="143" name="Oval 7"/>
          <p:cNvSpPr/>
          <p:nvPr/>
        </p:nvSpPr>
        <p:spPr>
          <a:xfrm>
            <a:off x="6804000" y="234936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0" y="3933720"/>
            <a:ext cx="6985080" cy="265608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6227640" y="5084640"/>
            <a:ext cx="64944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9752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 Black"/>
              </a:rPr>
              <a:t>Задание 19 № 2 ОГЭ по информатике.</a:t>
            </a:r>
            <a:br>
              <a:rPr sz="20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В электронную таблицу занесли данные о тестировании учеников. Ниже приведены первые пять строк таблицы: 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403280" y="1700280"/>
          <a:ext cx="6048360" cy="1447560"/>
        </p:xfrm>
        <a:graphic>
          <a:graphicData uri="http://schemas.openxmlformats.org/drawingml/2006/table">
            <a:tbl>
              <a:tblPr/>
              <a:tblGrid>
                <a:gridCol w="282600"/>
                <a:gridCol w="1019160"/>
                <a:gridCol w="1019160"/>
                <a:gridCol w="1527120"/>
                <a:gridCol w="2200320"/>
              </a:tblGrid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2415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цкий язы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6"/>
                    </a:solidFill>
                  </a:tcPr>
                </a:tc>
              </a:tr>
              <a:tr h="241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edec"/>
                    </a:solidFill>
                  </a:tcPr>
                </a:tc>
              </a:tr>
            </a:tbl>
          </a:graphicData>
        </a:graphic>
      </p:graphicFrame>
      <p:sp>
        <p:nvSpPr>
          <p:cNvPr id="148" name="TextBox 8"/>
          <p:cNvSpPr/>
          <p:nvPr/>
        </p:nvSpPr>
        <p:spPr>
          <a:xfrm>
            <a:off x="611280" y="316404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бце А записан округ, в котором учится ученик; в столбце В — фамилия; в столбце С — любимый предмет; в столбце D — тестовый балл. Всего в электронную таблицу были занесены данные по 1000 учени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зада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те файл с данной электронной таблицей (расположение файл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Рабочий стол/Решение задания 19 ОГЭ по информатике/Задание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На основании данных, содержащихся в этой таблице, ответьте на два вопр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учеников в Восточном округе (В) выбрали в качестве любимого предмета информатику? Ответ на этот вопрос запишите в ячейку Н2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в средний тестовый балл у учеников Северного округа (С)? Ответ на этот вопрос запишите в ячейку НЗ таблицы с точностью не менее двух знаков после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08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1. Сколько учеников в Восточном округе (В) выбрали в качестве любимого предмета информатику? Ответ на этот вопрос запишите в ячейку Н2 таблицы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905120"/>
            <a:ext cx="7989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в ячейку E2 следующую формулу 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A2="В";C2;0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скопируем ее в диапазон E3:E1001. В ячейку столбца E будет записываться название предмета, если ученик из Восточного округа и «0», если это не т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ю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E2="информатика";1;0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им столбец (F): с единицами и ну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, используем операцию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УММ(F2:F100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учим количество учеников, которые считают своим любимым предметом инфор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 1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6964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2. Каков средний тестовый балл у учеников Северного округа (С)? Ответ на этот вопрос запишите в ячейку НЗ таблицы с точностью не менее двух знаков после запятой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905120"/>
            <a:ext cx="842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второй вопрос используем операцию «ЕС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в ячейку G2 следующее выражение: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A2="С";D2;0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е применения данной операции к диапазону ячеек G2:G100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 столбец, в котором записаны баллы только учеников Северного о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в значения в ячейках, получим сумму баллов учеников: 56 73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ём количество учеников Северного округа с помощью коман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команду в ячейк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A2:A1001;"С"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им 1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в сумму баллов на количество учеников, получим: 540,352 —  искомый средний бал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) 10; 2) 540,35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336666"/>
                </a:solidFill>
                <a:latin typeface="Arial Black"/>
              </a:rPr>
              <a:t>Задание  19 № 3 ОГЭ по информатике</a:t>
            </a:r>
            <a:br>
              <a:rPr sz="1600"/>
            </a:br>
            <a:r>
              <a:rPr b="0" lang="ru-RU" sz="1600" spc="-1" strike="noStrike">
                <a:solidFill>
                  <a:srgbClr val="336666"/>
                </a:solidFill>
                <a:latin typeface="Arial Black"/>
              </a:rPr>
              <a:t>На метеостанции данные о погоде занесли в электронную таблицу. Ниже приведены первые пять строк таблицы, в которую были занесены данные о погоде в период с января 2013 года по январь 2014 года.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4" name="Объект 3" descr="http://losev-it.ru/upload/000/u1/001/7c97edca.png"/>
          <p:cNvPicPr/>
          <p:nvPr/>
        </p:nvPicPr>
        <p:blipFill>
          <a:blip r:embed="rId1"/>
          <a:stretch/>
        </p:blipFill>
        <p:spPr>
          <a:xfrm>
            <a:off x="1908000" y="1700280"/>
            <a:ext cx="4592880" cy="1895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826920" y="357336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строка таблицы содержит запись о погоде одного дня. В столбце A записана дата; в столбце B — температура воздуха; в столбце C — атмосферное давление; в столбце D – скорость ветра; в столбце E – облачность. Всего в электронную таблицу были занесены данные о погоде за 396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задание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те файл с данной электронной таблицей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Рабочий стол/Решение задания 19 ОГЭ по информатике/Задание3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анных, содержащихся в этой таблице, ответьте на два вопро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дней в году температура была ниже –5 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? Ответ на этот вопрос запишите в ячейку Н2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ва средняя ско­рость ветра в дни с облачностью 100%? Ответ на этот вопрос с точностью не менее двух знаков после запятой запишите в ячейку H3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83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1. Сколько дней в году температура была ниже –5 </a:t>
            </a:r>
            <a:r>
              <a:rPr b="0" lang="ru-RU" sz="2000" spc="-1" strike="noStrike" baseline="30000">
                <a:solidFill>
                  <a:srgbClr val="336666"/>
                </a:solidFill>
                <a:latin typeface="Arial Black"/>
              </a:rPr>
              <a:t>о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С? Ответ на этот вопрос запишите в ячейку Н2 таблицы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36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чейку H2 запишем формулу, определяющую, сколько дней за данный период было с температурой ниже –5 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B2:B397;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5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cc00"/>
                </a:solidFill>
                <a:latin typeface="Arial"/>
              </a:rPr>
              <a:t>ЕСЛИ</a:t>
            </a:r>
            <a:r>
              <a:rPr b="1" lang="en-US" sz="2300" spc="-1" strike="noStrike">
                <a:solidFill>
                  <a:srgbClr val="99cc00"/>
                </a:solidFill>
                <a:latin typeface="Arial"/>
              </a:rPr>
              <a:t>(I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звращает одно значение, если заданное условие при вычислении дает значение ИСТИНА, и другое значение, если ЛОЖ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Функция ЕСЛИ используется при проверке условий для значений и форму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ог_выражение;значение_если_истина;значение_если_лож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пример, =ЕСЛИ(И(D2&lt;50;C2&lt;50);1;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 flipV="1">
            <a:off x="2123640" y="4292640"/>
            <a:ext cx="23749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 flipH="1" flipV="1">
            <a:off x="4932360" y="4292640"/>
            <a:ext cx="1511280" cy="72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6804000" y="4292280"/>
            <a:ext cx="79236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851280" y="4869000"/>
            <a:ext cx="252108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6372360" y="4941720"/>
            <a:ext cx="215640" cy="50508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6588000" y="4941720"/>
            <a:ext cx="28908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24000" y="623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чение формулы может являться число, текст и 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468360" y="5373720"/>
            <a:ext cx="62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жет быть 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И(</a:t>
            </a: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AND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), ИЛИ</a:t>
            </a: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(OR)</a:t>
            </a: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,НЕ</a:t>
            </a:r>
            <a:r>
              <a:rPr b="1" i="1" lang="en-US" sz="1800" spc="-1" strike="noStrike">
                <a:solidFill>
                  <a:srgbClr val="99cc00"/>
                </a:solidFill>
                <a:latin typeface="Arial"/>
              </a:rPr>
              <a:t>(NO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H="1">
            <a:off x="2268000" y="5300640"/>
            <a:ext cx="1366920" cy="144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3564000" y="4869000"/>
            <a:ext cx="288720" cy="5047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2. Какова средняя скорость ветра в дни с облачностью 100%? Ответ на этот вопрос с точностью не менее двух знаков после запятой запишите в ячейку H3 таблицы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второй вопрос в столбце G для каждого дня запишем скорость ветра, если в этот день облачность 100%, и 0 в обратном случае. В ячейку G2 запишем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ЕСЛИ(E2=100;D2;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ируем формулу во все ячейки диапазо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2:G39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, чтоб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ь среднюю скорость вет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ишем формулу в ячейку H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РЗНАЧ(G2:G397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дание выполнено правильно и при выполнении задания использовались файлы, специально подготовленные для проверки выполнения данного задания, то должны получиться следующие 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й вопрос: 73; на второй вопрос: 1,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9640" y="2900520"/>
          <a:ext cx="7993080" cy="307476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8760"/>
                <a:gridCol w="1598760"/>
                <a:gridCol w="1598400"/>
              </a:tblGrid>
              <a:tr h="287280"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­зва­ние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со­зда­ния про­из­ве­де­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­тинг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ния Бар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х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Алек­сандр Мил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-Пу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­сандр Вол­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­шеб­ник Изу­мруд­но­го го­ро­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­сандр Пуш­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­лан и Люд­ми­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­сандр Пуш­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­ка о царе Сал­та­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73440" tIns="36720" bIns="36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440" marR="73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250920" y="36468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7877"/>
                </a:solidFill>
                <a:latin typeface="Arial"/>
              </a:rPr>
              <a:t>Задание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7877"/>
                </a:solidFill>
                <a:latin typeface="Arial"/>
              </a:rPr>
              <a:t>В из­да­тель­стве дет­ских книг дан­ные об из­дан­ных кни­г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7877"/>
                </a:solidFill>
                <a:latin typeface="Arial"/>
              </a:rPr>
              <a:t>хра­нят­ся в элек­трон­ной таб­ли­це. Ниже при­ве­де­ны пер­вые пять строк таб­ли­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250920" y="170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­дая стро­ка таб­ли­цы со­дер­жит за­пись об одной книге. В столб­це A за­пи­сан автор книги; в столб­це B — на­зва­ние книги; в столб­це C — год со­зда­ния про­из­ве­де­ния; в столб­це D — рей­тинг книги. Всего в элек­трон­ную таб­ли­цу были за­не­се­ны дан­ные по 134 кни­гам в про­из­воль­ном поряд­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280" y="47628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­пол­ни­те за­да­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­крой­те файл с дан­ной элек­трон­ной таб­ли­цей. На ос­но­ва­нии дан­ных, со­дер­жа­щих­ся в этой таб­ли­це, от­веть­те на два во­про­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ко­ли­че­ство про­из­ве­де­ний со­зда­но до 1910 года? Ответ на этот во­прос за­пи­ши­те в ячей­ку E2 таб­ли­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про­цент книг, на­пи­сан­ных позже 1950 года, имеют рей­тинг выше 500? Ответ на этот во­прос с точ­но­стью не менее 2 зна­ков после за­пя­той за­пи­ши­те в ячей­ку E3 таб­ли­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68000" y="404280"/>
            <a:ext cx="8055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­ве­та на пер­вый во­прос в ячей­ку E2 за­пи­шем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C2:C135;"&lt;1910"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­ве­та на вто­рой во­прос в столб­це F для каж­дой книги за­пи­шем её рейтинг, если её из­да­ли позже 1950 года и 0 в об­рат­ном случае. В ячей­ку F2 за­пи­шем формулу =ЕСЛИ(C2&gt;1950;D2;0)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пируем фор­му­лу во все ячей­ки диа­па­зо­на F2:F135. Далее, чтобы опре­де­лить книги, рей­тинг ко­то­рых боль­ше 500, за­пи­шем в ячей­ку G2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ЧЁТЕСЛИ(F2:F135;"&gt;500"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ем ко­ли­че­ство книг, из­дан­ных позже 1950 года. В ячей­ку G3 за­пи­шем формулу =СЧЁТЕСЛИ(C2:C135;"&gt;1950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­лу­че­ния окон­ча­тель­но­го от­ве­та за­пи­шем в ячей­ку E3 форм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G2*100/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­да­ние вы­пол­не­но пра­виль­но и ис­поль­зо­ва­лись файлы, спе­ци­аль­но под­го­тов­лен­ные для про­вер­ки вы­пол­не­ния дан­но­го задания, то долж­ны по­лу­чить­ся сле­ду­ю­щие 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­вый во­прос — 3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­рой во­прос — 82,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7520" cy="37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6666"/>
                </a:solidFill>
                <a:latin typeface="Arial Black"/>
              </a:rPr>
              <a:t>Спасибо за внимание!</a:t>
            </a:r>
            <a:endParaRPr b="0" lang="en-US" sz="8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СУММ(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SUM</a:t>
            </a:r>
            <a:r>
              <a:rPr b="1" lang="ru-RU" sz="31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ммирует все числа в интервале яче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число1;число2;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1, число2,...    — от 1 до 30 аргументов, для которых требуется определить итог или сум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=СУММ(A2:A4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24000" y="5157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пазон ячеек, сумму которых необходимо найти, начиная с А2 и до А4 включ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84720" y="4724280"/>
            <a:ext cx="71280" cy="505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708360" y="4221000"/>
            <a:ext cx="1368360" cy="503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СУММЕСЛИ</a:t>
            </a:r>
            <a:r>
              <a:rPr b="1" lang="en-US" sz="2600" spc="-1" strike="noStrike">
                <a:solidFill>
                  <a:srgbClr val="99cc00"/>
                </a:solidFill>
                <a:latin typeface="Arial"/>
              </a:rPr>
              <a:t> (SUM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ирует ячейки, заданные критер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М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иапазон;критерий;диапазон_суммир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=СУММЕСЛИ(</a:t>
            </a: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A2:A5</a:t>
            </a: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;"&gt;160000";</a:t>
            </a: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B2:B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Диапаз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— диапазон вычисляемых яче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ритер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— критерий в форме числа, выражения или текста, определяющего суммируемые ячейки. Например, критерий может быть выражен как 32, "32", "&gt;32", "яблок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Диапазон_су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— фактические ячейки для су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558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«диапазон_суммирования» опущ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 суммируются ячейки в аргументе «диапаз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ормул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СЧЁТЕ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считывает количество ячеек внутри диапазона, удовлетворяющих заданному критер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99cc00"/>
                </a:solidFill>
                <a:uFillTx/>
                <a:latin typeface="Arial"/>
              </a:rPr>
              <a:t>Синтакс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ЧЁТЕС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диапазо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критер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=СЧЕТЕСЛИ(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B2:B5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;"&gt;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Диапазон</a:t>
            </a:r>
            <a:r>
              <a:rPr b="0" lang="ru-RU" sz="2200" spc="-1" strike="noStrike">
                <a:solidFill>
                  <a:srgbClr val="d6e0e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— диапазон, в котором нужно подсчитать ячей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Критер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— критерий в форме числа, выражения или текста, который определяет, какие ячейки надо подсчитывать. Например, критерий может быть выражен следующим образом: 32, "32", "&gt;32", "яблоки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дание 19 №1 ОГЭ по информатике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ойте файл с данной электронной таблицей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Рабочий стол/Решение задания 19 ОГЭ по информатике/Задание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и данных, содержащихся в этой таблице, ответьте на два во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колько продуктов в таблице содержат меньше 50 г углевод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50 г белков? Запишите число этих продуктов в ячейку 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ова средняя калорийность продуктов с содержанием 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1 г? Ответ на этот вопрос запишите в ячейку H3 таблицы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ю не менее двух знаков после запя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2643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640" y="404640"/>
            <a:ext cx="7918560" cy="55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продуктов в таблице содержат меньше 50 г углеводов и меньше 50 г бел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задании 2 условия: углеводов &lt; 50,  белков &lt;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 столбец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дополнительных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отив каждого продукта  будем пис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условия выполняютс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если условия не выполняются. Обратим внимание на союз, соединяющий эти условия — И. Т.е. данные условия должны выполняться одновременно и условие 1 и услови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еализации этого воспользуемся функци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( условие;если истина; если ложь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 выражение в нашем случае сложное — состоит из двух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глеводов &lt; 50,  белков &lt; 5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ула будет выглядеть следующим образ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(D2&lt;50;C2&lt;50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условия помещаются в скобки и разделяются точкой с запятой. Перед скобкой стоит сою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_если_истина — стави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_если_ложь — стави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=ЕСЛИ(И(D2&lt;50;C2&lt;50);1;0)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автозаполнение, копируем ячейку с формулой в ячей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3:F100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 в ячейках единицу, где условия выполняются, ноль — гд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5040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колько продуктов в таблице содержат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ьше 50 г углевод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ньше 50 г бел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 Запишите число этих продуктов в ячейк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9372" t="0" r="5193" b="28056"/>
          <a:stretch/>
        </p:blipFill>
        <p:spPr>
          <a:xfrm>
            <a:off x="5148360" y="0"/>
            <a:ext cx="3995640" cy="1558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4000" y="184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indows Excel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ЕСЛИ(И(D2&lt;50;C2&lt;50);1;0)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пируем формулу во все ячейки диапазона F3:F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763640" y="242100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2556000" y="2421000"/>
            <a:ext cx="7189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32720" cy="3645000"/>
          </a:xfrm>
          <a:prstGeom prst="rect">
            <a:avLst/>
          </a:prstGeom>
          <a:ln w="0">
            <a:noFill/>
          </a:ln>
        </p:spPr>
      </p:pic>
      <p:sp>
        <p:nvSpPr>
          <p:cNvPr id="122" name="Line 14"/>
          <p:cNvSpPr/>
          <p:nvPr/>
        </p:nvSpPr>
        <p:spPr>
          <a:xfrm>
            <a:off x="7596360" y="76500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7093080" y="765000"/>
            <a:ext cx="5032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067280" cy="3254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250920" y="3500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indows Excel</a:t>
            </a:r>
            <a:r>
              <a:rPr b="1" lang="en-US" sz="1800" spc="-1" strike="noStrike">
                <a:solidFill>
                  <a:srgbClr val="d6e0e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СУММ(F2:F1001)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424720" cy="24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06560" y="333000"/>
            <a:ext cx="4079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ется с помощью функ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 ( )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уммировать единички в диапазон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2:F100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мы получим количество таких продуктов, удовлетворяющих двум условиям. Записываем формулу  =СУММ(F2:F1001) в ячейк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так указано в задан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09:34:16Z</dcterms:created>
  <dc:creator>Admin</dc:creator>
  <dc:description/>
  <dc:language>en-US</dc:language>
  <cp:lastModifiedBy>Нурисламова</cp:lastModifiedBy>
  <dcterms:modified xsi:type="dcterms:W3CDTF">2019-01-28T16:42:27Z</dcterms:modified>
  <cp:revision>67</cp:revision>
  <dc:subject/>
  <dc:title>Слайд 1</dc:title>
</cp:coreProperties>
</file>