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86C-DDEF-44D0-A9C8-9E5BC2CC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220-0459-421E-AE9D-0C8D5CF4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067-8D57-4B93-8216-1C060821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2DB-7582-406F-8415-8CF19E2C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F038-DE16-4CA7-8FB1-498F2CFA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75E-03D0-4DB7-B29E-D211D09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7180-CED7-45C5-91F1-16870A6A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6C0B-1FD2-42E4-8D4B-5A1DD46C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0F4-E072-493E-A005-4C6E57F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3F25-787D-4D2D-B929-1B0968AD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740-C0FC-4484-A09F-8D7A688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B39-B491-422A-9E58-F2FE2721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BBA4-B8F2-48C5-AABA-2E9A9FD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C921-F69F-4617-9679-9D3C972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1081-9124-4712-AFB7-A66151F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16E-C665-4BF7-AE6E-5B12196A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43F6-F552-4A5E-8BC8-5031CDBF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2FF-E1CD-4D78-952D-C0ACC5B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B28-3457-4FB0-A5AA-F11C21A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D54-2113-49E9-9A11-3240897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ED8-71BD-4422-AF9E-72082768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97C-871C-4175-A30E-D3A4BD5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029-B75E-4E6E-B1B7-E48D1B2A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B4F-9D86-47E5-9EC9-B8A1CAF9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CE11-1AD8-41DD-8726-D71A21A468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CA18-479A-439F-905C-C243380442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b812f"/>
                </a:solidFill>
                <a:latin typeface="Garamond"/>
              </a:rPr>
              <a:t>Арифметические, строковые и логические выражения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Arial"/>
              </a:rPr>
              <a:t>Классификация операций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нарные: +,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нарные: +, -, *, /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, m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 операции отношения: =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&gt;, &lt;, &gt;, &lt;=, &gt;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 булевские (логические) опер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логическое отрицание)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лог. И)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лог. ИЛИ)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исключающее ИЛ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 строковая операция (конкатенация)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6560" y="333360"/>
            <a:ext cx="84265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ыpа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пpедназначаются для выполнения необходимых вычис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состоят из констант, пеpеменных, указателей функций (напpимеp, exp(x)), объединенных знаками опеp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ражения записываются в ви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инейных последовательностей символ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без подстрочных и надстрочных символов, "многоэтажных" дробей и т.д.), что позволяет вводить их в компьютер, последовательно нажимая на соответствующие клавиши клави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ичают выра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ие, логические и строков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ифметические выражения служат для определения одного числового зна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гические выражения описывают некоторые условия, которые могут удовлетворяться или не удовлетворя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Таким образом, логическое выражение может принимать только два значения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истина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"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жь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чения строковых (литерных) выражений — текc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В них могут входить литерные константы, литерные переменные и литерные функции, разделенные знаком операции сцепки. Например, А + В означает присоединение строки В к концу строки А. Если А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куст 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а В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зеленый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то значение выражения А+В есть "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ст зеленый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3520" y="5025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b812f"/>
                </a:solidFill>
                <a:latin typeface="Times New Roman"/>
                <a:ea typeface="Arial"/>
              </a:rPr>
              <a:t>Арифметически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9960" y="1452240"/>
            <a:ext cx="8059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рифметический выражения строятся из арифметических констант, переменных, функций и операций над ними. Частным случаем выражения является константа, переменная или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составлении выражений следует выполнять следующи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Записывать все составные части выражений в одну строку. В выражениях двухэтажных и более верхние и нижние индексы не допускаются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Например, форм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записана в виде следующего вы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5524560"/>
                <a:tab algn="r" pos="857268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1*X1+B2*X2+5*A3*X3)/(25*D-14*F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843280" y="4221000"/>
                <a:ext cx="309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1176840"/>
            <a:ext cx="8610480" cy="61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Использовать скобки только одного типа - круглые. Применение фигурных и квадратных скобок в выражениях запрещается, так как они имеют особое назначение. Поэтому алгебраической запис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{b+c[d+e(f+g)]}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языке ПАСКАЛЬ соответствует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*(b+c*(d+e*(f+g))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правильно записанном выражении число открывающихся скобок всегда должно равняться числу закрывающихся скобок. При записи сложных выражений рекомендуется всегда проверять, соблюдено ли это прав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Нельзя записывать подряд два знака арифметических операций. Например, выражение  3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*B/-Z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верно. Его следует записать так: 3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*B(-Z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Необходимо помнить, что вычисления выполняются слева направо в соответствии со старшинством операций. Самой старшей является операция вычисления значения  функции, 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(X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Затем идут операции умножения и деления, а также целочисленные опера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O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Операции сложения и вычитания обладают самым низким приоритетом и выполняются в последнюю очер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аргумент функции представляет собой выражение, то сначала определяется значение этого выражения. Например, в выра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(0.14+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начала вычисляется аргумент (0.14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Z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а затем значение функц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I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36520" y="114840"/>
            <a:ext cx="86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Times New Roman"/>
                <a:ea typeface="Arial"/>
              </a:rPr>
              <a:t>Арифметическ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2280" y="2286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6160" y="1891800"/>
            <a:ext cx="88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857268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55480" y="305280"/>
            <a:ext cx="80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Times New Roman"/>
                <a:ea typeface="Arial"/>
              </a:rPr>
              <a:t>Логическ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2280" y="132192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огические  выражения  строятся из логических данных, логических операций и операций отношений. В операциях отношения могут участвовать арифметические и логические выражения, а также символьные данные. Результатом логического выражения является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U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логических выражениях принят следующий приоритет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)  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 /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V, MOD, A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)  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 -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)  &lt;,  &lt;=,  =,  &lt; &gt;, &gt;=,  &gt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ерации, указанные в одной строке, имеют одинаковый приори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логическом выражении допускается использование только круглых скобок. При наличии скобок сначала выполняются действия в скобках ( в первую очередь в самых внутренних), а затем вне скобок. В круглые скобки обязательно заключаются части выражения, стоящие слева и справа от логических операци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b812f"/>
                </a:solidFill>
                <a:latin typeface="Arial"/>
              </a:rPr>
              <a:t>Строковые  выражен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остав строковых  выражений могут входить переменные строкового типа, строки (последовательности символов) и строковые фун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 переменными строкового типа и строками может производиться операция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конкатенац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а объединяет строки и значения строковых переменных в единую строку. Операция конкатенации обозначается  знаком «+» или знаком «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5400" spc="-1" strike="noStrike">
                <a:solidFill>
                  <a:srgbClr val="333333"/>
                </a:solidFill>
                <a:latin typeface="Arial"/>
              </a:rPr>
              <a:t>5 MOD 2 = 1 </a:t>
            </a:r>
            <a:br>
              <a:rPr sz="5400"/>
            </a:br>
            <a:r>
              <a:rPr b="0" lang="da-DK" sz="5400" spc="-1" strike="noStrike">
                <a:solidFill>
                  <a:srgbClr val="333333"/>
                </a:solidFill>
                <a:latin typeface="Arial"/>
              </a:rPr>
              <a:t>5 DIV 2 = 2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Arial"/>
              </a:rPr>
              <a:t>DIV - целая часть от деления </a:t>
            </a:r>
            <a:br>
              <a:rPr sz="4800"/>
            </a:br>
            <a:r>
              <a:rPr b="0" lang="ru-RU" sz="4800" spc="-1" strike="noStrike">
                <a:solidFill>
                  <a:srgbClr val="333333"/>
                </a:solidFill>
                <a:latin typeface="Arial"/>
              </a:rPr>
              <a:t>MOD - остаток от делени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program number7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uses crt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var A,B,C: integer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begin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lrscr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A:=17;B:=3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:=A div B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writeln ('17 div 3 = ',C)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:=A mod B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writeln ('17 mod 3 = ',C)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C:=A-B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writeln ('17-3 =',C)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999999"/>
                </a:solidFill>
                <a:latin typeface="Consola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end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8:50:22Z</dcterms:created>
  <dc:creator>Оля</dc:creator>
  <dc:description/>
  <dc:language>en-US</dc:language>
  <cp:lastModifiedBy>Нурисламова</cp:lastModifiedBy>
  <dcterms:modified xsi:type="dcterms:W3CDTF">2016-10-07T16:38:23Z</dcterms:modified>
  <cp:revision>9</cp:revision>
  <dc:subject/>
  <dc:title>Арифметические</dc:title>
</cp:coreProperties>
</file>