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BDA0-BC7C-46A8-90F1-F187B732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3DBE-6A07-4B69-B39B-33207F76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FE7-7BA9-4635-9E40-DEF4D0E2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BB3B-442C-4AD4-807D-135AFA40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C868-1EF0-409A-AF93-13CB8532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10D1-851B-4686-BD23-C51EB30C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84EC-8C38-42B3-BB9C-D4F5ADB8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A469-7DB6-4E3E-AD99-E84FCE93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E039-DEC3-49EC-992D-90B1C83A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7D4F-DA36-4416-A043-894E69EA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D02C-22EA-4D21-9074-5E075FF4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D96-EF33-45C6-BA4F-B08FBAF0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C29A-5B66-453E-B8C0-782BE827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5BAA-28A9-4C11-A433-4A82AF94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046E-773D-431A-8F09-FD631C40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2123-AAC5-4381-80A4-2AE04B21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325D-4C2F-4FFE-A5C4-7499F6CF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512-31CF-47B4-A611-273E9A57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C74-57DA-4A78-8F43-C78FF64A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2E7D-9360-473F-9FC8-DAAB77AE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29E9-59F6-4F8E-AFA3-ACF6F112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8A96-8190-4E25-821B-D7387094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1BDF-1365-4B3C-8B66-8B1CA94F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967-ED03-4D38-8004-1E414790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0ED8-3ACF-4BFA-B960-B48672C6817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46A1-07BE-4064-A326-731A3F3752D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b812f"/>
                </a:solidFill>
                <a:latin typeface="Garamond"/>
              </a:rPr>
              <a:t>Арифметические, строковые и логические выражения.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b812f"/>
                </a:solidFill>
                <a:latin typeface="Arial"/>
              </a:rPr>
              <a:t>Классификация операций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рифметические операци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нарные: +, 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нарные: +, -, *, /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v, m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  операции отношения: =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&gt;, &lt;, &gt;, &lt;=, &gt;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  булевские (логические) операци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логическое отрицание),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лог. И),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лог. ИЛИ),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xo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исключающее ИЛ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  строковая операция (конкатенация) 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466560" y="333360"/>
            <a:ext cx="84265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ыpаж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— пpедназначаются для выполнения необходимых вычисл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состоят из констант, пеpеменных, указателей функций (напpимеp, exp(x)), объединенных знаками опеpа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ражения записываются в вид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инейных последовательностей символо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без подстрочных и надстрочных символов, "многоэтажных" дробей и т.д.), что позволяет вводить их в компьютер, последовательно нажимая на соответствующие клавиши клавиа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личают выраже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рифметические, логические и строковы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рифметические выражения служат для определения одного числового зна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огические выражения описывают некоторые условия, которые могут удовлетворяться или не удовлетворять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Таким образом, логическое выражение может принимать только два значения 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"истина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"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ожь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начения строковых (литерных) выражений — текc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В них могут входить литерные константы, литерные переменные и литерные функции, разделенные знаком операции сцепки. Например, А + В означает присоединение строки В к концу строки А. Если А =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"куст 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а В =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"зеленый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то значение выражения А+В есть "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уст зеленый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533520" y="50256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b812f"/>
                </a:solidFill>
                <a:latin typeface="Times New Roman"/>
                <a:ea typeface="Arial"/>
              </a:rPr>
              <a:t>Арифметические вы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99960" y="1452240"/>
            <a:ext cx="8059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r" pos="5524560"/>
                <a:tab algn="r" pos="857268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Арифметический выражения строятся из арифметических констант, переменных, функций и операций над ними. Частным случаем выражения является константа, переменная или функ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5524560"/>
                <a:tab algn="r" pos="857268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составлении выражений следует выполнять следующие пр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5524560"/>
                <a:tab algn="r" pos="857268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Записывать все составные части выражений в одну строку. В выражениях двухэтажных и более верхние и нижние индексы не допускаются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Например, форм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5524560"/>
                <a:tab algn="r" pos="85726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5524560"/>
                <a:tab algn="r" pos="857268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5524560"/>
                <a:tab algn="r" pos="857268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5524560"/>
                <a:tab algn="r" pos="857268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должна быть записана в виде следующего выраж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5524560"/>
                <a:tab algn="r" pos="857268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5524560"/>
                <a:tab algn="r" pos="857268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1*X1+B2*X2+5*A3*X3)/(25*D-14*F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2843280" y="4221000"/>
                <a:ext cx="3095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50920" y="1176840"/>
            <a:ext cx="8610480" cy="61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. Использовать скобки только одного типа - круглые. Применение фигурных и квадратных скобок в выражениях запрещается, так как они имеют особое назначение. Поэтому алгебраической запис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{b+c[d+e(f+g)]}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языке ПАСКАЛЬ соответствует выра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*(b+c*(d+e*(f+g))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правильно записанном выражении число открывающихся скобок всегда должно равняться числу закрывающихся скобок. При записи сложных выражений рекомендуется всегда проверять, соблюдено ли это прави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. Нельзя записывать подряд два знака арифметических операций. Например, выражение  3*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*B/-Z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еверно. Его следует записать так: 3*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*B(-Z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4. Необходимо помнить, что вычисления выполняются слева направо в соответствии со старшинством операций. Самой старшей является операция вычисления значения  функции, например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IN(X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Затем идут операции умножения и деления, а также целочисленные операци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IV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OD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Операции сложения и вычитания обладают самым низким приоритетом и выполняются в последнюю очер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аргумент функции представляет собой выражение, то сначала определяется значение этого выражения. Например, в выраж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IN(0.14+Z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начала вычисляется аргумент (0.14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а затем значение функци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I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36520" y="114840"/>
            <a:ext cx="867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b812f"/>
                </a:solidFill>
                <a:latin typeface="Times New Roman"/>
                <a:ea typeface="Arial"/>
              </a:rPr>
              <a:t>Арифметические вы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52280" y="22860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46160" y="1891800"/>
            <a:ext cx="884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r" pos="857268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55480" y="305280"/>
            <a:ext cx="805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b812f"/>
                </a:solidFill>
                <a:latin typeface="Times New Roman"/>
                <a:ea typeface="Arial"/>
              </a:rPr>
              <a:t>Логические вы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52280" y="132192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Логические  выражения  строятся из логических данных, логических операций и операций отношений. В операциях отношения могут участвовать арифметические и логические выражения, а также символьные данные. Результатом логического выражения является значени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UE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ил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ALS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логических выражениях принят следующий приоритет опера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)  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 /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IV, MOD, A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)  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 -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4)  &lt;,  &lt;=,  =,  &lt; &gt;, &gt;=,  &gt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перации, указанные в одной строке, имеют одинаковый приорит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логическом выражении допускается использование только круглых скобок. При наличии скобок сначала выполняются действия в скобках ( в первую очередь в самых внутренних), а затем вне скобок. В круглые скобки обязательно заключаются части выражения, стоящие слева и справа от логических операций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ND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и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b812f"/>
                </a:solidFill>
                <a:latin typeface="Arial"/>
              </a:rPr>
              <a:t>Строковые  выражения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состав строковых  выражений могут входить переменные строкового типа, строки (последовательности символов) и строковые функ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д переменными строкового типа и строками может производиться операция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конкатенаци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Она объединяет строки и значения строковых переменных в единую строку. Операция конкатенации обозначается  знаком «+» или знаком «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15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5400" spc="-1" strike="noStrike">
                <a:solidFill>
                  <a:srgbClr val="333333"/>
                </a:solidFill>
                <a:latin typeface="Arial"/>
              </a:rPr>
              <a:t>5 MOD 2 = 1 </a:t>
            </a:r>
            <a:br>
              <a:rPr sz="5400"/>
            </a:br>
            <a:r>
              <a:rPr b="0" lang="da-DK" sz="5400" spc="-1" strike="noStrike">
                <a:solidFill>
                  <a:srgbClr val="333333"/>
                </a:solidFill>
                <a:latin typeface="Arial"/>
              </a:rPr>
              <a:t>5 DIV 2 = 2 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33"/>
                </a:solidFill>
                <a:latin typeface="Arial"/>
              </a:rPr>
              <a:t>DIV - целая часть от деления </a:t>
            </a:r>
            <a:br>
              <a:rPr sz="4800"/>
            </a:br>
            <a:r>
              <a:rPr b="0" lang="ru-RU" sz="4800" spc="-1" strike="noStrike">
                <a:solidFill>
                  <a:srgbClr val="333333"/>
                </a:solidFill>
                <a:latin typeface="Arial"/>
              </a:rPr>
              <a:t>MOD - остаток от деления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program number7;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uses crt;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var A,B,C: integer;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begin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clrscr;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A:=17;B:=3;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C:=A div B;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writeln ('17 div 3 = ',C);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C:=A mod B;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writeln ('17 mod 3 = ',C);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C:=A-B;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writeln ('17-3 =',C);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readln</a:t>
            </a:r>
            <a:r>
              <a:rPr b="0" lang="ru-RU" sz="2400" spc="-1" strike="noStrike">
                <a:solidFill>
                  <a:srgbClr val="000000"/>
                </a:solidFill>
                <a:latin typeface="Consolas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end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8:50:22Z</dcterms:created>
  <dc:creator>Оля</dc:creator>
  <dc:description/>
  <dc:language>en-US</dc:language>
  <cp:lastModifiedBy>Нурисламова</cp:lastModifiedBy>
  <dcterms:modified xsi:type="dcterms:W3CDTF">2016-10-07T16:38:23Z</dcterms:modified>
  <cp:revision>9</cp:revision>
  <dc:subject/>
  <dc:title>Арифметические</dc:title>
</cp:coreProperties>
</file>