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E82-CAB4-4C40-AE23-A1231A3E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B6A-220A-4C83-8F5F-B331879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483-0E43-4371-8DF7-9D4CBD4A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ECE-4494-4A2A-A4B1-CC016048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F58-FEAB-4588-A592-53AC8F6F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6C7-4923-4037-99CD-CE219615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0F7-D4C2-4615-A110-8D6A99C1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07C-44A0-4BED-8826-B75FFDD5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3EE-B870-4F9D-A485-37B4E9FF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596-0187-4D60-980A-8805C14F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09C-4D70-4CB8-9C07-F56A22B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288-0538-49FA-9117-DE3000E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29F-04C0-4201-8FC6-34F9F4AF5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Компьютерная презент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042920" y="83664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16000" y="836640"/>
            <a:ext cx="777708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332000" y="2025720"/>
            <a:ext cx="18000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851280" y="4437000"/>
            <a:ext cx="1942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ай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3132000" y="2168640"/>
            <a:ext cx="75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4788000" y="231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6659640" y="191628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кс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6661080" y="2386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исун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661080" y="2889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тогра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6661080" y="33940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нимаци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6661080" y="389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ео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6661080" y="4402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9"/>
          <p:cNvSpPr/>
          <p:nvPr/>
        </p:nvSpPr>
        <p:spPr>
          <a:xfrm>
            <a:off x="4788000" y="317664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4788000" y="400536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/>
          <p:cNvSpPr/>
          <p:nvPr/>
        </p:nvSpPr>
        <p:spPr>
          <a:xfrm>
            <a:off x="5869080" y="1952640"/>
            <a:ext cx="287280" cy="2736720"/>
          </a:xfrm>
          <a:custGeom>
            <a:avLst/>
            <a:gdLst>
              <a:gd name="textAreaLeft" fmla="*/ 0 w 287280"/>
              <a:gd name="textAreaRight" fmla="*/ 103680 w 2872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0"/>
          <p:cNvSpPr/>
          <p:nvPr/>
        </p:nvSpPr>
        <p:spPr>
          <a:xfrm flipH="1">
            <a:off x="6300000" y="195264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887640" y="195264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айд 1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64000" y="5300640"/>
            <a:ext cx="316872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329080" y="5948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 flipV="1">
            <a:off x="4429080" y="5551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392720" y="5767560"/>
            <a:ext cx="93636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403280" y="5553000"/>
            <a:ext cx="309744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3851280" y="364500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851280" y="28526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айд 2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Что такое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87280" y="981000"/>
            <a:ext cx="763272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это публичный способ представления информации, наглядный и эффект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лайд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одержащих текст, рисунки, фотографии, анимацию, видео и звуковой 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айд 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это многослойная 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Олени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7632720" cy="521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116000" y="907920"/>
            <a:ext cx="7850160" cy="1434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слайдах могут быть размещены гиперссылки, обеспечивающие переход к информационным объектам на других слайдах презентации, в других файлах и в сети Интер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93840" y="4292640"/>
            <a:ext cx="3565440" cy="76428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кстовые объекты (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слова или словосочета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124000" y="2924280"/>
            <a:ext cx="194328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пер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940360" y="2924280"/>
            <a:ext cx="201456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пермед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196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фические и звуковые объе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305928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694836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V="1">
            <a:off x="305928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694836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6516720" y="5084640"/>
            <a:ext cx="1224000" cy="289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405080" y="515772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Рекл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тов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на выста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V="1">
            <a:off x="2844720" y="4437000"/>
            <a:ext cx="50328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580000" y="5157720"/>
            <a:ext cx="324000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В бизнесе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преподнесения и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клиентам инвесто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33200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Из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нового матер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ученикам и студен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43564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Выступ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с докла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на конфер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2916360" y="2637000"/>
            <a:ext cx="4302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6516720" y="2565000"/>
            <a:ext cx="50328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 flipV="1">
            <a:off x="6587640" y="4437000"/>
            <a:ext cx="505080" cy="719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348000" y="3141720"/>
            <a:ext cx="3240000" cy="1297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компьют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403280" y="2924280"/>
            <a:ext cx="316872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435640" y="2924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4716360" y="206064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2627280" y="206028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2303640" cy="2252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048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Эта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презен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>
            <a:hlinkClick r:id="rId1" action="ppaction://hlinksldjump"/>
          </p:cNvPr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V="1">
            <a:off x="4572000" y="3071520"/>
            <a:ext cx="0" cy="5000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>
            <a:hlinkClick r:id="rId2" action="ppaction://hlinksldjump"/>
          </p:cNvPr>
          <p:cNvSpPr/>
          <p:nvPr/>
        </p:nvSpPr>
        <p:spPr>
          <a:xfrm>
            <a:off x="1258920" y="443700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Монтаж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258920" y="5373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епетиция выступления с презентаци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 flipV="1">
            <a:off x="4572000" y="49417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ыбор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4572000" y="31399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77164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rId1" action="ppaction://hlinksldjump"/>
          </p:cNvPr>
          <p:cNvSpPr/>
          <p:nvPr/>
        </p:nvSpPr>
        <p:spPr>
          <a:xfrm>
            <a:off x="1330200" y="263844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пределение 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бдумывание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330200" y="451008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бдумывание дизайна презен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330200" y="5446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бдумывание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4643280" y="50148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>
            <a:hlinkClick r:id="rId1" action="ppaction://hlinksldjump"/>
          </p:cNvPr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4572000" y="306828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70036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Монта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>
            <a:hlinkClick r:id="rId2" action="ppaction://hlinksldjump"/>
          </p:cNvPr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еретаскив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258920" y="3357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ырез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4572000" y="306972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258920" y="4222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дале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4572000" y="38620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V="1">
            <a:off x="4572000" y="4714560"/>
            <a:ext cx="0" cy="4287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187280" y="6021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ставка из буфера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 flipV="1">
            <a:off x="4572000" y="5589360"/>
            <a:ext cx="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258920" y="515772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опирование в буфер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Олени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83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7561080" cy="517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1547640" y="1844640"/>
            <a:ext cx="6912000" cy="423864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1692360" y="2852640"/>
            <a:ext cx="63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ани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5296 C 0.18299 -0.5296 0.33854 -0.3432 0.33854 -0.11401 C 0.33854 0.11494 0.18299 0.30157 -0.00799 0.30157 C -0.1993 0.30157 -0.35434 0.11494 -0.35434 -0.11401 C -0.35434 -0.3432 -0.1993 -0.5296 -0.00799 -0.5296 Z">
                                      <p:cBhvr>
                                        <p:cTn id="160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3737E-006 L -0.32291 -0.43525 E">
                                      <p:cBhvr>
                                        <p:cTn id="16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2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04117 C -0.37396 0.14847 -0.29305 0.30504 -0.19444 0.30504 C -0.07812 0.30504 -0.03594 0.13159 -0.0184 0.02775 L -1.66667E-006 -0.11055 C 0.01806 -0.21438 0.06268 -0.38714 0.19427 -0.38714 C 0.2783 -0.38714 0.37413 -0.23127 0.37413 -0.04117 C 0.37413 0.14847 0.2783 0.30504 0.19427 0.30504 C 0.06268 0.30504 0.01806 0.13159 -1.66667E-006 0.02775 L -0.0184 -0.11055 C -0.03594 -0.21438 -0.07812 -0.38714 -0.19444 -0.38714 C -0.29305 -0.38714 -0.37396 -0.23127 -0.37396 -0.04117 Z">
                                      <p:cBhvr>
                                        <p:cTn id="173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32562E-008 L 0.29549 -0.39778 E">
                                      <p:cBhvr>
                                        <p:cTn id="17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7" nodeType="afterEffect" fill="hold" presetClass="path" presetID="1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8 -0.5289 L 0.38594 0.31013 L -0.40156 0.31013 L -0.00798 -0.5289 Z">
                                      <p:cBhvr>
                                        <p:cTn id="188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4.56059E-006 L -2.22222E-006 0.23682 E">
                                      <p:cBhvr>
                                        <p:cTn id="19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24000" y="981000"/>
            <a:ext cx="8496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лайд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одержащих текст, рисунки, фотографии, анимацию, видео и звуковой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распространёнными программными средствами для создания мультимедийных презентаций являются приложения Microsoft PowerPoint и OpenOffice.org Im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происхождение термина «презентаци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информация может быть размещена на слайде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общего в технологиях гипертекста и гипермедиа?  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шабло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дизай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макет слай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16000" y="198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начинающим разработчикам презентаций рекомендуется пользоваться шаблонами презентаций, дизайнами презентаций и макетами слай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ы основные этапы создания презента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Нурисламова</cp:lastModifiedBy>
  <dcterms:modified xsi:type="dcterms:W3CDTF">2019-01-28T18:38:58Z</dcterms:modified>
  <cp:revision>7</cp:revision>
  <dc:subject/>
  <dc:title>Презентация PowerPoint</dc:title>
</cp:coreProperties>
</file>