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686-B2C8-4A7B-AED7-441D6051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063-1316-4903-81EC-C54AFA36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3C6-CB70-4D53-A407-09828863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E74-CDCA-4C60-B995-D28789B4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CF9D-C020-4539-BEFD-7B3483EB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B1C-D643-4387-96B6-BEEDA752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56B-FC2B-4942-9720-5C661C40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E7BF-7EEA-46A6-8652-FCF16BB4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981-0DC2-49CC-8E92-C58FE988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252-1E15-4763-9696-FC9AD083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7D6-CFEC-45B5-9B68-54E6C316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256-6D2D-49B5-BF2F-9BC2EEAF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832F-67D1-44F2-A4C5-5FF86B9225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Титул_7.JPG"/>
          <p:cNvPicPr/>
          <p:nvPr/>
        </p:nvPicPr>
        <p:blipFill>
          <a:blip r:embed="rId2"/>
          <a:stretch/>
        </p:blipFill>
        <p:spPr>
          <a:xfrm>
            <a:off x="1440" y="144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Компьютерная презента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1042920" y="836640"/>
            <a:ext cx="785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116000" y="836640"/>
            <a:ext cx="7777080" cy="76428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езентац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это публичный способ представления информации, наглядный и эффект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1332000" y="2025720"/>
            <a:ext cx="180000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мпьюте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3851280" y="4437000"/>
            <a:ext cx="194292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лайд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8"/>
          <p:cNvSpPr/>
          <p:nvPr/>
        </p:nvSpPr>
        <p:spPr>
          <a:xfrm>
            <a:off x="3132000" y="2168640"/>
            <a:ext cx="75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9"/>
          <p:cNvSpPr/>
          <p:nvPr/>
        </p:nvSpPr>
        <p:spPr>
          <a:xfrm>
            <a:off x="4788000" y="231300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6659640" y="1916280"/>
            <a:ext cx="18730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кст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6661080" y="238608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исунк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661080" y="288936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отографи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6661080" y="3394080"/>
            <a:ext cx="1943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нимация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6661080" y="389736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идео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1"/>
          <p:cNvSpPr/>
          <p:nvPr/>
        </p:nvSpPr>
        <p:spPr>
          <a:xfrm>
            <a:off x="6661080" y="440208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вук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9"/>
          <p:cNvSpPr/>
          <p:nvPr/>
        </p:nvSpPr>
        <p:spPr>
          <a:xfrm>
            <a:off x="4788000" y="3176640"/>
            <a:ext cx="0" cy="433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9"/>
          <p:cNvSpPr/>
          <p:nvPr/>
        </p:nvSpPr>
        <p:spPr>
          <a:xfrm>
            <a:off x="4788000" y="4005360"/>
            <a:ext cx="0" cy="433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9"/>
          <p:cNvSpPr/>
          <p:nvPr/>
        </p:nvSpPr>
        <p:spPr>
          <a:xfrm>
            <a:off x="5869080" y="1952640"/>
            <a:ext cx="287280" cy="2736720"/>
          </a:xfrm>
          <a:custGeom>
            <a:avLst/>
            <a:gdLst>
              <a:gd name="textAreaLeft" fmla="*/ 0 w 287280"/>
              <a:gd name="textAreaRight" fmla="*/ 103680 w 28728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0"/>
          <p:cNvSpPr/>
          <p:nvPr/>
        </p:nvSpPr>
        <p:spPr>
          <a:xfrm flipH="1">
            <a:off x="6300000" y="1952640"/>
            <a:ext cx="360360" cy="2736720"/>
          </a:xfrm>
          <a:custGeom>
            <a:avLst/>
            <a:gdLst>
              <a:gd name="textAreaLeft" fmla="*/ 0 w 360360"/>
              <a:gd name="textAreaRight" fmla="*/ 129960 w 36036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3887640" y="1952640"/>
            <a:ext cx="18734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лайд 1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5364000" y="5300640"/>
            <a:ext cx="316872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5329080" y="5948280"/>
            <a:ext cx="320688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Office.org Im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9"/>
          <p:cNvSpPr/>
          <p:nvPr/>
        </p:nvSpPr>
        <p:spPr>
          <a:xfrm flipV="1">
            <a:off x="4429080" y="555156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0"/>
          <p:cNvSpPr/>
          <p:nvPr/>
        </p:nvSpPr>
        <p:spPr>
          <a:xfrm>
            <a:off x="4392720" y="5767560"/>
            <a:ext cx="936360" cy="32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403280" y="5553000"/>
            <a:ext cx="309744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граммные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3851280" y="3645000"/>
            <a:ext cx="19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7"/>
          <p:cNvSpPr/>
          <p:nvPr/>
        </p:nvSpPr>
        <p:spPr>
          <a:xfrm>
            <a:off x="3851280" y="2852640"/>
            <a:ext cx="19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лайд 2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Заголовок 2"/>
          <p:cNvSpPr/>
          <p:nvPr/>
        </p:nvSpPr>
        <p:spPr>
          <a:xfrm>
            <a:off x="1042920" y="189000"/>
            <a:ext cx="8101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Что такое презен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187280" y="981000"/>
            <a:ext cx="7632720" cy="28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Презентация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это публичный способ представления информации, наглядный и эффект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Компьютерная презентаци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- мультимедийный продукт, представляющий собой последовательность выдержанных в одном графическом стиле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лайдов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содержащих текст, рисунки, фотографии, анимацию, видео и звуковой ря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лайд презентаци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– это многослойная структу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Олени"/>
          <p:cNvPicPr/>
          <p:nvPr/>
        </p:nvPicPr>
        <p:blipFill>
          <a:blip r:embed="rId1"/>
          <a:stretch/>
        </p:blipFill>
        <p:spPr>
          <a:xfrm>
            <a:off x="1187280" y="9079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7632720" cy="5219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tretch/>
        </p:blipFill>
        <p:spPr>
          <a:xfrm>
            <a:off x="1187280" y="1341360"/>
            <a:ext cx="7632720" cy="46814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1116000" y="907920"/>
            <a:ext cx="7850160" cy="143460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слайдах могут быть размещены гиперссылки, обеспечивающие переход к информационным объектам на других слайдах презентации, в других файлах и в сети Интерне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293840" y="4292640"/>
            <a:ext cx="3565440" cy="764280"/>
          </a:xfrm>
          <a:prstGeom prst="rect">
            <a:avLst/>
          </a:prstGeom>
          <a:noFill/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екстовые объекты (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</a:rPr>
              <a:t>слова или словосочетани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2124000" y="2924280"/>
            <a:ext cx="1943280" cy="42912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ипер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5940360" y="2924280"/>
            <a:ext cx="2014560" cy="42912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ипермеди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219640" y="4292640"/>
            <a:ext cx="3565440" cy="1099440"/>
          </a:xfrm>
          <a:prstGeom prst="rect">
            <a:avLst/>
          </a:prstGeom>
          <a:noFill/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афические и звуковые объе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 flipV="1">
            <a:off x="3059280" y="242100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 flipV="1">
            <a:off x="6948360" y="242100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 flipV="1">
            <a:off x="3059280" y="3429000"/>
            <a:ext cx="0" cy="79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 flipV="1">
            <a:off x="6948360" y="3429000"/>
            <a:ext cx="0" cy="79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6516720" y="5084640"/>
            <a:ext cx="1224000" cy="2890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405080" y="5157720"/>
            <a:ext cx="309564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Реклам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това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на выстав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 flipV="1">
            <a:off x="2844720" y="4437000"/>
            <a:ext cx="50328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5580000" y="5157720"/>
            <a:ext cx="324000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В бизнесе д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преподнесения ид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клиентам инвестор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332000" y="1341360"/>
            <a:ext cx="309564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Излож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нового матери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ученикам и студент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5435640" y="1341360"/>
            <a:ext cx="309564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Выступ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с доклад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на конфер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2916360" y="2637000"/>
            <a:ext cx="43020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 flipV="1">
            <a:off x="6516720" y="2565000"/>
            <a:ext cx="503280" cy="647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 flipH="1" flipV="1">
            <a:off x="6587640" y="4437000"/>
            <a:ext cx="505080" cy="719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3348000" y="3141720"/>
            <a:ext cx="3240000" cy="1297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компьютер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оздание мультимедийной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116000" y="3645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1403280" y="2924280"/>
            <a:ext cx="316872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5435640" y="2924280"/>
            <a:ext cx="320688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Office.org Im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4716360" y="2060640"/>
            <a:ext cx="1727280" cy="86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 flipV="1">
            <a:off x="2627280" y="2060280"/>
            <a:ext cx="1727280" cy="863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700360" y="126828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граммные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ля создания презен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2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2303640" cy="2252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04804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оздание мультимедийной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116000" y="3645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2700360" y="126828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граммные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ля создания презен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2700360" y="126828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Этап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создания презент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>
            <a:hlinkClick r:id="rId1" action="ppaction://hlinksldjump"/>
          </p:cNvPr>
          <p:cNvSpPr/>
          <p:nvPr/>
        </p:nvSpPr>
        <p:spPr>
          <a:xfrm>
            <a:off x="1258920" y="2565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ланирование (разработка сценария) презента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 flipV="1">
            <a:off x="4572000" y="2133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 flipV="1">
            <a:off x="4572000" y="3071520"/>
            <a:ext cx="0" cy="5000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>
            <a:hlinkClick r:id="rId2" action="ppaction://hlinksldjump"/>
          </p:cNvPr>
          <p:cNvSpPr/>
          <p:nvPr/>
        </p:nvSpPr>
        <p:spPr>
          <a:xfrm>
            <a:off x="1258920" y="443700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Монтаж презента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 flipV="1">
            <a:off x="4572000" y="4005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1258920" y="537372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Репетиция выступления с презентацие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9"/>
          <p:cNvSpPr/>
          <p:nvPr/>
        </p:nvSpPr>
        <p:spPr>
          <a:xfrm flipV="1">
            <a:off x="4572000" y="494172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330200" y="3573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Выбор подходящего шабл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V="1">
            <a:off x="4572000" y="220464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оздание мультимедийной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116000" y="3645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 flipV="1">
            <a:off x="4572000" y="2133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 flipV="1">
            <a:off x="4572000" y="313992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 flipV="1">
            <a:off x="4572000" y="4005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2771640" y="134136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лан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резент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>
            <a:hlinkClick r:id="rId1" action="ppaction://hlinksldjump"/>
          </p:cNvPr>
          <p:cNvSpPr/>
          <p:nvPr/>
        </p:nvSpPr>
        <p:spPr>
          <a:xfrm>
            <a:off x="1330200" y="263844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Определение це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330200" y="3573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Обдумывание подходящего шабл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330200" y="451008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Обдумывание дизайна презен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330200" y="544680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Обдумывание информационных объек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 flipV="1">
            <a:off x="4643280" y="501480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 flipV="1">
            <a:off x="4572000" y="220464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оздание мультимедийной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116000" y="3645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>
            <a:hlinkClick r:id="rId1" action="ppaction://hlinksldjump"/>
          </p:cNvPr>
          <p:cNvSpPr/>
          <p:nvPr/>
        </p:nvSpPr>
        <p:spPr>
          <a:xfrm>
            <a:off x="1258920" y="2565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ланирование (разработка сценария) презента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 flipV="1">
            <a:off x="4572000" y="2133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4572000" y="306828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 flipV="1">
            <a:off x="4572000" y="4005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700360" y="134136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Монта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резент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>
            <a:hlinkClick r:id="rId2" action="ppaction://hlinksldjump"/>
          </p:cNvPr>
          <p:cNvSpPr/>
          <p:nvPr/>
        </p:nvSpPr>
        <p:spPr>
          <a:xfrm>
            <a:off x="1258920" y="2565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еретаскивание слай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4572000" y="220464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258920" y="335772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Вырезание слай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 flipV="1">
            <a:off x="4572000" y="3069720"/>
            <a:ext cx="0" cy="28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1258920" y="422280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Удаление слай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 flipV="1">
            <a:off x="4572000" y="386208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 flipV="1">
            <a:off x="4572000" y="4714560"/>
            <a:ext cx="0" cy="4287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1187280" y="6021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Вставка из буфера обмен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 flipV="1">
            <a:off x="4572000" y="5589360"/>
            <a:ext cx="0" cy="433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1258920" y="515772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Копирование в буфер обмен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Олени"/>
          <p:cNvPicPr/>
          <p:nvPr/>
        </p:nvPicPr>
        <p:blipFill>
          <a:blip r:embed="rId1"/>
          <a:stretch/>
        </p:blipFill>
        <p:spPr>
          <a:xfrm>
            <a:off x="1116000" y="1052640"/>
            <a:ext cx="7777080" cy="5832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7561080" cy="5172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3"/>
          <a:stretch/>
        </p:blipFill>
        <p:spPr>
          <a:xfrm>
            <a:off x="1547640" y="1844640"/>
            <a:ext cx="6912000" cy="4238640"/>
          </a:xfrm>
          <a:prstGeom prst="rect">
            <a:avLst/>
          </a:prstGeom>
          <a:ln w="0">
            <a:noFill/>
          </a:ln>
        </p:spPr>
      </p:pic>
      <p:sp>
        <p:nvSpPr>
          <p:cNvPr id="239" name="WordArt 5"/>
          <p:cNvSpPr txBox="1"/>
          <p:nvPr/>
        </p:nvSpPr>
        <p:spPr>
          <a:xfrm>
            <a:off x="1692360" y="2852640"/>
            <a:ext cx="6335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 ани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-0.5296 C 0.18299 -0.5296 0.33854 -0.3432 0.33854 -0.11401 C 0.33854 0.11494 0.18299 0.30157 -0.00799 0.30157 C -0.1993 0.30157 -0.35434 0.11494 -0.35434 -0.11401 C -0.35434 -0.3432 -0.1993 -0.5296 -0.00799 -0.5296 Z">
                                      <p:cBhvr>
                                        <p:cTn id="157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63737E-006 L -0.32291 -0.43525 E">
                                      <p:cBhvr>
                                        <p:cTn id="160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396 -0.04117 C -0.37396 0.14847 -0.29305 0.30504 -0.19444 0.30504 C -0.07812 0.30504 -0.03594 0.13159 -0.0184 0.02775 L -1.66667E-006 -0.11055 C 0.01806 -0.21438 0.06268 -0.38714 0.19427 -0.38714 C 0.2783 -0.38714 0.37413 -0.23127 0.37413 -0.04117 C 0.37413 0.14847 0.2783 0.30504 0.19427 0.30504 C 0.06268 0.30504 0.01806 0.13159 -1.66667E-006 0.02775 L -0.0184 -0.11055 C -0.03594 -0.21438 -0.07812 -0.38714 -0.19444 -0.38714 C -0.29305 -0.38714 -0.37396 -0.23127 -0.37396 -0.04117 Z">
                                      <p:cBhvr>
                                        <p:cTn id="170" dur="5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8.32562E-008 L 0.29549 -0.39778 E">
                                      <p:cBhvr>
                                        <p:cTn id="173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23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4" nodeType="afterEffect" fill="hold" presetClass="path" presetID="1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798 -0.5289 L 0.38594 0.31013 L -0.40156 0.31013 L -0.00798 -0.5289 Z">
                                      <p:cBhvr>
                                        <p:cTn id="185" dur="5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22222E-006 -4.56059E-006 L -2.22222E-006 0.23682 E">
                                      <p:cBhvr>
                                        <p:cTn id="188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90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2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324000" y="981000"/>
            <a:ext cx="849600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езентац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это публичный способ представления информации, наглядный и эффект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омпьютерная презентац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мультимедийный продукт, представляющий собой последовательность выдержанных в одном графическом стил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лайд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содержащих текст, рисунки, фотографии, анимацию, видео и звуковой р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иболее распространёнными программными средствами для создания мультимедийных презентаций являются приложения Microsoft PowerPoint и OpenOffice.org Im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во происхождение термина «презентация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116000" y="198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ая информация может быть размещена на слайде презент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116000" y="198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общего в технологиях гипертекста и гипермедиа?  Чем они отлич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шаблон презент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дизайн презент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макет слай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116000" y="1989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начинающим разработчикам презентаций рекомендуется пользоваться шаблонами презентаций, дизайнами презентаций и макетами слайд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вы основные этапы создания презентац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Нурисламова</cp:lastModifiedBy>
  <dcterms:modified xsi:type="dcterms:W3CDTF">2019-01-28T18:38:58Z</dcterms:modified>
  <cp:revision>7</cp:revision>
  <dc:subject/>
  <dc:title>Презентация PowerPoint</dc:title>
</cp:coreProperties>
</file>